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4.png" ContentType="image/pn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3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9.jpeg" ContentType="image/jpeg"/>
  <Override PartName="/ppt/media/image11.jpeg" ContentType="image/jpeg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30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</p:sldMasterIdLst>
  <p:notesMasterIdLst>
    <p:notesMasterId r:id="rId27"/>
  </p:notesMasterIdLst>
  <p:sldIdLst>
    <p:sldId id="256" r:id="rId28"/>
    <p:sldId id="257" r:id="rId29"/>
    <p:sldId id="258" r:id="rId30"/>
    <p:sldId id="259" r:id="rId31"/>
    <p:sldId id="260" r:id="rId32"/>
    <p:sldId id="261" r:id="rId33"/>
    <p:sldId id="262" r:id="rId34"/>
    <p:sldId id="263" r:id="rId35"/>
    <p:sldId id="264" r:id="rId36"/>
    <p:sldId id="265" r:id="rId37"/>
    <p:sldId id="266" r:id="rId38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notesMaster" Target="notesMasters/notesMaster1.xml"/><Relationship Id="rId28" Type="http://schemas.openxmlformats.org/officeDocument/2006/relationships/slide" Target="slides/slide1.xml"/><Relationship Id="rId29" Type="http://schemas.openxmlformats.org/officeDocument/2006/relationships/slide" Target="slides/slide2.xml"/><Relationship Id="rId30" Type="http://schemas.openxmlformats.org/officeDocument/2006/relationships/slide" Target="slides/slide3.xml"/><Relationship Id="rId31" Type="http://schemas.openxmlformats.org/officeDocument/2006/relationships/slide" Target="slides/slide4.xml"/><Relationship Id="rId32" Type="http://schemas.openxmlformats.org/officeDocument/2006/relationships/slide" Target="slides/slide5.xml"/><Relationship Id="rId33" Type="http://schemas.openxmlformats.org/officeDocument/2006/relationships/slide" Target="slides/slide6.xml"/><Relationship Id="rId34" Type="http://schemas.openxmlformats.org/officeDocument/2006/relationships/slide" Target="slides/slide7.xml"/><Relationship Id="rId35" Type="http://schemas.openxmlformats.org/officeDocument/2006/relationships/slide" Target="slides/slide8.xml"/><Relationship Id="rId36" Type="http://schemas.openxmlformats.org/officeDocument/2006/relationships/slide" Target="slides/slide9.xml"/><Relationship Id="rId37" Type="http://schemas.openxmlformats.org/officeDocument/2006/relationships/slide" Target="slides/slide10.xml"/><Relationship Id="rId38" Type="http://schemas.openxmlformats.org/officeDocument/2006/relationships/slide" Target="slides/slide11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3" name="PlaceHolder 2"/>
          <p:cNvSpPr>
            <a:spLocks noGrp="1"/>
          </p:cNvSpPr>
          <p:nvPr>
            <p:ph type="dt" idx="70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4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3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6" name="PlaceHolder 5"/>
          <p:cNvSpPr>
            <a:spLocks noGrp="1"/>
          </p:cNvSpPr>
          <p:nvPr>
            <p:ph type="ftr" idx="71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7" name="PlaceHolder 6"/>
          <p:cNvSpPr>
            <a:spLocks noGrp="1"/>
          </p:cNvSpPr>
          <p:nvPr>
            <p:ph type="sldNum" idx="72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57D3E-81BD-4132-9F80-A2F9984B1BB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8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56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0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DE09C-962F-48F9-9BD2-521E67AA3B1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1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57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3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74416-C592-4AD9-8566-4B50E2A998D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13B45-789F-4F33-97FC-9B9316A62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608B0-5487-41A8-8E1E-082063B25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9283B3-4CA6-48AB-9577-E348155EF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722DA4-A945-4687-B455-3A13AD3CC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870568-B4B2-497B-9675-BE4AF6D09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5585AC-0B85-434F-BCCD-BBD624DB3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990EE1-5663-453B-9979-C4CC5E94E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8C7E20-993B-400A-816F-EC873D614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CC6668-34A6-4BCA-B5F9-177371887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5F1FC4-E5A6-4D9A-9228-960500C85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E860F3-FD60-4EB7-A7AE-2DDFDE9ED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6DB631-53EF-4368-8DAF-A6D5604F4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80D59-2F4B-465F-8681-DF93A6BDB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ED69B1-E60D-4675-846A-26A1F9E3D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8022D6-89D8-40E3-8055-72CE01964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396A23-5263-4A81-A44B-7BF51E73D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2D1512-A460-4B21-BBCA-ED3045077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150B5A-DA5C-4583-ACED-D04D73A48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B607C6-8AEB-46FE-9438-981752F39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2FDF81-4BE1-452E-8AE5-A277941DF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39D68A-1064-4065-8681-4315F200B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2FBF97-C300-4D76-B07E-6F85FF243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8276FB-1A64-4D97-AEDC-3A75F4FDD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DDBF5-4EF2-4C6F-9167-85FC8EF6D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6A39BA-ED98-421A-914B-914A24ACA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9AB26A-3D80-43AA-97C3-C297C04B6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3AC0E1-1C22-47C4-BB0E-6D83FABEC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BE045B-F044-4DA2-86D4-0C352BE1C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48EB15-A6B0-4F6E-9366-86FEF5C0B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C7D8EA-1FD3-4C82-9C56-676CBB1AC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82A8D8-F618-4CA3-A403-0C98C230C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52E54B-5F19-4DA6-B62F-2A5AA75D6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98F538-F150-4CF6-B166-020A5440B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2FF2C2-C85A-40D6-B656-B149CB6DD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0F22B4-0BCD-4145-B777-09A6FCA24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11CBE2-D35E-450E-9CC6-E23926B73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85B4B3-8CC4-4582-B517-34A85B8B5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E2C6CF-CBF2-499C-AE7A-155CFA60C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FBE10D-284D-46AE-BA0D-B91E2DC39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4F3C04-2A8D-458F-81E2-1E798CE4F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918065-6BDC-480D-A24C-8EDEC9766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94D477-0878-4226-8E57-8A76CC3FE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E29378-1F89-4626-893A-0408681A7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062D1C-54D5-47A5-982B-726D70DAD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091815-A027-4F62-8F5D-CF48E0465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388B48-3F79-41EB-AFE7-3DB6B4DC0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B7280D-30CB-41D1-ADE6-CA26F6EE9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1179CF-5579-47FC-B42C-5A3B1D1FE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F22F37-03B6-4423-89E1-54A16801E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C4247C-15D6-4893-9BD8-5C093B5EB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877D03-5C84-4DCD-BFB8-94D0F89F5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AFFBEE-1468-4CD7-AEEE-37315355A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24FBFA-AFC6-469B-B5F5-2847AA340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2995C8-9EA6-483B-B978-E852877D5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46CBBB-A2C8-4E84-8188-3D1BD7835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EA23EE-860B-4C1F-A062-576C09D2A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481D33-3327-4144-B4C8-ABE912609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7EAFBB-2155-4D9D-8621-62A424B4C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9A0043-8D8A-44BE-A2DC-FA1F8EB25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F8C191-BB3C-43FD-A061-81ABD7488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266CED-3C5A-4747-A530-7D428D045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EE1308-CC91-415C-B7FF-6B41BDBA5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79A388-D4FF-44DB-82C1-540D604DC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C7D50D-F339-4806-AE2C-4BA73884A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84DAFF-EE5F-4928-98F2-879610C3D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BB8C53-C3FD-441E-A4F2-9A08D880A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8AA584-FB4E-41A2-9C30-7ECA46EDC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0D56A6-66C4-4074-B5C8-83AE4FC5D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3A6736-9D64-4079-9087-2E7B1D7B0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DD1567-0B50-4ED7-B283-A92A48E6B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8D2C31-C68E-4E88-A62C-93020A77F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2A5722-81C3-4D08-A4F8-7125D7FA3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FFE4D8-326F-48B0-AF46-67FB7802C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EA7F93B-765E-484B-918B-4508AFD81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15C38B2-268F-414D-AC6A-D3AAFC4EC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D56A9B0-F60C-47F6-AD61-38F0C311C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AA7B689-0904-4609-8D24-8D2E3E245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82C959D-8CB7-4EDA-BF13-03BD0881B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9B64EB7-B36A-4201-A161-DF109F289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71EB0B4-1BBB-4545-AE44-2B4842DC1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CD5CF11-4680-423D-B343-06C23352C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D9578A0-C5AC-401F-A219-488F05063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745ECC2-7284-4326-BC74-35772D624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DA6250F-0177-4753-ABE4-73BF9F30F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56640A4-9C29-4CF7-ADA1-A98325346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250FE6C-35BA-4985-AC4B-4E353C098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C5FE3FD-697B-4FC5-9675-4E44FEF9F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67DF8B3-66A7-4B9A-AF4E-1ADDC83DF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800B4CE-F5E5-4D47-9296-E9F714E0A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A62951D-EB77-4780-B2F5-C66E7E1DA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A2131FD-24E4-4F9D-A0F3-B8BAE5A66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6339E91-2B9B-4613-BA41-A9063C648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7B14745-4B62-4F57-A438-79E8C6E70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DE9D201-F033-4542-BE42-E7E35DDA3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4ABD440-0B86-4EBD-B4B7-C28AE0F58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554CDC6-84D3-497A-801C-F5C37E1C0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D7A91F7-FC2A-4BE2-A10D-49002A462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255B9AC-5C20-4825-9F17-F9A5A9FB4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42F7335-3D82-4B80-8983-B808DB6F8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E96A615-9368-4505-95F8-6F079ED46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AAF4A65-BAC2-4944-B455-453F9CE38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311F129-4D3E-4667-8AAC-804555AA3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4B0B97D-923B-4D61-BAC4-BB22B862E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902C6A9-6626-448F-B697-85663750C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174C7-F0C2-4297-A078-42F752731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00FC226-51C0-4759-A290-C190645DE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78A2C8F-A5B8-4499-AA5B-8D85C899F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8FAB5A6-A5BE-4F85-836B-82C0EB554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A37481D-2530-4ADB-A440-C46F2F145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13D3FC0-946A-44CA-A194-E324F82B7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108B568-AFC8-4B5F-8BE6-7F78868A3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9E95871-0D44-45F0-BA62-31C55BF21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0ABA0A5-0F69-4DC0-980A-932BAA1C8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90C330A-3384-4C8C-9C1C-5138D9120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C4EAC11-0AA2-466F-A2B0-B98CF4CF5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6CAD460-0BF7-47DC-AAEE-C006E1A9D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91FA9A5-CB9D-4968-9FE0-E8E6DE403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463B906-8B67-46CA-A71B-84929155C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F78D85D-A980-4B09-9469-334FD8C59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156C75D-4098-4168-B0F0-6ED859290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9322897-FD16-4231-B613-FAFFFBFB7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4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7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4D2CC18-10E0-49BE-9F87-6842C98F0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1462514-1E17-4F34-A494-132FDC15D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433BF12-3FD0-4078-88EE-6EFADD906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456B57D-FF75-4F17-9AB2-B035D6453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7806DA5-D5F7-4660-BD88-0FCA678C6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1E00892-91C0-4745-A53A-B60B8B1F7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6582AAD-8962-408D-AA46-22319121F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2300FC3-9CFA-4ADC-AF8E-6ED5E8D91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7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ED267F8-16D6-48A1-912B-E81FAAAD4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14B5FD5-D6E7-4167-B5A2-83802950F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4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D1F07D2-173D-47CF-87AD-22F48C510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9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A059509-ED4B-4366-95E7-A9692B78E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5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6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7BBFCA3-3F22-4866-8B99-3FB11935E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F574111-0F7C-4896-8C2E-9FB250B1A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03A5453-BE88-41DF-9DC0-0EDBAF3CC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D529B5E-B9F2-4AC1-BE2C-DF6679556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5C224B5-39E7-45B2-ACE2-05D0ECD3C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8115369-4959-433A-992C-E7C6C9A7A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1D2D2C1-D89D-46B3-B67E-D53CA6E05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1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2DAD39C-2039-48BA-A006-51470A640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6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27407FD-BE66-4DE3-B913-EDD293D22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1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64F4465-021A-45F6-A04B-1A055976D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3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5DF666F-4014-4F91-ACAC-7473F1141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8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B7C0421-290A-43AA-9936-38142183C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1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2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3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4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5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824CBEC-A119-49C7-8CB8-6FBB8A819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377C506-CA7E-45E8-92EA-CEDA925C6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80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6DBA6ED-D01A-4F84-9CED-DA8D429EF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8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D26BF0C-6CE6-4096-9F52-4D0066ABA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6911333-4CC4-4ED7-88A2-D3E838943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7742541-9004-475E-B7D9-5E214AE70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C1B6AFC-443C-4E8B-8E8C-4AAA0331A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EF7894B-9C9E-4D1B-8AF0-8334AA699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5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6416D30-8B42-4571-89A2-D8ECEC3D9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BDC4568-A051-499E-B17C-CC327FC04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2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133D90B-2648-4203-AEEA-98683049E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7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07609CD-F4D8-4109-BB92-CA5B56700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0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0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1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2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3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4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E1E2CF1-EAF7-48AB-BE03-05F16D420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FD77DF7-BB22-438D-AFCC-37EFCD6A6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59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9726A52-8FA1-4DD2-BD70-1A459242B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1FD53B8-CCC9-4897-A4CE-A1A00231F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A03AA40-69A2-416F-A248-B5C120128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7AF2C65-1EDA-4EBE-907C-E0FFC0FB8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7295E60-C77A-402F-879D-4EE030750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0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54F3B31-1740-44F6-9B4F-2A0CD8C68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4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6052A6B-1047-4662-B7A7-7403EB21D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7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8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E87D1DA-7445-4BCF-840B-BB382E3C2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1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8A98CBC-CDE5-4641-876E-B082C56F9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6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62B51DA-A903-4E0A-AAF4-850C778BA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9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0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1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2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3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6BB219D-D54C-4CBE-9F74-FF2BCE15C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758A404-21DD-471C-8302-F39BBCD40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38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4DD463F-BC9B-49D9-A520-770F5B14E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4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910CD84-9B0E-4D43-A294-7A0E21180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4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32EBA03-AFE2-4FE0-9293-7A92D65B9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39677B5-9FB2-418A-A917-22BB3F7A2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0E00A75-252A-4836-A2CE-C94D0A621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0128CB9-5EB7-4502-9CE1-8EE5DDAF5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3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1726E42-4CCC-4A41-B03B-33000B9BB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60AD948-6DDB-4E77-9B35-852AC223F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0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E4B473E-004B-44A6-9664-C869A77E6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6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5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0060A87-5F48-4D35-8565-BCABADA94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6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8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9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1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2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AF03BD6-41CE-47F5-B8D6-8A7361123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6D09000-6E02-4A6F-9154-653836A12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7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7C40924-C76B-48D9-B3A6-5D012C788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103D148-8316-4E12-8D03-2AF00E60F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3F412AA-AC49-4FF9-8B93-061439C25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E011E4E-4478-438A-BA57-FFB2CDC08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4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F8C8DA2-7B2F-49B3-86E9-48FF38A39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2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8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22CB383-1526-4875-8742-F0AEAA20C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2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2ADB501-4BA6-41E9-98DE-6F9B29C82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BF2F7A7-090A-43D1-98D9-7C9051D4A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9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D45F94C-9B80-4B64-95C3-D39473C18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4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4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D300FF7-3B59-4F3A-A05E-8409B7047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4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7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8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9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0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1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C570F4E-41AA-4AEC-A849-91BDC2F64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6C9E64A-9169-4134-96B5-19C3BFD50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6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5AB07B8-FA99-45CC-A488-EDE700E63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6656842-7D4C-4260-907E-CC4E02ECF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ACF20A7-AC7D-4779-B7B0-38BF46A91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E5DA934-0BDD-4E84-900B-97FF51489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423A471-9ABA-476F-A10C-5B41D9B85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9D63172-130E-4EEA-87EF-E3CFFCE03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1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F2D55D4-DB61-4A20-91E6-0FDDEC725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1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5223A45-F901-4359-AF3B-9756DCC0C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1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8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B95042E-1EA0-43EF-96F9-8093C16BD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3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0B00BE3-A307-4C08-AE25-E910AA701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11112-10EB-449D-992D-1894FC974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6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7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8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9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0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AB04A32-AFBB-4BC6-A532-4BD427545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387F9-1A78-4799-9412-9D34C628C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3F04D-D039-4CBB-8332-B0855C593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4A026-FD47-411E-AF7C-CE2AA15C9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AAC51-112F-4F3E-8FFD-2F376662C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74892-2F9E-434F-BE5C-3D3C15849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E2189-3491-4EB1-9F5B-1EA3E8987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D2C8E-BB7C-4A55-B0C7-D9C5AAE16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45913-A307-4547-9B4F-8010176FC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09E12-E86F-4DB5-96A1-643E74655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6D79C-09E8-45E3-9593-4C822287F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D0CD5-1EBC-41B7-BE63-3364AEBC2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B3BD5-5736-45A7-AD43-FCBAC1301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F3B67-44EB-4085-9D09-09C0FF122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8C1351-FC57-4ACB-9DE8-8E6C59203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DE9D6-75CA-456E-AE5E-DC1E979BC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56E824-9B32-438F-9793-38632E489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FE9756-641A-41E4-8A24-86E5C7AD4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E33040-87E9-4FA9-BD7C-12A538837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0292B7-C748-4CE9-858C-EBC2A025F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FAACB1-21B8-4E05-AEA2-40CB97C25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3654AD-6B91-4E9F-952F-3BA758343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136CC4-A665-47C3-923F-7C20B5DE4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71A5CD-466E-47B2-8527-93CA1EAA3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BED7D1-274E-46BC-BFD2-E0A2EAC92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20BBE2-D92C-409C-B2D2-2C711E1D6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8DD22-03E6-4F62-A0A0-1D30B84C0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CEE48D-2B0C-4615-A634-0CFED1EA9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DF1A37-F793-490B-BD44-0B2772A90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96FBAF-4340-49C8-8144-84A531BDA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BDC9C4-8323-4AE8-A3AE-1A7AC1A53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7103B3-9144-4E9A-8FEB-A5E9634F8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B10079-0523-4E13-BD0B-80AA95A02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B46A37-4970-41C0-8648-F0690451B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D92D83-C8B7-4A6C-A08D-0F8C7D299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4ACB6C-1A5B-4244-87EE-22E2913CD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4CB235-F69B-4599-AEC5-F4F6982D3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3204C-D460-4853-8EE0-67CACBA87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762941-E4B8-4D53-AB3F-1F22774FF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59FEFC-0EA3-4AA8-BC30-8471EDC70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3A1149-B121-4EBB-A95A-0F0804DBE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D153A1-2B5D-4F8A-B786-D39B5E1C7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177F18-F5FC-4C00-9F20-4FC3A86DD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CD071F-864A-47AD-B278-1733F7C05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AB917D-3AE8-4812-978A-4F0EFD364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432716-0F01-4FCF-8C0B-FB329E5DC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6D752A-A688-40C0-AC6F-D97D56A4A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7FCD4E-EBEC-4C2E-AFD9-12BBD81ED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E99CB-FFAB-407E-B64D-DA5F95A3F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896014-B79A-45E9-8B30-E8774B356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6C2BAA-6FF3-403C-9EAF-FD7F00E71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5D8E72-4E8D-4E3B-AD66-E780EDD18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EAEEB2-7B94-40CC-99F3-DD6686860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197135-DCDB-4335-AED1-6089F1753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C421A3-5BC9-479C-9902-61C1D9BDF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2FF4CF-9956-40C0-B234-CD8E0D2F8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58BE18-BFA3-4781-90B7-15F58C02B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6EF6CE-9A25-4FCD-B630-C830778FD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2A9C1E-F749-4449-B98C-8FEE4D8D7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4E0B5-962E-4764-80F7-80DF21F60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4F3AA7-8F09-4484-874E-68FE227FF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ECFDBB-30F5-4D85-A6EF-4DF436FC0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561E84-7CFD-4694-B2C8-8301A085C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85BF75-9391-41CC-926E-67CE0099E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C8B17B-748E-4382-A323-739890DDB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9E22FA-A8E4-41D6-95FB-5CF3D7E1B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A91C56-624D-4EB9-8DD4-CA4E4D1CE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CA7048-3349-47CA-9E40-219AD1DB6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BA5A8B-7E0C-4F23-8F0C-7F6108E4A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C6B783-E814-4481-B839-D2A204325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69.xml"/><Relationship Id="rId8" Type="http://schemas.openxmlformats.org/officeDocument/2006/relationships/slideLayout" Target="../slideLayouts/slideLayout170.xml"/><Relationship Id="rId9" Type="http://schemas.openxmlformats.org/officeDocument/2006/relationships/slideLayout" Target="../slideLayouts/slideLayout171.xml"/><Relationship Id="rId10" Type="http://schemas.openxmlformats.org/officeDocument/2006/relationships/slideLayout" Target="../slideLayouts/slideLayout172.xml"/><Relationship Id="rId11" Type="http://schemas.openxmlformats.org/officeDocument/2006/relationships/slideLayout" Target="../slideLayouts/slideLayout173.xml"/><Relationship Id="rId12" Type="http://schemas.openxmlformats.org/officeDocument/2006/relationships/slideLayout" Target="../slideLayouts/slideLayout174.xml"/><Relationship Id="rId13" Type="http://schemas.openxmlformats.org/officeDocument/2006/relationships/slideLayout" Target="../slideLayouts/slideLayout175.xml"/><Relationship Id="rId14" Type="http://schemas.openxmlformats.org/officeDocument/2006/relationships/slideLayout" Target="../slideLayouts/slideLayout176.xml"/><Relationship Id="rId15" Type="http://schemas.openxmlformats.org/officeDocument/2006/relationships/slideLayout" Target="../slideLayouts/slideLayout177.xml"/><Relationship Id="rId16" Type="http://schemas.openxmlformats.org/officeDocument/2006/relationships/slideLayout" Target="../slideLayouts/slideLayout178.xml"/><Relationship Id="rId17" Type="http://schemas.openxmlformats.org/officeDocument/2006/relationships/slideLayout" Target="../slideLayouts/slideLayout179.xml"/><Relationship Id="rId18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81.xml"/><Relationship Id="rId8" Type="http://schemas.openxmlformats.org/officeDocument/2006/relationships/slideLayout" Target="../slideLayouts/slideLayout182.xml"/><Relationship Id="rId9" Type="http://schemas.openxmlformats.org/officeDocument/2006/relationships/slideLayout" Target="../slideLayouts/slideLayout183.xml"/><Relationship Id="rId10" Type="http://schemas.openxmlformats.org/officeDocument/2006/relationships/slideLayout" Target="../slideLayouts/slideLayout184.xml"/><Relationship Id="rId11" Type="http://schemas.openxmlformats.org/officeDocument/2006/relationships/slideLayout" Target="../slideLayouts/slideLayout185.xml"/><Relationship Id="rId12" Type="http://schemas.openxmlformats.org/officeDocument/2006/relationships/slideLayout" Target="../slideLayouts/slideLayout186.xml"/><Relationship Id="rId13" Type="http://schemas.openxmlformats.org/officeDocument/2006/relationships/slideLayout" Target="../slideLayouts/slideLayout187.xml"/><Relationship Id="rId14" Type="http://schemas.openxmlformats.org/officeDocument/2006/relationships/slideLayout" Target="../slideLayouts/slideLayout188.xml"/><Relationship Id="rId15" Type="http://schemas.openxmlformats.org/officeDocument/2006/relationships/slideLayout" Target="../slideLayouts/slideLayout189.xml"/><Relationship Id="rId16" Type="http://schemas.openxmlformats.org/officeDocument/2006/relationships/slideLayout" Target="../slideLayouts/slideLayout190.xml"/><Relationship Id="rId17" Type="http://schemas.openxmlformats.org/officeDocument/2006/relationships/slideLayout" Target="../slideLayouts/slideLayout191.xml"/><Relationship Id="rId18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93.xml"/><Relationship Id="rId8" Type="http://schemas.openxmlformats.org/officeDocument/2006/relationships/slideLayout" Target="../slideLayouts/slideLayout194.xml"/><Relationship Id="rId9" Type="http://schemas.openxmlformats.org/officeDocument/2006/relationships/slideLayout" Target="../slideLayouts/slideLayout195.xml"/><Relationship Id="rId10" Type="http://schemas.openxmlformats.org/officeDocument/2006/relationships/slideLayout" Target="../slideLayouts/slideLayout196.xml"/><Relationship Id="rId11" Type="http://schemas.openxmlformats.org/officeDocument/2006/relationships/slideLayout" Target="../slideLayouts/slideLayout197.xml"/><Relationship Id="rId12" Type="http://schemas.openxmlformats.org/officeDocument/2006/relationships/slideLayout" Target="../slideLayouts/slideLayout198.xml"/><Relationship Id="rId13" Type="http://schemas.openxmlformats.org/officeDocument/2006/relationships/slideLayout" Target="../slideLayouts/slideLayout199.xml"/><Relationship Id="rId14" Type="http://schemas.openxmlformats.org/officeDocument/2006/relationships/slideLayout" Target="../slideLayouts/slideLayout200.xml"/><Relationship Id="rId15" Type="http://schemas.openxmlformats.org/officeDocument/2006/relationships/slideLayout" Target="../slideLayouts/slideLayout201.xml"/><Relationship Id="rId16" Type="http://schemas.openxmlformats.org/officeDocument/2006/relationships/slideLayout" Target="../slideLayouts/slideLayout202.xml"/><Relationship Id="rId17" Type="http://schemas.openxmlformats.org/officeDocument/2006/relationships/slideLayout" Target="../slideLayouts/slideLayout203.xml"/><Relationship Id="rId18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205.xml"/><Relationship Id="rId8" Type="http://schemas.openxmlformats.org/officeDocument/2006/relationships/slideLayout" Target="../slideLayouts/slideLayout206.xml"/><Relationship Id="rId9" Type="http://schemas.openxmlformats.org/officeDocument/2006/relationships/slideLayout" Target="../slideLayouts/slideLayout207.xml"/><Relationship Id="rId10" Type="http://schemas.openxmlformats.org/officeDocument/2006/relationships/slideLayout" Target="../slideLayouts/slideLayout208.xml"/><Relationship Id="rId11" Type="http://schemas.openxmlformats.org/officeDocument/2006/relationships/slideLayout" Target="../slideLayouts/slideLayout209.xml"/><Relationship Id="rId12" Type="http://schemas.openxmlformats.org/officeDocument/2006/relationships/slideLayout" Target="../slideLayouts/slideLayout210.xml"/><Relationship Id="rId13" Type="http://schemas.openxmlformats.org/officeDocument/2006/relationships/slideLayout" Target="../slideLayouts/slideLayout211.xml"/><Relationship Id="rId14" Type="http://schemas.openxmlformats.org/officeDocument/2006/relationships/slideLayout" Target="../slideLayouts/slideLayout212.xml"/><Relationship Id="rId15" Type="http://schemas.openxmlformats.org/officeDocument/2006/relationships/slideLayout" Target="../slideLayouts/slideLayout213.xml"/><Relationship Id="rId16" Type="http://schemas.openxmlformats.org/officeDocument/2006/relationships/slideLayout" Target="../slideLayouts/slideLayout214.xml"/><Relationship Id="rId17" Type="http://schemas.openxmlformats.org/officeDocument/2006/relationships/slideLayout" Target="../slideLayouts/slideLayout215.xml"/><Relationship Id="rId18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217.xml"/><Relationship Id="rId8" Type="http://schemas.openxmlformats.org/officeDocument/2006/relationships/slideLayout" Target="../slideLayouts/slideLayout218.xml"/><Relationship Id="rId9" Type="http://schemas.openxmlformats.org/officeDocument/2006/relationships/slideLayout" Target="../slideLayouts/slideLayout219.xml"/><Relationship Id="rId10" Type="http://schemas.openxmlformats.org/officeDocument/2006/relationships/slideLayout" Target="../slideLayouts/slideLayout220.xml"/><Relationship Id="rId11" Type="http://schemas.openxmlformats.org/officeDocument/2006/relationships/slideLayout" Target="../slideLayouts/slideLayout221.xml"/><Relationship Id="rId12" Type="http://schemas.openxmlformats.org/officeDocument/2006/relationships/slideLayout" Target="../slideLayouts/slideLayout222.xml"/><Relationship Id="rId13" Type="http://schemas.openxmlformats.org/officeDocument/2006/relationships/slideLayout" Target="../slideLayouts/slideLayout223.xml"/><Relationship Id="rId14" Type="http://schemas.openxmlformats.org/officeDocument/2006/relationships/slideLayout" Target="../slideLayouts/slideLayout224.xml"/><Relationship Id="rId15" Type="http://schemas.openxmlformats.org/officeDocument/2006/relationships/slideLayout" Target="../slideLayouts/slideLayout225.xml"/><Relationship Id="rId16" Type="http://schemas.openxmlformats.org/officeDocument/2006/relationships/slideLayout" Target="../slideLayouts/slideLayout226.xml"/><Relationship Id="rId17" Type="http://schemas.openxmlformats.org/officeDocument/2006/relationships/slideLayout" Target="../slideLayouts/slideLayout227.xml"/><Relationship Id="rId18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229.xml"/><Relationship Id="rId8" Type="http://schemas.openxmlformats.org/officeDocument/2006/relationships/slideLayout" Target="../slideLayouts/slideLayout230.xml"/><Relationship Id="rId9" Type="http://schemas.openxmlformats.org/officeDocument/2006/relationships/slideLayout" Target="../slideLayouts/slideLayout231.xml"/><Relationship Id="rId10" Type="http://schemas.openxmlformats.org/officeDocument/2006/relationships/slideLayout" Target="../slideLayouts/slideLayout232.xml"/><Relationship Id="rId11" Type="http://schemas.openxmlformats.org/officeDocument/2006/relationships/slideLayout" Target="../slideLayouts/slideLayout233.xml"/><Relationship Id="rId12" Type="http://schemas.openxmlformats.org/officeDocument/2006/relationships/slideLayout" Target="../slideLayouts/slideLayout234.xml"/><Relationship Id="rId13" Type="http://schemas.openxmlformats.org/officeDocument/2006/relationships/slideLayout" Target="../slideLayouts/slideLayout235.xml"/><Relationship Id="rId14" Type="http://schemas.openxmlformats.org/officeDocument/2006/relationships/slideLayout" Target="../slideLayouts/slideLayout236.xml"/><Relationship Id="rId15" Type="http://schemas.openxmlformats.org/officeDocument/2006/relationships/slideLayout" Target="../slideLayouts/slideLayout237.xml"/><Relationship Id="rId16" Type="http://schemas.openxmlformats.org/officeDocument/2006/relationships/slideLayout" Target="../slideLayouts/slideLayout238.xml"/><Relationship Id="rId17" Type="http://schemas.openxmlformats.org/officeDocument/2006/relationships/slideLayout" Target="../slideLayouts/slideLayout239.xml"/><Relationship Id="rId18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241.xml"/><Relationship Id="rId8" Type="http://schemas.openxmlformats.org/officeDocument/2006/relationships/slideLayout" Target="../slideLayouts/slideLayout242.xml"/><Relationship Id="rId9" Type="http://schemas.openxmlformats.org/officeDocument/2006/relationships/slideLayout" Target="../slideLayouts/slideLayout243.xml"/><Relationship Id="rId10" Type="http://schemas.openxmlformats.org/officeDocument/2006/relationships/slideLayout" Target="../slideLayouts/slideLayout244.xml"/><Relationship Id="rId11" Type="http://schemas.openxmlformats.org/officeDocument/2006/relationships/slideLayout" Target="../slideLayouts/slideLayout245.xml"/><Relationship Id="rId12" Type="http://schemas.openxmlformats.org/officeDocument/2006/relationships/slideLayout" Target="../slideLayouts/slideLayout246.xml"/><Relationship Id="rId13" Type="http://schemas.openxmlformats.org/officeDocument/2006/relationships/slideLayout" Target="../slideLayouts/slideLayout247.xml"/><Relationship Id="rId14" Type="http://schemas.openxmlformats.org/officeDocument/2006/relationships/slideLayout" Target="../slideLayouts/slideLayout248.xml"/><Relationship Id="rId15" Type="http://schemas.openxmlformats.org/officeDocument/2006/relationships/slideLayout" Target="../slideLayouts/slideLayout249.xml"/><Relationship Id="rId16" Type="http://schemas.openxmlformats.org/officeDocument/2006/relationships/slideLayout" Target="../slideLayouts/slideLayout250.xml"/><Relationship Id="rId17" Type="http://schemas.openxmlformats.org/officeDocument/2006/relationships/slideLayout" Target="../slideLayouts/slideLayout251.xml"/><Relationship Id="rId18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253.xml"/><Relationship Id="rId8" Type="http://schemas.openxmlformats.org/officeDocument/2006/relationships/slideLayout" Target="../slideLayouts/slideLayout254.xml"/><Relationship Id="rId9" Type="http://schemas.openxmlformats.org/officeDocument/2006/relationships/slideLayout" Target="../slideLayouts/slideLayout255.xml"/><Relationship Id="rId10" Type="http://schemas.openxmlformats.org/officeDocument/2006/relationships/slideLayout" Target="../slideLayouts/slideLayout256.xml"/><Relationship Id="rId11" Type="http://schemas.openxmlformats.org/officeDocument/2006/relationships/slideLayout" Target="../slideLayouts/slideLayout257.xml"/><Relationship Id="rId12" Type="http://schemas.openxmlformats.org/officeDocument/2006/relationships/slideLayout" Target="../slideLayouts/slideLayout258.xml"/><Relationship Id="rId13" Type="http://schemas.openxmlformats.org/officeDocument/2006/relationships/slideLayout" Target="../slideLayouts/slideLayout259.xml"/><Relationship Id="rId14" Type="http://schemas.openxmlformats.org/officeDocument/2006/relationships/slideLayout" Target="../slideLayouts/slideLayout260.xml"/><Relationship Id="rId15" Type="http://schemas.openxmlformats.org/officeDocument/2006/relationships/slideLayout" Target="../slideLayouts/slideLayout261.xml"/><Relationship Id="rId16" Type="http://schemas.openxmlformats.org/officeDocument/2006/relationships/slideLayout" Target="../slideLayouts/slideLayout262.xml"/><Relationship Id="rId17" Type="http://schemas.openxmlformats.org/officeDocument/2006/relationships/slideLayout" Target="../slideLayouts/slideLayout263.xml"/><Relationship Id="rId18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265.xml"/><Relationship Id="rId8" Type="http://schemas.openxmlformats.org/officeDocument/2006/relationships/slideLayout" Target="../slideLayouts/slideLayout266.xml"/><Relationship Id="rId9" Type="http://schemas.openxmlformats.org/officeDocument/2006/relationships/slideLayout" Target="../slideLayouts/slideLayout267.xml"/><Relationship Id="rId10" Type="http://schemas.openxmlformats.org/officeDocument/2006/relationships/slideLayout" Target="../slideLayouts/slideLayout268.xml"/><Relationship Id="rId11" Type="http://schemas.openxmlformats.org/officeDocument/2006/relationships/slideLayout" Target="../slideLayouts/slideLayout269.xml"/><Relationship Id="rId12" Type="http://schemas.openxmlformats.org/officeDocument/2006/relationships/slideLayout" Target="../slideLayouts/slideLayout270.xml"/><Relationship Id="rId13" Type="http://schemas.openxmlformats.org/officeDocument/2006/relationships/slideLayout" Target="../slideLayouts/slideLayout271.xml"/><Relationship Id="rId14" Type="http://schemas.openxmlformats.org/officeDocument/2006/relationships/slideLayout" Target="../slideLayouts/slideLayout272.xml"/><Relationship Id="rId15" Type="http://schemas.openxmlformats.org/officeDocument/2006/relationships/slideLayout" Target="../slideLayouts/slideLayout273.xml"/><Relationship Id="rId16" Type="http://schemas.openxmlformats.org/officeDocument/2006/relationships/slideLayout" Target="../slideLayouts/slideLayout274.xml"/><Relationship Id="rId17" Type="http://schemas.openxmlformats.org/officeDocument/2006/relationships/slideLayout" Target="../slideLayouts/slideLayout275.xml"/><Relationship Id="rId18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277.xml"/><Relationship Id="rId8" Type="http://schemas.openxmlformats.org/officeDocument/2006/relationships/slideLayout" Target="../slideLayouts/slideLayout278.xml"/><Relationship Id="rId9" Type="http://schemas.openxmlformats.org/officeDocument/2006/relationships/slideLayout" Target="../slideLayouts/slideLayout279.xml"/><Relationship Id="rId10" Type="http://schemas.openxmlformats.org/officeDocument/2006/relationships/slideLayout" Target="../slideLayouts/slideLayout280.xml"/><Relationship Id="rId11" Type="http://schemas.openxmlformats.org/officeDocument/2006/relationships/slideLayout" Target="../slideLayouts/slideLayout281.xml"/><Relationship Id="rId12" Type="http://schemas.openxmlformats.org/officeDocument/2006/relationships/slideLayout" Target="../slideLayouts/slideLayout282.xml"/><Relationship Id="rId13" Type="http://schemas.openxmlformats.org/officeDocument/2006/relationships/slideLayout" Target="../slideLayouts/slideLayout283.xml"/><Relationship Id="rId14" Type="http://schemas.openxmlformats.org/officeDocument/2006/relationships/slideLayout" Target="../slideLayouts/slideLayout284.xml"/><Relationship Id="rId15" Type="http://schemas.openxmlformats.org/officeDocument/2006/relationships/slideLayout" Target="../slideLayouts/slideLayout285.xml"/><Relationship Id="rId16" Type="http://schemas.openxmlformats.org/officeDocument/2006/relationships/slideLayout" Target="../slideLayouts/slideLayout286.xml"/><Relationship Id="rId17" Type="http://schemas.openxmlformats.org/officeDocument/2006/relationships/slideLayout" Target="../slideLayouts/slideLayout287.xml"/><Relationship Id="rId18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289.xml"/><Relationship Id="rId8" Type="http://schemas.openxmlformats.org/officeDocument/2006/relationships/slideLayout" Target="../slideLayouts/slideLayout290.xml"/><Relationship Id="rId9" Type="http://schemas.openxmlformats.org/officeDocument/2006/relationships/slideLayout" Target="../slideLayouts/slideLayout291.xml"/><Relationship Id="rId10" Type="http://schemas.openxmlformats.org/officeDocument/2006/relationships/slideLayout" Target="../slideLayouts/slideLayout292.xml"/><Relationship Id="rId11" Type="http://schemas.openxmlformats.org/officeDocument/2006/relationships/slideLayout" Target="../slideLayouts/slideLayout293.xml"/><Relationship Id="rId12" Type="http://schemas.openxmlformats.org/officeDocument/2006/relationships/slideLayout" Target="../slideLayouts/slideLayout294.xml"/><Relationship Id="rId13" Type="http://schemas.openxmlformats.org/officeDocument/2006/relationships/slideLayout" Target="../slideLayouts/slideLayout295.xml"/><Relationship Id="rId14" Type="http://schemas.openxmlformats.org/officeDocument/2006/relationships/slideLayout" Target="../slideLayouts/slideLayout296.xml"/><Relationship Id="rId15" Type="http://schemas.openxmlformats.org/officeDocument/2006/relationships/slideLayout" Target="../slideLayouts/slideLayout297.xml"/><Relationship Id="rId16" Type="http://schemas.openxmlformats.org/officeDocument/2006/relationships/slideLayout" Target="../slideLayouts/slideLayout298.xml"/><Relationship Id="rId17" Type="http://schemas.openxmlformats.org/officeDocument/2006/relationships/slideLayout" Target="../slideLayouts/slideLayout299.xml"/><Relationship Id="rId18" Type="http://schemas.openxmlformats.org/officeDocument/2006/relationships/slideLayout" Target="../slideLayouts/slideLayout300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D3EC7-B757-4D6A-AAC5-266F26FA5675}" type="slidenum">
              <a:rPr b="0" lang="ru-RU" sz="1200" spc="-1" strike="noStrike">
                <a:solidFill>
                  <a:srgbClr val="898989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Блок-схема: данные 4"/>
          <p:cNvSpPr/>
          <p:nvPr/>
        </p:nvSpPr>
        <p:spPr>
          <a:xfrm>
            <a:off x="0" y="0"/>
            <a:ext cx="8861400" cy="83988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0" y="10000"/>
                </a:moveTo>
                <a:cubicBezTo>
                  <a:pt x="12" y="6637"/>
                  <a:pt x="-4" y="3363"/>
                  <a:pt x="8" y="0"/>
                </a:cubicBezTo>
                <a:lnTo>
                  <a:pt x="10000" y="0"/>
                </a:lnTo>
                <a:lnTo>
                  <a:pt x="8563" y="10000"/>
                </a:lnTo>
                <a:lnTo>
                  <a:pt x="0" y="10000"/>
                </a:lnTo>
                <a:close/>
              </a:path>
            </a:pathLst>
          </a:custGeom>
          <a:solidFill>
            <a:srgbClr val="e31e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Блок-схема: данные 4"/>
          <p:cNvSpPr/>
          <p:nvPr/>
        </p:nvSpPr>
        <p:spPr>
          <a:xfrm>
            <a:off x="0" y="0"/>
            <a:ext cx="8791560" cy="80640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0" y="10000"/>
                </a:moveTo>
                <a:cubicBezTo>
                  <a:pt x="12" y="6637"/>
                  <a:pt x="-4" y="3363"/>
                  <a:pt x="8" y="0"/>
                </a:cubicBezTo>
                <a:lnTo>
                  <a:pt x="10000" y="0"/>
                </a:lnTo>
                <a:lnTo>
                  <a:pt x="8563" y="10000"/>
                </a:lnTo>
                <a:lnTo>
                  <a:pt x="0" y="10000"/>
                </a:lnTo>
                <a:close/>
              </a:path>
            </a:pathLst>
          </a:custGeom>
          <a:solidFill>
            <a:srgbClr val="2647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TextBox 9"/>
          <p:cNvSpPr/>
          <p:nvPr/>
        </p:nvSpPr>
        <p:spPr>
          <a:xfrm>
            <a:off x="-525600" y="157320"/>
            <a:ext cx="80582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  <a:ea typeface="Calibri"/>
              </a:rPr>
              <a:t>Государственное бюджетное учреждение дополнительного профессионального образования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alibri"/>
                <a:ea typeface="Calibri"/>
              </a:rPr>
              <a:t>«Челябинский институт развития образования»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8" name="Рисунок 10" descr=""/>
          <p:cNvPicPr/>
          <p:nvPr/>
        </p:nvPicPr>
        <p:blipFill>
          <a:blip r:embed="rId2"/>
          <a:stretch/>
        </p:blipFill>
        <p:spPr>
          <a:xfrm>
            <a:off x="301680" y="1122480"/>
            <a:ext cx="4527360" cy="5425920"/>
          </a:xfrm>
          <a:prstGeom prst="rect">
            <a:avLst/>
          </a:prstGeom>
          <a:ln w="0">
            <a:noFill/>
          </a:ln>
        </p:spPr>
      </p:pic>
      <p:pic>
        <p:nvPicPr>
          <p:cNvPr id="9" name="Рисунок 11" descr=""/>
          <p:cNvPicPr/>
          <p:nvPr/>
        </p:nvPicPr>
        <p:blipFill>
          <a:blip r:embed="rId3"/>
          <a:stretch/>
        </p:blipFill>
        <p:spPr>
          <a:xfrm>
            <a:off x="2455920" y="1806480"/>
            <a:ext cx="1084320" cy="1505160"/>
          </a:xfrm>
          <a:prstGeom prst="rect">
            <a:avLst/>
          </a:prstGeom>
          <a:ln w="0">
            <a:noFill/>
          </a:ln>
        </p:spPr>
      </p:pic>
      <p:pic>
        <p:nvPicPr>
          <p:cNvPr id="10" name="Рисунок 13" descr=""/>
          <p:cNvPicPr/>
          <p:nvPr/>
        </p:nvPicPr>
        <p:blipFill>
          <a:blip r:embed="rId4"/>
          <a:stretch/>
        </p:blipFill>
        <p:spPr>
          <a:xfrm>
            <a:off x="8972640" y="157320"/>
            <a:ext cx="2649600" cy="1143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5" name="Группа 12"/>
          <p:cNvGrpSpPr/>
          <p:nvPr/>
        </p:nvGrpSpPr>
        <p:grpSpPr>
          <a:xfrm>
            <a:off x="0" y="6627960"/>
            <a:ext cx="4038480" cy="230040"/>
            <a:chOff x="0" y="6627960"/>
            <a:chExt cx="4038480" cy="230040"/>
          </a:xfrm>
        </p:grpSpPr>
        <p:sp>
          <p:nvSpPr>
            <p:cNvPr id="436" name="Блок-схема: данные 4"/>
            <p:cNvSpPr/>
            <p:nvPr/>
          </p:nvSpPr>
          <p:spPr>
            <a:xfrm>
              <a:off x="0" y="6627960"/>
              <a:ext cx="4038480" cy="23004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10000"/>
                  </a:moveTo>
                  <a:cubicBezTo>
                    <a:pt x="12" y="6637"/>
                    <a:pt x="-4" y="3363"/>
                    <a:pt x="8" y="0"/>
                  </a:cubicBezTo>
                  <a:lnTo>
                    <a:pt x="10000" y="0"/>
                  </a:lnTo>
                  <a:lnTo>
                    <a:pt x="8563" y="10000"/>
                  </a:lnTo>
                  <a:lnTo>
                    <a:pt x="0" y="10000"/>
                  </a:lnTo>
                  <a:close/>
                </a:path>
              </a:pathLst>
            </a:custGeom>
            <a:solidFill>
              <a:srgbClr val="e31e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437" name="Блок-схема: данные 4"/>
            <p:cNvSpPr/>
            <p:nvPr/>
          </p:nvSpPr>
          <p:spPr>
            <a:xfrm>
              <a:off x="0" y="6627960"/>
              <a:ext cx="4006800" cy="22068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10000"/>
                  </a:moveTo>
                  <a:cubicBezTo>
                    <a:pt x="12" y="6637"/>
                    <a:pt x="-4" y="3363"/>
                    <a:pt x="8" y="0"/>
                  </a:cubicBezTo>
                  <a:lnTo>
                    <a:pt x="10000" y="0"/>
                  </a:lnTo>
                  <a:lnTo>
                    <a:pt x="8563" y="10000"/>
                  </a:lnTo>
                  <a:lnTo>
                    <a:pt x="0" y="10000"/>
                  </a:lnTo>
                  <a:close/>
                </a:path>
              </a:pathLst>
            </a:custGeom>
            <a:solidFill>
              <a:srgbClr val="2647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pic>
        <p:nvPicPr>
          <p:cNvPr id="438" name="Рисунок 3" descr=""/>
          <p:cNvPicPr/>
          <p:nvPr/>
        </p:nvPicPr>
        <p:blipFill>
          <a:blip r:embed="rId2"/>
          <a:srcRect l="0" t="0" r="71336" b="30012"/>
          <a:stretch/>
        </p:blipFill>
        <p:spPr>
          <a:xfrm>
            <a:off x="11215800" y="88920"/>
            <a:ext cx="825480" cy="868320"/>
          </a:xfrm>
          <a:prstGeom prst="rect">
            <a:avLst/>
          </a:prstGeom>
          <a:ln w="0">
            <a:noFill/>
          </a:ln>
        </p:spPr>
      </p:pic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90320" y="495360"/>
            <a:ext cx="103726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490320" y="2000160"/>
            <a:ext cx="10372680" cy="447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 type="dt" idx="22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 type="ftr" idx="2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 type="sldNum" idx="24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B7D11-E9D1-4D6A-8161-1190FB0D942B}" type="slidenum">
              <a:rPr b="0" lang="ru-RU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0" name="Группа 12"/>
          <p:cNvGrpSpPr/>
          <p:nvPr/>
        </p:nvGrpSpPr>
        <p:grpSpPr>
          <a:xfrm>
            <a:off x="0" y="6627960"/>
            <a:ext cx="4038480" cy="230040"/>
            <a:chOff x="0" y="6627960"/>
            <a:chExt cx="4038480" cy="230040"/>
          </a:xfrm>
        </p:grpSpPr>
        <p:sp>
          <p:nvSpPr>
            <p:cNvPr id="481" name="Блок-схема: данные 4"/>
            <p:cNvSpPr/>
            <p:nvPr/>
          </p:nvSpPr>
          <p:spPr>
            <a:xfrm>
              <a:off x="0" y="6627960"/>
              <a:ext cx="4038480" cy="23004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10000"/>
                  </a:moveTo>
                  <a:cubicBezTo>
                    <a:pt x="12" y="6637"/>
                    <a:pt x="-4" y="3363"/>
                    <a:pt x="8" y="0"/>
                  </a:cubicBezTo>
                  <a:lnTo>
                    <a:pt x="10000" y="0"/>
                  </a:lnTo>
                  <a:lnTo>
                    <a:pt x="8563" y="10000"/>
                  </a:lnTo>
                  <a:lnTo>
                    <a:pt x="0" y="10000"/>
                  </a:lnTo>
                  <a:close/>
                </a:path>
              </a:pathLst>
            </a:custGeom>
            <a:solidFill>
              <a:srgbClr val="e31e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482" name="Блок-схема: данные 4"/>
            <p:cNvSpPr/>
            <p:nvPr/>
          </p:nvSpPr>
          <p:spPr>
            <a:xfrm>
              <a:off x="0" y="6627960"/>
              <a:ext cx="4006800" cy="22068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10000"/>
                  </a:moveTo>
                  <a:cubicBezTo>
                    <a:pt x="12" y="6637"/>
                    <a:pt x="-4" y="3363"/>
                    <a:pt x="8" y="0"/>
                  </a:cubicBezTo>
                  <a:lnTo>
                    <a:pt x="10000" y="0"/>
                  </a:lnTo>
                  <a:lnTo>
                    <a:pt x="8563" y="10000"/>
                  </a:lnTo>
                  <a:lnTo>
                    <a:pt x="0" y="10000"/>
                  </a:lnTo>
                  <a:close/>
                </a:path>
              </a:pathLst>
            </a:custGeom>
            <a:solidFill>
              <a:srgbClr val="2647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pic>
        <p:nvPicPr>
          <p:cNvPr id="483" name="Рисунок 3" descr=""/>
          <p:cNvPicPr/>
          <p:nvPr/>
        </p:nvPicPr>
        <p:blipFill>
          <a:blip r:embed="rId2"/>
          <a:srcRect l="0" t="0" r="71336" b="30012"/>
          <a:stretch/>
        </p:blipFill>
        <p:spPr>
          <a:xfrm>
            <a:off x="11215800" y="88920"/>
            <a:ext cx="825480" cy="868320"/>
          </a:xfrm>
          <a:prstGeom prst="rect">
            <a:avLst/>
          </a:prstGeom>
          <a:ln w="0">
            <a:noFill/>
          </a:ln>
        </p:spPr>
      </p:pic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90320" y="495360"/>
            <a:ext cx="103726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490320" y="2000160"/>
            <a:ext cx="10372680" cy="447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 type="dt" idx="25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 type="ftr" idx="2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 type="sldNum" idx="27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2C040-AB02-4B58-8CC9-8F70A252DE2A}" type="slidenum">
              <a:rPr b="0" lang="ru-RU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5" name="Группа 12"/>
          <p:cNvGrpSpPr/>
          <p:nvPr/>
        </p:nvGrpSpPr>
        <p:grpSpPr>
          <a:xfrm>
            <a:off x="0" y="6627960"/>
            <a:ext cx="4038480" cy="230040"/>
            <a:chOff x="0" y="6627960"/>
            <a:chExt cx="4038480" cy="230040"/>
          </a:xfrm>
        </p:grpSpPr>
        <p:sp>
          <p:nvSpPr>
            <p:cNvPr id="526" name="Блок-схема: данные 4"/>
            <p:cNvSpPr/>
            <p:nvPr/>
          </p:nvSpPr>
          <p:spPr>
            <a:xfrm>
              <a:off x="0" y="6627960"/>
              <a:ext cx="4038480" cy="23004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10000"/>
                  </a:moveTo>
                  <a:cubicBezTo>
                    <a:pt x="12" y="6637"/>
                    <a:pt x="-4" y="3363"/>
                    <a:pt x="8" y="0"/>
                  </a:cubicBezTo>
                  <a:lnTo>
                    <a:pt x="10000" y="0"/>
                  </a:lnTo>
                  <a:lnTo>
                    <a:pt x="8563" y="10000"/>
                  </a:lnTo>
                  <a:lnTo>
                    <a:pt x="0" y="10000"/>
                  </a:lnTo>
                  <a:close/>
                </a:path>
              </a:pathLst>
            </a:custGeom>
            <a:solidFill>
              <a:srgbClr val="e31e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527" name="Блок-схема: данные 4"/>
            <p:cNvSpPr/>
            <p:nvPr/>
          </p:nvSpPr>
          <p:spPr>
            <a:xfrm>
              <a:off x="0" y="6627960"/>
              <a:ext cx="4006800" cy="22068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10000"/>
                  </a:moveTo>
                  <a:cubicBezTo>
                    <a:pt x="12" y="6637"/>
                    <a:pt x="-4" y="3363"/>
                    <a:pt x="8" y="0"/>
                  </a:cubicBezTo>
                  <a:lnTo>
                    <a:pt x="10000" y="0"/>
                  </a:lnTo>
                  <a:lnTo>
                    <a:pt x="8563" y="10000"/>
                  </a:lnTo>
                  <a:lnTo>
                    <a:pt x="0" y="10000"/>
                  </a:lnTo>
                  <a:close/>
                </a:path>
              </a:pathLst>
            </a:custGeom>
            <a:solidFill>
              <a:srgbClr val="2647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pic>
        <p:nvPicPr>
          <p:cNvPr id="528" name="Рисунок 3" descr=""/>
          <p:cNvPicPr/>
          <p:nvPr/>
        </p:nvPicPr>
        <p:blipFill>
          <a:blip r:embed="rId2"/>
          <a:srcRect l="0" t="0" r="71336" b="30012"/>
          <a:stretch/>
        </p:blipFill>
        <p:spPr>
          <a:xfrm>
            <a:off x="11215800" y="88920"/>
            <a:ext cx="825480" cy="868320"/>
          </a:xfrm>
          <a:prstGeom prst="rect">
            <a:avLst/>
          </a:prstGeom>
          <a:ln w="0">
            <a:noFill/>
          </a:ln>
        </p:spPr>
      </p:pic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90320" y="495360"/>
            <a:ext cx="103726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490320" y="2000160"/>
            <a:ext cx="10372680" cy="447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 type="dt" idx="28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 type="ftr" idx="2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 type="sldNum" idx="30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57C34-714A-4597-99ED-1BA1BC9E6A78}" type="slidenum">
              <a:rPr b="0" lang="ru-RU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0" name="Группа 12"/>
          <p:cNvGrpSpPr/>
          <p:nvPr/>
        </p:nvGrpSpPr>
        <p:grpSpPr>
          <a:xfrm>
            <a:off x="0" y="6627960"/>
            <a:ext cx="4038480" cy="230040"/>
            <a:chOff x="0" y="6627960"/>
            <a:chExt cx="4038480" cy="230040"/>
          </a:xfrm>
        </p:grpSpPr>
        <p:sp>
          <p:nvSpPr>
            <p:cNvPr id="571" name="Блок-схема: данные 4"/>
            <p:cNvSpPr/>
            <p:nvPr/>
          </p:nvSpPr>
          <p:spPr>
            <a:xfrm>
              <a:off x="0" y="6627960"/>
              <a:ext cx="4038480" cy="23004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10000"/>
                  </a:moveTo>
                  <a:cubicBezTo>
                    <a:pt x="12" y="6637"/>
                    <a:pt x="-4" y="3363"/>
                    <a:pt x="8" y="0"/>
                  </a:cubicBezTo>
                  <a:lnTo>
                    <a:pt x="10000" y="0"/>
                  </a:lnTo>
                  <a:lnTo>
                    <a:pt x="8563" y="10000"/>
                  </a:lnTo>
                  <a:lnTo>
                    <a:pt x="0" y="10000"/>
                  </a:lnTo>
                  <a:close/>
                </a:path>
              </a:pathLst>
            </a:custGeom>
            <a:solidFill>
              <a:srgbClr val="e31e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572" name="Блок-схема: данные 4"/>
            <p:cNvSpPr/>
            <p:nvPr/>
          </p:nvSpPr>
          <p:spPr>
            <a:xfrm>
              <a:off x="0" y="6627960"/>
              <a:ext cx="4006800" cy="22068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10000"/>
                  </a:moveTo>
                  <a:cubicBezTo>
                    <a:pt x="12" y="6637"/>
                    <a:pt x="-4" y="3363"/>
                    <a:pt x="8" y="0"/>
                  </a:cubicBezTo>
                  <a:lnTo>
                    <a:pt x="10000" y="0"/>
                  </a:lnTo>
                  <a:lnTo>
                    <a:pt x="8563" y="10000"/>
                  </a:lnTo>
                  <a:lnTo>
                    <a:pt x="0" y="10000"/>
                  </a:lnTo>
                  <a:close/>
                </a:path>
              </a:pathLst>
            </a:custGeom>
            <a:solidFill>
              <a:srgbClr val="2647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pic>
        <p:nvPicPr>
          <p:cNvPr id="573" name="Рисунок 3" descr=""/>
          <p:cNvPicPr/>
          <p:nvPr/>
        </p:nvPicPr>
        <p:blipFill>
          <a:blip r:embed="rId2"/>
          <a:srcRect l="0" t="0" r="71336" b="30012"/>
          <a:stretch/>
        </p:blipFill>
        <p:spPr>
          <a:xfrm>
            <a:off x="11215800" y="88920"/>
            <a:ext cx="825480" cy="868320"/>
          </a:xfrm>
          <a:prstGeom prst="rect">
            <a:avLst/>
          </a:prstGeom>
          <a:ln w="0">
            <a:noFill/>
          </a:ln>
        </p:spPr>
      </p:pic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90320" y="495360"/>
            <a:ext cx="103726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490320" y="2000160"/>
            <a:ext cx="10372680" cy="447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3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3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3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D2373-0649-4D2D-AC27-E5A0C3C00589}" type="slidenum">
              <a:rPr b="0" lang="ru-RU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5" name="Группа 12"/>
          <p:cNvGrpSpPr/>
          <p:nvPr/>
        </p:nvGrpSpPr>
        <p:grpSpPr>
          <a:xfrm>
            <a:off x="0" y="6627960"/>
            <a:ext cx="4038480" cy="230040"/>
            <a:chOff x="0" y="6627960"/>
            <a:chExt cx="4038480" cy="230040"/>
          </a:xfrm>
        </p:grpSpPr>
        <p:sp>
          <p:nvSpPr>
            <p:cNvPr id="616" name="Блок-схема: данные 4"/>
            <p:cNvSpPr/>
            <p:nvPr/>
          </p:nvSpPr>
          <p:spPr>
            <a:xfrm>
              <a:off x="0" y="6627960"/>
              <a:ext cx="4038480" cy="23004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10000"/>
                  </a:moveTo>
                  <a:cubicBezTo>
                    <a:pt x="12" y="6637"/>
                    <a:pt x="-4" y="3363"/>
                    <a:pt x="8" y="0"/>
                  </a:cubicBezTo>
                  <a:lnTo>
                    <a:pt x="10000" y="0"/>
                  </a:lnTo>
                  <a:lnTo>
                    <a:pt x="8563" y="10000"/>
                  </a:lnTo>
                  <a:lnTo>
                    <a:pt x="0" y="10000"/>
                  </a:lnTo>
                  <a:close/>
                </a:path>
              </a:pathLst>
            </a:custGeom>
            <a:solidFill>
              <a:srgbClr val="e31e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617" name="Блок-схема: данные 4"/>
            <p:cNvSpPr/>
            <p:nvPr/>
          </p:nvSpPr>
          <p:spPr>
            <a:xfrm>
              <a:off x="0" y="6627960"/>
              <a:ext cx="4006800" cy="22068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10000"/>
                  </a:moveTo>
                  <a:cubicBezTo>
                    <a:pt x="12" y="6637"/>
                    <a:pt x="-4" y="3363"/>
                    <a:pt x="8" y="0"/>
                  </a:cubicBezTo>
                  <a:lnTo>
                    <a:pt x="10000" y="0"/>
                  </a:lnTo>
                  <a:lnTo>
                    <a:pt x="8563" y="10000"/>
                  </a:lnTo>
                  <a:lnTo>
                    <a:pt x="0" y="10000"/>
                  </a:lnTo>
                  <a:close/>
                </a:path>
              </a:pathLst>
            </a:custGeom>
            <a:solidFill>
              <a:srgbClr val="2647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pic>
        <p:nvPicPr>
          <p:cNvPr id="618" name="Рисунок 3" descr=""/>
          <p:cNvPicPr/>
          <p:nvPr/>
        </p:nvPicPr>
        <p:blipFill>
          <a:blip r:embed="rId2"/>
          <a:srcRect l="0" t="0" r="71336" b="30012"/>
          <a:stretch/>
        </p:blipFill>
        <p:spPr>
          <a:xfrm>
            <a:off x="11215800" y="88920"/>
            <a:ext cx="825480" cy="868320"/>
          </a:xfrm>
          <a:prstGeom prst="rect">
            <a:avLst/>
          </a:prstGeom>
          <a:ln w="0">
            <a:noFill/>
          </a:ln>
        </p:spPr>
      </p:pic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90320" y="495360"/>
            <a:ext cx="103726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490320" y="2000160"/>
            <a:ext cx="10372680" cy="447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 type="dt" idx="3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 type="ftr" idx="3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3" name="PlaceHolder 5"/>
          <p:cNvSpPr>
            <a:spLocks noGrp="1"/>
          </p:cNvSpPr>
          <p:nvPr>
            <p:ph type="sldNum" idx="3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8F8A9-5651-4E86-983E-67EAF513A846}" type="slidenum">
              <a:rPr b="0" lang="ru-RU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Блок-схема: данные 4"/>
          <p:cNvSpPr/>
          <p:nvPr/>
        </p:nvSpPr>
        <p:spPr>
          <a:xfrm>
            <a:off x="0" y="0"/>
            <a:ext cx="8861400" cy="83988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0" y="10000"/>
                </a:moveTo>
                <a:cubicBezTo>
                  <a:pt x="12" y="6637"/>
                  <a:pt x="-4" y="3363"/>
                  <a:pt x="8" y="0"/>
                </a:cubicBezTo>
                <a:lnTo>
                  <a:pt x="10000" y="0"/>
                </a:lnTo>
                <a:lnTo>
                  <a:pt x="8563" y="10000"/>
                </a:lnTo>
                <a:lnTo>
                  <a:pt x="0" y="10000"/>
                </a:lnTo>
                <a:close/>
              </a:path>
            </a:pathLst>
          </a:custGeom>
          <a:solidFill>
            <a:srgbClr val="e31e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1" name="Блок-схема: данные 4"/>
          <p:cNvSpPr/>
          <p:nvPr/>
        </p:nvSpPr>
        <p:spPr>
          <a:xfrm>
            <a:off x="0" y="0"/>
            <a:ext cx="8791560" cy="80640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0" y="10000"/>
                </a:moveTo>
                <a:cubicBezTo>
                  <a:pt x="12" y="6637"/>
                  <a:pt x="-4" y="3363"/>
                  <a:pt x="8" y="0"/>
                </a:cubicBezTo>
                <a:lnTo>
                  <a:pt x="10000" y="0"/>
                </a:lnTo>
                <a:lnTo>
                  <a:pt x="8563" y="10000"/>
                </a:lnTo>
                <a:lnTo>
                  <a:pt x="0" y="10000"/>
                </a:lnTo>
                <a:close/>
              </a:path>
            </a:pathLst>
          </a:custGeom>
          <a:solidFill>
            <a:srgbClr val="2647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2" name="TextBox 10"/>
          <p:cNvSpPr/>
          <p:nvPr/>
        </p:nvSpPr>
        <p:spPr>
          <a:xfrm>
            <a:off x="-525600" y="157320"/>
            <a:ext cx="80582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Государственное бюджетное учреждение дополнительного профессионального образования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«Челябинский институт развития образования»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3" name="Прямоугольник 11"/>
          <p:cNvSpPr/>
          <p:nvPr/>
        </p:nvSpPr>
        <p:spPr>
          <a:xfrm>
            <a:off x="4119480" y="3444840"/>
            <a:ext cx="946080" cy="905040"/>
          </a:xfrm>
          <a:prstGeom prst="rect">
            <a:avLst/>
          </a:prstGeom>
          <a:solidFill>
            <a:srgbClr val="264796"/>
          </a:solidFill>
          <a:ln w="6480">
            <a:solidFill>
              <a:srgbClr val="4472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664" name="Google Shape;559;p43"/>
          <p:cNvGrpSpPr/>
          <p:nvPr/>
        </p:nvGrpSpPr>
        <p:grpSpPr>
          <a:xfrm>
            <a:off x="4321080" y="3598920"/>
            <a:ext cx="573120" cy="552240"/>
            <a:chOff x="4321080" y="3598920"/>
            <a:chExt cx="573120" cy="552240"/>
          </a:xfrm>
        </p:grpSpPr>
        <p:sp>
          <p:nvSpPr>
            <p:cNvPr id="665" name="Google Shape;560;p43"/>
            <p:cNvSpPr/>
            <p:nvPr/>
          </p:nvSpPr>
          <p:spPr>
            <a:xfrm>
              <a:off x="4321080" y="3598920"/>
              <a:ext cx="573120" cy="540000"/>
            </a:xfrm>
            <a:custGeom>
              <a:avLst/>
              <a:gdLst/>
              <a:ahLst/>
              <a:rect l="l" t="t" r="r" b="b"/>
              <a:pathLst>
                <a:path fill="none" w="18608" h="17805">
                  <a:moveTo>
                    <a:pt x="13493" y="14127"/>
                  </a:moveTo>
                  <a:lnTo>
                    <a:pt x="18608" y="17804"/>
                  </a:lnTo>
                  <a:lnTo>
                    <a:pt x="18608" y="17731"/>
                  </a:lnTo>
                  <a:lnTo>
                    <a:pt x="18608" y="6723"/>
                  </a:lnTo>
                  <a:lnTo>
                    <a:pt x="9304" y="1"/>
                  </a:lnTo>
                  <a:lnTo>
                    <a:pt x="1" y="6723"/>
                  </a:lnTo>
                  <a:lnTo>
                    <a:pt x="1" y="17731"/>
                  </a:lnTo>
                  <a:lnTo>
                    <a:pt x="1" y="17804"/>
                  </a:lnTo>
                  <a:lnTo>
                    <a:pt x="5115" y="14127"/>
                  </a:lnTo>
                </a:path>
              </a:pathLst>
            </a:custGeom>
            <a:noFill/>
            <a:ln cap="rnd" w="12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91080" bIns="91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666" name="Google Shape;561;p43"/>
            <p:cNvSpPr/>
            <p:nvPr/>
          </p:nvSpPr>
          <p:spPr>
            <a:xfrm>
              <a:off x="4330800" y="4150440"/>
              <a:ext cx="553680" cy="720"/>
            </a:xfrm>
            <a:custGeom>
              <a:avLst/>
              <a:gdLst/>
              <a:ahLst/>
              <a:rect l="l" t="t" r="r" b="b"/>
              <a:pathLst>
                <a:path fill="none" w="17975" h="25">
                  <a:moveTo>
                    <a:pt x="0" y="0"/>
                  </a:moveTo>
                  <a:lnTo>
                    <a:pt x="0" y="0"/>
                  </a:lnTo>
                  <a:lnTo>
                    <a:pt x="98" y="0"/>
                  </a:lnTo>
                  <a:lnTo>
                    <a:pt x="171" y="24"/>
                  </a:lnTo>
                  <a:lnTo>
                    <a:pt x="17804" y="24"/>
                  </a:lnTo>
                  <a:lnTo>
                    <a:pt x="17877" y="0"/>
                  </a:lnTo>
                  <a:lnTo>
                    <a:pt x="17974" y="0"/>
                  </a:lnTo>
                </a:path>
              </a:pathLst>
            </a:custGeom>
            <a:noFill/>
            <a:ln cap="rnd" w="12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90360" bIns="-90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667" name="Google Shape;562;p43"/>
            <p:cNvSpPr/>
            <p:nvPr/>
          </p:nvSpPr>
          <p:spPr>
            <a:xfrm>
              <a:off x="4321080" y="3802680"/>
              <a:ext cx="573120" cy="208080"/>
            </a:xfrm>
            <a:custGeom>
              <a:avLst/>
              <a:gdLst/>
              <a:ahLst/>
              <a:rect l="l" t="t" r="r" b="b"/>
              <a:pathLst>
                <a:path fill="none" w="18608" h="6869">
                  <a:moveTo>
                    <a:pt x="18608" y="1"/>
                  </a:moveTo>
                  <a:lnTo>
                    <a:pt x="9450" y="6820"/>
                  </a:lnTo>
                  <a:lnTo>
                    <a:pt x="9377" y="6845"/>
                  </a:lnTo>
                  <a:lnTo>
                    <a:pt x="9304" y="6869"/>
                  </a:lnTo>
                  <a:lnTo>
                    <a:pt x="9231" y="6845"/>
                  </a:lnTo>
                  <a:lnTo>
                    <a:pt x="9158" y="6820"/>
                  </a:lnTo>
                  <a:lnTo>
                    <a:pt x="1" y="1"/>
                  </a:lnTo>
                </a:path>
              </a:pathLst>
            </a:custGeom>
            <a:noFill/>
            <a:ln cap="rnd" w="12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91080" bIns="91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668" name="Google Shape;563;p43"/>
            <p:cNvSpPr/>
            <p:nvPr/>
          </p:nvSpPr>
          <p:spPr>
            <a:xfrm>
              <a:off x="4435560" y="3752280"/>
              <a:ext cx="343800" cy="134280"/>
            </a:xfrm>
            <a:custGeom>
              <a:avLst/>
              <a:gdLst/>
              <a:ahLst/>
              <a:rect l="l" t="t" r="r" b="b"/>
              <a:pathLst>
                <a:path fill="none" w="11156" h="4434">
                  <a:moveTo>
                    <a:pt x="1" y="4433"/>
                  </a:moveTo>
                  <a:lnTo>
                    <a:pt x="1" y="1"/>
                  </a:lnTo>
                  <a:lnTo>
                    <a:pt x="11155" y="1"/>
                  </a:lnTo>
                  <a:lnTo>
                    <a:pt x="11155" y="4433"/>
                  </a:lnTo>
                </a:path>
              </a:pathLst>
            </a:custGeom>
            <a:noFill/>
            <a:ln cap="rnd" w="12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3200" bIns="43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669" name="Google Shape;564;p43"/>
            <p:cNvSpPr/>
            <p:nvPr/>
          </p:nvSpPr>
          <p:spPr>
            <a:xfrm>
              <a:off x="4525200" y="3824640"/>
              <a:ext cx="164880" cy="360"/>
            </a:xfrm>
            <a:custGeom>
              <a:avLst/>
              <a:gdLst/>
              <a:ahLst/>
              <a:rect l="l" t="t" r="r" b="b"/>
              <a:pathLst>
                <a:path fill="none" w="5359" h="1">
                  <a:moveTo>
                    <a:pt x="0" y="0"/>
                  </a:moveTo>
                  <a:lnTo>
                    <a:pt x="5358" y="0"/>
                  </a:lnTo>
                </a:path>
              </a:pathLst>
            </a:custGeom>
            <a:noFill/>
            <a:ln cap="rnd" w="12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90720" bIns="-90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670" name="Google Shape;565;p43"/>
            <p:cNvSpPr/>
            <p:nvPr/>
          </p:nvSpPr>
          <p:spPr>
            <a:xfrm>
              <a:off x="4525200" y="3866040"/>
              <a:ext cx="164880" cy="360"/>
            </a:xfrm>
            <a:custGeom>
              <a:avLst/>
              <a:gdLst/>
              <a:ahLst/>
              <a:rect l="l" t="t" r="r" b="b"/>
              <a:pathLst>
                <a:path fill="none" w="5359" h="1">
                  <a:moveTo>
                    <a:pt x="0" y="0"/>
                  </a:moveTo>
                  <a:lnTo>
                    <a:pt x="5358" y="0"/>
                  </a:lnTo>
                </a:path>
              </a:pathLst>
            </a:custGeom>
            <a:noFill/>
            <a:ln cap="rnd" w="12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90720" bIns="-90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671" name="Google Shape;566;p43"/>
            <p:cNvSpPr/>
            <p:nvPr/>
          </p:nvSpPr>
          <p:spPr>
            <a:xfrm>
              <a:off x="4525200" y="3907440"/>
              <a:ext cx="104760" cy="360"/>
            </a:xfrm>
            <a:custGeom>
              <a:avLst/>
              <a:gdLst/>
              <a:ahLst/>
              <a:rect l="l" t="t" r="r" b="b"/>
              <a:pathLst>
                <a:path fill="none" w="3410" h="1">
                  <a:moveTo>
                    <a:pt x="0" y="0"/>
                  </a:moveTo>
                  <a:lnTo>
                    <a:pt x="3410" y="0"/>
                  </a:lnTo>
                </a:path>
              </a:pathLst>
            </a:custGeom>
            <a:noFill/>
            <a:ln cap="rnd" w="12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90720" bIns="-90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grpSp>
        <p:nvGrpSpPr>
          <p:cNvPr id="672" name="Группа 65"/>
          <p:cNvGrpSpPr/>
          <p:nvPr/>
        </p:nvGrpSpPr>
        <p:grpSpPr>
          <a:xfrm>
            <a:off x="5305320" y="1104840"/>
            <a:ext cx="916200" cy="835200"/>
            <a:chOff x="5305320" y="1104840"/>
            <a:chExt cx="916200" cy="835200"/>
          </a:xfrm>
        </p:grpSpPr>
        <p:sp>
          <p:nvSpPr>
            <p:cNvPr id="673" name="Прямоугольник 23"/>
            <p:cNvSpPr/>
            <p:nvPr/>
          </p:nvSpPr>
          <p:spPr>
            <a:xfrm>
              <a:off x="5305320" y="1104840"/>
              <a:ext cx="916200" cy="835200"/>
            </a:xfrm>
            <a:prstGeom prst="rect">
              <a:avLst/>
            </a:prstGeom>
            <a:solidFill>
              <a:srgbClr val="264796"/>
            </a:solidFill>
            <a:ln w="0">
              <a:noFill/>
            </a:ln>
            <a:effectLst>
              <a:outerShdw dist="19080" dir="5400000" blurRad="0" rotWithShape="0">
                <a:srgbClr val="000000">
                  <a:alpha val="6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grpSp>
          <p:nvGrpSpPr>
            <p:cNvPr id="674" name="Google Shape;732;p43"/>
            <p:cNvGrpSpPr/>
            <p:nvPr/>
          </p:nvGrpSpPr>
          <p:grpSpPr>
            <a:xfrm>
              <a:off x="5464080" y="1296360"/>
              <a:ext cx="609480" cy="502920"/>
              <a:chOff x="5464080" y="1296360"/>
              <a:chExt cx="609480" cy="502920"/>
            </a:xfrm>
          </p:grpSpPr>
          <p:sp>
            <p:nvSpPr>
              <p:cNvPr id="675" name="Google Shape;733;p43"/>
              <p:cNvSpPr/>
              <p:nvPr/>
            </p:nvSpPr>
            <p:spPr>
              <a:xfrm>
                <a:off x="5963760" y="1731240"/>
                <a:ext cx="85320" cy="68040"/>
              </a:xfrm>
              <a:custGeom>
                <a:avLst/>
                <a:gdLst/>
                <a:ahLst/>
                <a:rect l="l" t="t" r="r" b="b"/>
                <a:pathLst>
                  <a:path fill="none" w="2631" h="2096">
                    <a:moveTo>
                      <a:pt x="1" y="1"/>
                    </a:moveTo>
                    <a:lnTo>
                      <a:pt x="1" y="780"/>
                    </a:lnTo>
                    <a:lnTo>
                      <a:pt x="25" y="1048"/>
                    </a:lnTo>
                    <a:lnTo>
                      <a:pt x="122" y="1291"/>
                    </a:lnTo>
                    <a:lnTo>
                      <a:pt x="244" y="1511"/>
                    </a:lnTo>
                    <a:lnTo>
                      <a:pt x="390" y="1705"/>
                    </a:lnTo>
                    <a:lnTo>
                      <a:pt x="585" y="1852"/>
                    </a:lnTo>
                    <a:lnTo>
                      <a:pt x="804" y="1973"/>
                    </a:lnTo>
                    <a:lnTo>
                      <a:pt x="1048" y="2071"/>
                    </a:lnTo>
                    <a:lnTo>
                      <a:pt x="1316" y="2095"/>
                    </a:lnTo>
                    <a:lnTo>
                      <a:pt x="1584" y="2071"/>
                    </a:lnTo>
                    <a:lnTo>
                      <a:pt x="1827" y="1973"/>
                    </a:lnTo>
                    <a:lnTo>
                      <a:pt x="2046" y="1852"/>
                    </a:lnTo>
                    <a:lnTo>
                      <a:pt x="2241" y="1705"/>
                    </a:lnTo>
                    <a:lnTo>
                      <a:pt x="2412" y="1511"/>
                    </a:lnTo>
                    <a:lnTo>
                      <a:pt x="2533" y="1291"/>
                    </a:lnTo>
                    <a:lnTo>
                      <a:pt x="2607" y="1048"/>
                    </a:lnTo>
                    <a:lnTo>
                      <a:pt x="2631" y="780"/>
                    </a:lnTo>
                    <a:lnTo>
                      <a:pt x="2631" y="1"/>
                    </a:lnTo>
                  </a:path>
                </a:pathLst>
              </a:custGeom>
              <a:noFill/>
              <a:ln cap="rnd" w="12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-23040" bIns="-23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  <p:sp>
            <p:nvSpPr>
              <p:cNvPr id="676" name="Google Shape;734;p43"/>
              <p:cNvSpPr/>
              <p:nvPr/>
            </p:nvSpPr>
            <p:spPr>
              <a:xfrm>
                <a:off x="5488560" y="1731240"/>
                <a:ext cx="85320" cy="68040"/>
              </a:xfrm>
              <a:custGeom>
                <a:avLst/>
                <a:gdLst/>
                <a:ahLst/>
                <a:rect l="l" t="t" r="r" b="b"/>
                <a:pathLst>
                  <a:path fill="none" w="2631" h="2096">
                    <a:moveTo>
                      <a:pt x="1" y="1"/>
                    </a:moveTo>
                    <a:lnTo>
                      <a:pt x="1" y="780"/>
                    </a:lnTo>
                    <a:lnTo>
                      <a:pt x="25" y="1048"/>
                    </a:lnTo>
                    <a:lnTo>
                      <a:pt x="98" y="1291"/>
                    </a:lnTo>
                    <a:lnTo>
                      <a:pt x="220" y="1511"/>
                    </a:lnTo>
                    <a:lnTo>
                      <a:pt x="390" y="1705"/>
                    </a:lnTo>
                    <a:lnTo>
                      <a:pt x="585" y="1852"/>
                    </a:lnTo>
                    <a:lnTo>
                      <a:pt x="804" y="1973"/>
                    </a:lnTo>
                    <a:lnTo>
                      <a:pt x="1048" y="2071"/>
                    </a:lnTo>
                    <a:lnTo>
                      <a:pt x="1316" y="2095"/>
                    </a:lnTo>
                    <a:lnTo>
                      <a:pt x="1584" y="2071"/>
                    </a:lnTo>
                    <a:lnTo>
                      <a:pt x="1827" y="1973"/>
                    </a:lnTo>
                    <a:lnTo>
                      <a:pt x="2046" y="1852"/>
                    </a:lnTo>
                    <a:lnTo>
                      <a:pt x="2241" y="1705"/>
                    </a:lnTo>
                    <a:lnTo>
                      <a:pt x="2387" y="1511"/>
                    </a:lnTo>
                    <a:lnTo>
                      <a:pt x="2509" y="1291"/>
                    </a:lnTo>
                    <a:lnTo>
                      <a:pt x="2607" y="1048"/>
                    </a:lnTo>
                    <a:lnTo>
                      <a:pt x="2631" y="780"/>
                    </a:lnTo>
                    <a:lnTo>
                      <a:pt x="2631" y="1"/>
                    </a:lnTo>
                  </a:path>
                </a:pathLst>
              </a:custGeom>
              <a:noFill/>
              <a:ln cap="rnd" w="12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-23040" bIns="-23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  <p:sp>
            <p:nvSpPr>
              <p:cNvPr id="677" name="Google Shape;735;p43"/>
              <p:cNvSpPr/>
              <p:nvPr/>
            </p:nvSpPr>
            <p:spPr>
              <a:xfrm>
                <a:off x="5464080" y="1296360"/>
                <a:ext cx="609480" cy="432720"/>
              </a:xfrm>
              <a:custGeom>
                <a:avLst/>
                <a:gdLst/>
                <a:ahLst/>
                <a:rect l="l" t="t" r="r" b="b"/>
                <a:pathLst>
                  <a:path fill="none" w="18754" h="13323">
                    <a:moveTo>
                      <a:pt x="18754" y="5553"/>
                    </a:moveTo>
                    <a:lnTo>
                      <a:pt x="18754" y="5553"/>
                    </a:lnTo>
                    <a:lnTo>
                      <a:pt x="18730" y="5334"/>
                    </a:lnTo>
                    <a:lnTo>
                      <a:pt x="18681" y="5091"/>
                    </a:lnTo>
                    <a:lnTo>
                      <a:pt x="18583" y="4847"/>
                    </a:lnTo>
                    <a:lnTo>
                      <a:pt x="18462" y="4628"/>
                    </a:lnTo>
                    <a:lnTo>
                      <a:pt x="18291" y="4433"/>
                    </a:lnTo>
                    <a:lnTo>
                      <a:pt x="18121" y="4287"/>
                    </a:lnTo>
                    <a:lnTo>
                      <a:pt x="18023" y="4214"/>
                    </a:lnTo>
                    <a:lnTo>
                      <a:pt x="17926" y="4165"/>
                    </a:lnTo>
                    <a:lnTo>
                      <a:pt x="17828" y="4141"/>
                    </a:lnTo>
                    <a:lnTo>
                      <a:pt x="17731" y="4141"/>
                    </a:lnTo>
                    <a:lnTo>
                      <a:pt x="16489" y="4141"/>
                    </a:lnTo>
                    <a:lnTo>
                      <a:pt x="15588" y="1803"/>
                    </a:lnTo>
                    <a:lnTo>
                      <a:pt x="15490" y="1583"/>
                    </a:lnTo>
                    <a:lnTo>
                      <a:pt x="15344" y="1364"/>
                    </a:lnTo>
                    <a:lnTo>
                      <a:pt x="15174" y="1169"/>
                    </a:lnTo>
                    <a:lnTo>
                      <a:pt x="15003" y="975"/>
                    </a:lnTo>
                    <a:lnTo>
                      <a:pt x="14784" y="804"/>
                    </a:lnTo>
                    <a:lnTo>
                      <a:pt x="14565" y="658"/>
                    </a:lnTo>
                    <a:lnTo>
                      <a:pt x="14346" y="536"/>
                    </a:lnTo>
                    <a:lnTo>
                      <a:pt x="14102" y="439"/>
                    </a:lnTo>
                    <a:lnTo>
                      <a:pt x="13810" y="390"/>
                    </a:lnTo>
                    <a:lnTo>
                      <a:pt x="13444" y="317"/>
                    </a:lnTo>
                    <a:lnTo>
                      <a:pt x="12933" y="220"/>
                    </a:lnTo>
                    <a:lnTo>
                      <a:pt x="12275" y="147"/>
                    </a:lnTo>
                    <a:lnTo>
                      <a:pt x="11472" y="73"/>
                    </a:lnTo>
                    <a:lnTo>
                      <a:pt x="10498" y="25"/>
                    </a:lnTo>
                    <a:lnTo>
                      <a:pt x="9377" y="0"/>
                    </a:lnTo>
                    <a:lnTo>
                      <a:pt x="8257" y="25"/>
                    </a:lnTo>
                    <a:lnTo>
                      <a:pt x="7283" y="73"/>
                    </a:lnTo>
                    <a:lnTo>
                      <a:pt x="6479" y="147"/>
                    </a:lnTo>
                    <a:lnTo>
                      <a:pt x="5821" y="220"/>
                    </a:lnTo>
                    <a:lnTo>
                      <a:pt x="5310" y="317"/>
                    </a:lnTo>
                    <a:lnTo>
                      <a:pt x="4945" y="390"/>
                    </a:lnTo>
                    <a:lnTo>
                      <a:pt x="4652" y="439"/>
                    </a:lnTo>
                    <a:lnTo>
                      <a:pt x="4409" y="536"/>
                    </a:lnTo>
                    <a:lnTo>
                      <a:pt x="4190" y="658"/>
                    </a:lnTo>
                    <a:lnTo>
                      <a:pt x="3970" y="804"/>
                    </a:lnTo>
                    <a:lnTo>
                      <a:pt x="3751" y="975"/>
                    </a:lnTo>
                    <a:lnTo>
                      <a:pt x="3581" y="1169"/>
                    </a:lnTo>
                    <a:lnTo>
                      <a:pt x="3410" y="1364"/>
                    </a:lnTo>
                    <a:lnTo>
                      <a:pt x="3264" y="1583"/>
                    </a:lnTo>
                    <a:lnTo>
                      <a:pt x="3167" y="1803"/>
                    </a:lnTo>
                    <a:lnTo>
                      <a:pt x="2266" y="4141"/>
                    </a:lnTo>
                    <a:lnTo>
                      <a:pt x="1023" y="4141"/>
                    </a:lnTo>
                    <a:lnTo>
                      <a:pt x="926" y="4141"/>
                    </a:lnTo>
                    <a:lnTo>
                      <a:pt x="829" y="4165"/>
                    </a:lnTo>
                    <a:lnTo>
                      <a:pt x="731" y="4214"/>
                    </a:lnTo>
                    <a:lnTo>
                      <a:pt x="634" y="4287"/>
                    </a:lnTo>
                    <a:lnTo>
                      <a:pt x="463" y="4433"/>
                    </a:lnTo>
                    <a:lnTo>
                      <a:pt x="293" y="4628"/>
                    </a:lnTo>
                    <a:lnTo>
                      <a:pt x="171" y="4847"/>
                    </a:lnTo>
                    <a:lnTo>
                      <a:pt x="74" y="5091"/>
                    </a:lnTo>
                    <a:lnTo>
                      <a:pt x="25" y="5334"/>
                    </a:lnTo>
                    <a:lnTo>
                      <a:pt x="1" y="5553"/>
                    </a:lnTo>
                    <a:lnTo>
                      <a:pt x="25" y="5748"/>
                    </a:lnTo>
                    <a:lnTo>
                      <a:pt x="74" y="5894"/>
                    </a:lnTo>
                    <a:lnTo>
                      <a:pt x="171" y="6016"/>
                    </a:lnTo>
                    <a:lnTo>
                      <a:pt x="293" y="6089"/>
                    </a:lnTo>
                    <a:lnTo>
                      <a:pt x="463" y="6138"/>
                    </a:lnTo>
                    <a:lnTo>
                      <a:pt x="634" y="6187"/>
                    </a:lnTo>
                    <a:lnTo>
                      <a:pt x="1023" y="6187"/>
                    </a:lnTo>
                    <a:lnTo>
                      <a:pt x="1462" y="6187"/>
                    </a:lnTo>
                    <a:lnTo>
                      <a:pt x="1145" y="7015"/>
                    </a:lnTo>
                    <a:lnTo>
                      <a:pt x="999" y="7526"/>
                    </a:lnTo>
                    <a:lnTo>
                      <a:pt x="877" y="8086"/>
                    </a:lnTo>
                    <a:lnTo>
                      <a:pt x="780" y="8671"/>
                    </a:lnTo>
                    <a:lnTo>
                      <a:pt x="756" y="9207"/>
                    </a:lnTo>
                    <a:lnTo>
                      <a:pt x="756" y="13323"/>
                    </a:lnTo>
                    <a:lnTo>
                      <a:pt x="17999" y="13323"/>
                    </a:lnTo>
                    <a:lnTo>
                      <a:pt x="17999" y="9207"/>
                    </a:lnTo>
                    <a:lnTo>
                      <a:pt x="17975" y="8671"/>
                    </a:lnTo>
                    <a:lnTo>
                      <a:pt x="17877" y="8086"/>
                    </a:lnTo>
                    <a:lnTo>
                      <a:pt x="17755" y="7526"/>
                    </a:lnTo>
                    <a:lnTo>
                      <a:pt x="17609" y="7015"/>
                    </a:lnTo>
                    <a:lnTo>
                      <a:pt x="17293" y="6187"/>
                    </a:lnTo>
                    <a:lnTo>
                      <a:pt x="17731" y="6187"/>
                    </a:lnTo>
                    <a:lnTo>
                      <a:pt x="18121" y="6187"/>
                    </a:lnTo>
                    <a:lnTo>
                      <a:pt x="18291" y="6138"/>
                    </a:lnTo>
                    <a:lnTo>
                      <a:pt x="18462" y="6089"/>
                    </a:lnTo>
                    <a:lnTo>
                      <a:pt x="18583" y="6016"/>
                    </a:lnTo>
                    <a:lnTo>
                      <a:pt x="18681" y="5894"/>
                    </a:lnTo>
                    <a:lnTo>
                      <a:pt x="18730" y="5748"/>
                    </a:lnTo>
                    <a:lnTo>
                      <a:pt x="18754" y="5553"/>
                    </a:lnTo>
                  </a:path>
                </a:pathLst>
              </a:custGeom>
              <a:noFill/>
              <a:ln cap="rnd" w="12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91080" bIns="91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  <p:sp>
            <p:nvSpPr>
              <p:cNvPr id="678" name="Google Shape;736;p43"/>
              <p:cNvSpPr/>
              <p:nvPr/>
            </p:nvSpPr>
            <p:spPr>
              <a:xfrm>
                <a:off x="5571720" y="1339560"/>
                <a:ext cx="394200" cy="194400"/>
              </a:xfrm>
              <a:custGeom>
                <a:avLst/>
                <a:gdLst/>
                <a:ahLst/>
                <a:rect l="l" t="t" r="r" b="b"/>
                <a:pathLst>
                  <a:path fill="none" w="12130" h="5993">
                    <a:moveTo>
                      <a:pt x="1" y="4628"/>
                    </a:moveTo>
                    <a:lnTo>
                      <a:pt x="1" y="4628"/>
                    </a:lnTo>
                    <a:lnTo>
                      <a:pt x="171" y="4019"/>
                    </a:lnTo>
                    <a:lnTo>
                      <a:pt x="585" y="2656"/>
                    </a:lnTo>
                    <a:lnTo>
                      <a:pt x="805" y="1925"/>
                    </a:lnTo>
                    <a:lnTo>
                      <a:pt x="1024" y="1292"/>
                    </a:lnTo>
                    <a:lnTo>
                      <a:pt x="1194" y="829"/>
                    </a:lnTo>
                    <a:lnTo>
                      <a:pt x="1267" y="707"/>
                    </a:lnTo>
                    <a:lnTo>
                      <a:pt x="1316" y="658"/>
                    </a:lnTo>
                    <a:lnTo>
                      <a:pt x="1535" y="561"/>
                    </a:lnTo>
                    <a:lnTo>
                      <a:pt x="1852" y="464"/>
                    </a:lnTo>
                    <a:lnTo>
                      <a:pt x="2315" y="342"/>
                    </a:lnTo>
                    <a:lnTo>
                      <a:pt x="2948" y="220"/>
                    </a:lnTo>
                    <a:lnTo>
                      <a:pt x="3776" y="98"/>
                    </a:lnTo>
                    <a:lnTo>
                      <a:pt x="4799" y="25"/>
                    </a:lnTo>
                    <a:lnTo>
                      <a:pt x="5408" y="1"/>
                    </a:lnTo>
                    <a:lnTo>
                      <a:pt x="6065" y="1"/>
                    </a:lnTo>
                    <a:lnTo>
                      <a:pt x="6723" y="1"/>
                    </a:lnTo>
                    <a:lnTo>
                      <a:pt x="7332" y="25"/>
                    </a:lnTo>
                    <a:lnTo>
                      <a:pt x="8355" y="98"/>
                    </a:lnTo>
                    <a:lnTo>
                      <a:pt x="9183" y="220"/>
                    </a:lnTo>
                    <a:lnTo>
                      <a:pt x="9816" y="342"/>
                    </a:lnTo>
                    <a:lnTo>
                      <a:pt x="10279" y="464"/>
                    </a:lnTo>
                    <a:lnTo>
                      <a:pt x="10595" y="561"/>
                    </a:lnTo>
                    <a:lnTo>
                      <a:pt x="10814" y="658"/>
                    </a:lnTo>
                    <a:lnTo>
                      <a:pt x="10863" y="707"/>
                    </a:lnTo>
                    <a:lnTo>
                      <a:pt x="10936" y="829"/>
                    </a:lnTo>
                    <a:lnTo>
                      <a:pt x="11107" y="1292"/>
                    </a:lnTo>
                    <a:lnTo>
                      <a:pt x="11326" y="1925"/>
                    </a:lnTo>
                    <a:lnTo>
                      <a:pt x="11545" y="2656"/>
                    </a:lnTo>
                    <a:lnTo>
                      <a:pt x="11959" y="4019"/>
                    </a:lnTo>
                    <a:lnTo>
                      <a:pt x="12130" y="4628"/>
                    </a:lnTo>
                    <a:lnTo>
                      <a:pt x="12105" y="4677"/>
                    </a:lnTo>
                    <a:lnTo>
                      <a:pt x="12057" y="4750"/>
                    </a:lnTo>
                    <a:lnTo>
                      <a:pt x="11959" y="4823"/>
                    </a:lnTo>
                    <a:lnTo>
                      <a:pt x="11813" y="4921"/>
                    </a:lnTo>
                    <a:lnTo>
                      <a:pt x="11618" y="5042"/>
                    </a:lnTo>
                    <a:lnTo>
                      <a:pt x="11375" y="5164"/>
                    </a:lnTo>
                    <a:lnTo>
                      <a:pt x="11058" y="5262"/>
                    </a:lnTo>
                    <a:lnTo>
                      <a:pt x="10717" y="5383"/>
                    </a:lnTo>
                    <a:lnTo>
                      <a:pt x="10327" y="5505"/>
                    </a:lnTo>
                    <a:lnTo>
                      <a:pt x="9865" y="5627"/>
                    </a:lnTo>
                    <a:lnTo>
                      <a:pt x="9377" y="5724"/>
                    </a:lnTo>
                    <a:lnTo>
                      <a:pt x="8817" y="5822"/>
                    </a:lnTo>
                    <a:lnTo>
                      <a:pt x="8208" y="5895"/>
                    </a:lnTo>
                    <a:lnTo>
                      <a:pt x="7551" y="5944"/>
                    </a:lnTo>
                    <a:lnTo>
                      <a:pt x="6845" y="5992"/>
                    </a:lnTo>
                    <a:lnTo>
                      <a:pt x="6065" y="5992"/>
                    </a:lnTo>
                    <a:lnTo>
                      <a:pt x="5286" y="5992"/>
                    </a:lnTo>
                    <a:lnTo>
                      <a:pt x="4580" y="5944"/>
                    </a:lnTo>
                    <a:lnTo>
                      <a:pt x="3922" y="5895"/>
                    </a:lnTo>
                    <a:lnTo>
                      <a:pt x="3313" y="5822"/>
                    </a:lnTo>
                    <a:lnTo>
                      <a:pt x="2753" y="5724"/>
                    </a:lnTo>
                    <a:lnTo>
                      <a:pt x="2266" y="5627"/>
                    </a:lnTo>
                    <a:lnTo>
                      <a:pt x="1803" y="5505"/>
                    </a:lnTo>
                    <a:lnTo>
                      <a:pt x="1413" y="5383"/>
                    </a:lnTo>
                    <a:lnTo>
                      <a:pt x="1072" y="5262"/>
                    </a:lnTo>
                    <a:lnTo>
                      <a:pt x="756" y="5164"/>
                    </a:lnTo>
                    <a:lnTo>
                      <a:pt x="512" y="5042"/>
                    </a:lnTo>
                    <a:lnTo>
                      <a:pt x="317" y="4921"/>
                    </a:lnTo>
                    <a:lnTo>
                      <a:pt x="171" y="4823"/>
                    </a:lnTo>
                    <a:lnTo>
                      <a:pt x="74" y="4750"/>
                    </a:lnTo>
                    <a:lnTo>
                      <a:pt x="25" y="4677"/>
                    </a:lnTo>
                    <a:lnTo>
                      <a:pt x="1" y="4628"/>
                    </a:lnTo>
                  </a:path>
                </a:pathLst>
              </a:custGeom>
              <a:noFill/>
              <a:ln cap="rnd" w="12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91080" bIns="91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  <p:sp>
            <p:nvSpPr>
              <p:cNvPr id="679" name="Google Shape;737;p43"/>
              <p:cNvSpPr/>
              <p:nvPr/>
            </p:nvSpPr>
            <p:spPr>
              <a:xfrm>
                <a:off x="5540040" y="1591200"/>
                <a:ext cx="105120" cy="84600"/>
              </a:xfrm>
              <a:custGeom>
                <a:avLst/>
                <a:gdLst/>
                <a:ahLst/>
                <a:rect l="l" t="t" r="r" b="b"/>
                <a:pathLst>
                  <a:path fill="none" w="3240" h="2607">
                    <a:moveTo>
                      <a:pt x="1632" y="2607"/>
                    </a:moveTo>
                    <a:lnTo>
                      <a:pt x="1632" y="2607"/>
                    </a:lnTo>
                    <a:lnTo>
                      <a:pt x="1291" y="2582"/>
                    </a:lnTo>
                    <a:lnTo>
                      <a:pt x="999" y="2509"/>
                    </a:lnTo>
                    <a:lnTo>
                      <a:pt x="731" y="2388"/>
                    </a:lnTo>
                    <a:lnTo>
                      <a:pt x="488" y="2217"/>
                    </a:lnTo>
                    <a:lnTo>
                      <a:pt x="293" y="2047"/>
                    </a:lnTo>
                    <a:lnTo>
                      <a:pt x="122" y="1803"/>
                    </a:lnTo>
                    <a:lnTo>
                      <a:pt x="74" y="1706"/>
                    </a:lnTo>
                    <a:lnTo>
                      <a:pt x="49" y="1559"/>
                    </a:lnTo>
                    <a:lnTo>
                      <a:pt x="25" y="1438"/>
                    </a:lnTo>
                    <a:lnTo>
                      <a:pt x="1" y="1316"/>
                    </a:lnTo>
                    <a:lnTo>
                      <a:pt x="25" y="1170"/>
                    </a:lnTo>
                    <a:lnTo>
                      <a:pt x="49" y="1048"/>
                    </a:lnTo>
                    <a:lnTo>
                      <a:pt x="74" y="926"/>
                    </a:lnTo>
                    <a:lnTo>
                      <a:pt x="122" y="804"/>
                    </a:lnTo>
                    <a:lnTo>
                      <a:pt x="293" y="585"/>
                    </a:lnTo>
                    <a:lnTo>
                      <a:pt x="488" y="390"/>
                    </a:lnTo>
                    <a:lnTo>
                      <a:pt x="731" y="220"/>
                    </a:lnTo>
                    <a:lnTo>
                      <a:pt x="999" y="98"/>
                    </a:lnTo>
                    <a:lnTo>
                      <a:pt x="1291" y="25"/>
                    </a:lnTo>
                    <a:lnTo>
                      <a:pt x="1632" y="1"/>
                    </a:lnTo>
                    <a:lnTo>
                      <a:pt x="1803" y="1"/>
                    </a:lnTo>
                    <a:lnTo>
                      <a:pt x="1949" y="49"/>
                    </a:lnTo>
                    <a:lnTo>
                      <a:pt x="2120" y="98"/>
                    </a:lnTo>
                    <a:lnTo>
                      <a:pt x="2266" y="171"/>
                    </a:lnTo>
                    <a:lnTo>
                      <a:pt x="2412" y="269"/>
                    </a:lnTo>
                    <a:lnTo>
                      <a:pt x="2534" y="390"/>
                    </a:lnTo>
                    <a:lnTo>
                      <a:pt x="2777" y="634"/>
                    </a:lnTo>
                    <a:lnTo>
                      <a:pt x="2972" y="926"/>
                    </a:lnTo>
                    <a:lnTo>
                      <a:pt x="3118" y="1219"/>
                    </a:lnTo>
                    <a:lnTo>
                      <a:pt x="3215" y="1535"/>
                    </a:lnTo>
                    <a:lnTo>
                      <a:pt x="3240" y="1681"/>
                    </a:lnTo>
                    <a:lnTo>
                      <a:pt x="3240" y="1803"/>
                    </a:lnTo>
                    <a:lnTo>
                      <a:pt x="3240" y="1949"/>
                    </a:lnTo>
                    <a:lnTo>
                      <a:pt x="3215" y="2047"/>
                    </a:lnTo>
                    <a:lnTo>
                      <a:pt x="3167" y="2144"/>
                    </a:lnTo>
                    <a:lnTo>
                      <a:pt x="3118" y="2241"/>
                    </a:lnTo>
                    <a:lnTo>
                      <a:pt x="3045" y="2314"/>
                    </a:lnTo>
                    <a:lnTo>
                      <a:pt x="2972" y="2388"/>
                    </a:lnTo>
                    <a:lnTo>
                      <a:pt x="2777" y="2485"/>
                    </a:lnTo>
                    <a:lnTo>
                      <a:pt x="2534" y="2558"/>
                    </a:lnTo>
                    <a:lnTo>
                      <a:pt x="2266" y="2582"/>
                    </a:lnTo>
                    <a:lnTo>
                      <a:pt x="1949" y="2607"/>
                    </a:lnTo>
                    <a:lnTo>
                      <a:pt x="1632" y="2607"/>
                    </a:lnTo>
                  </a:path>
                </a:pathLst>
              </a:custGeom>
              <a:noFill/>
              <a:ln cap="rnd" w="12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-6480" bIns="-6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  <p:sp>
            <p:nvSpPr>
              <p:cNvPr id="680" name="Google Shape;738;p43"/>
              <p:cNvSpPr/>
              <p:nvPr/>
            </p:nvSpPr>
            <p:spPr>
              <a:xfrm>
                <a:off x="5696640" y="1652400"/>
                <a:ext cx="144000" cy="360"/>
              </a:xfrm>
              <a:custGeom>
                <a:avLst/>
                <a:gdLst/>
                <a:ahLst/>
                <a:rect l="l" t="t" r="r" b="b"/>
                <a:pathLst>
                  <a:path fill="none" w="4434" h="1">
                    <a:moveTo>
                      <a:pt x="1" y="0"/>
                    </a:moveTo>
                    <a:lnTo>
                      <a:pt x="4434" y="0"/>
                    </a:lnTo>
                  </a:path>
                </a:pathLst>
              </a:custGeom>
              <a:noFill/>
              <a:ln cap="rnd" w="12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-90720" bIns="-90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  <p:sp>
            <p:nvSpPr>
              <p:cNvPr id="681" name="Google Shape;739;p43"/>
              <p:cNvSpPr/>
              <p:nvPr/>
            </p:nvSpPr>
            <p:spPr>
              <a:xfrm>
                <a:off x="5687280" y="1617480"/>
                <a:ext cx="163080" cy="360"/>
              </a:xfrm>
              <a:custGeom>
                <a:avLst/>
                <a:gdLst/>
                <a:ahLst/>
                <a:rect l="l" t="t" r="r" b="b"/>
                <a:pathLst>
                  <a:path fill="none" w="5018" h="1">
                    <a:moveTo>
                      <a:pt x="1" y="0"/>
                    </a:moveTo>
                    <a:lnTo>
                      <a:pt x="5018" y="0"/>
                    </a:lnTo>
                  </a:path>
                </a:pathLst>
              </a:custGeom>
              <a:noFill/>
              <a:ln cap="rnd" w="12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-90720" bIns="-90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  <p:sp>
            <p:nvSpPr>
              <p:cNvPr id="682" name="Google Shape;740;p43"/>
              <p:cNvSpPr/>
              <p:nvPr/>
            </p:nvSpPr>
            <p:spPr>
              <a:xfrm>
                <a:off x="5892480" y="1591200"/>
                <a:ext cx="105120" cy="84600"/>
              </a:xfrm>
              <a:custGeom>
                <a:avLst/>
                <a:gdLst/>
                <a:ahLst/>
                <a:rect l="l" t="t" r="r" b="b"/>
                <a:pathLst>
                  <a:path fill="none" w="3240" h="2607">
                    <a:moveTo>
                      <a:pt x="1608" y="2607"/>
                    </a:moveTo>
                    <a:lnTo>
                      <a:pt x="1608" y="2607"/>
                    </a:lnTo>
                    <a:lnTo>
                      <a:pt x="1291" y="2607"/>
                    </a:lnTo>
                    <a:lnTo>
                      <a:pt x="975" y="2582"/>
                    </a:lnTo>
                    <a:lnTo>
                      <a:pt x="707" y="2558"/>
                    </a:lnTo>
                    <a:lnTo>
                      <a:pt x="463" y="2485"/>
                    </a:lnTo>
                    <a:lnTo>
                      <a:pt x="268" y="2388"/>
                    </a:lnTo>
                    <a:lnTo>
                      <a:pt x="195" y="2314"/>
                    </a:lnTo>
                    <a:lnTo>
                      <a:pt x="122" y="2241"/>
                    </a:lnTo>
                    <a:lnTo>
                      <a:pt x="74" y="2144"/>
                    </a:lnTo>
                    <a:lnTo>
                      <a:pt x="25" y="2047"/>
                    </a:lnTo>
                    <a:lnTo>
                      <a:pt x="1" y="1949"/>
                    </a:lnTo>
                    <a:lnTo>
                      <a:pt x="1" y="1803"/>
                    </a:lnTo>
                    <a:lnTo>
                      <a:pt x="1" y="1681"/>
                    </a:lnTo>
                    <a:lnTo>
                      <a:pt x="25" y="1535"/>
                    </a:lnTo>
                    <a:lnTo>
                      <a:pt x="122" y="1219"/>
                    </a:lnTo>
                    <a:lnTo>
                      <a:pt x="268" y="926"/>
                    </a:lnTo>
                    <a:lnTo>
                      <a:pt x="463" y="634"/>
                    </a:lnTo>
                    <a:lnTo>
                      <a:pt x="707" y="390"/>
                    </a:lnTo>
                    <a:lnTo>
                      <a:pt x="829" y="269"/>
                    </a:lnTo>
                    <a:lnTo>
                      <a:pt x="975" y="171"/>
                    </a:lnTo>
                    <a:lnTo>
                      <a:pt x="1121" y="98"/>
                    </a:lnTo>
                    <a:lnTo>
                      <a:pt x="1291" y="49"/>
                    </a:lnTo>
                    <a:lnTo>
                      <a:pt x="1438" y="1"/>
                    </a:lnTo>
                    <a:lnTo>
                      <a:pt x="1608" y="1"/>
                    </a:lnTo>
                    <a:lnTo>
                      <a:pt x="1949" y="25"/>
                    </a:lnTo>
                    <a:lnTo>
                      <a:pt x="2241" y="98"/>
                    </a:lnTo>
                    <a:lnTo>
                      <a:pt x="2509" y="220"/>
                    </a:lnTo>
                    <a:lnTo>
                      <a:pt x="2753" y="390"/>
                    </a:lnTo>
                    <a:lnTo>
                      <a:pt x="2948" y="585"/>
                    </a:lnTo>
                    <a:lnTo>
                      <a:pt x="3118" y="804"/>
                    </a:lnTo>
                    <a:lnTo>
                      <a:pt x="3167" y="926"/>
                    </a:lnTo>
                    <a:lnTo>
                      <a:pt x="3191" y="1048"/>
                    </a:lnTo>
                    <a:lnTo>
                      <a:pt x="3215" y="1170"/>
                    </a:lnTo>
                    <a:lnTo>
                      <a:pt x="3240" y="1316"/>
                    </a:lnTo>
                    <a:lnTo>
                      <a:pt x="3215" y="1438"/>
                    </a:lnTo>
                    <a:lnTo>
                      <a:pt x="3191" y="1559"/>
                    </a:lnTo>
                    <a:lnTo>
                      <a:pt x="3167" y="1706"/>
                    </a:lnTo>
                    <a:lnTo>
                      <a:pt x="3118" y="1803"/>
                    </a:lnTo>
                    <a:lnTo>
                      <a:pt x="2948" y="2047"/>
                    </a:lnTo>
                    <a:lnTo>
                      <a:pt x="2753" y="2217"/>
                    </a:lnTo>
                    <a:lnTo>
                      <a:pt x="2509" y="2388"/>
                    </a:lnTo>
                    <a:lnTo>
                      <a:pt x="2241" y="2509"/>
                    </a:lnTo>
                    <a:lnTo>
                      <a:pt x="1949" y="2582"/>
                    </a:lnTo>
                    <a:lnTo>
                      <a:pt x="1608" y="2607"/>
                    </a:lnTo>
                  </a:path>
                </a:pathLst>
              </a:custGeom>
              <a:noFill/>
              <a:ln cap="rnd" w="12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-6480" bIns="-6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683" name="TextBox 40"/>
          <p:cNvSpPr/>
          <p:nvPr/>
        </p:nvSpPr>
        <p:spPr>
          <a:xfrm>
            <a:off x="3247920" y="4349880"/>
            <a:ext cx="27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info@chiro74.ru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4" name="TextBox 41"/>
          <p:cNvSpPr/>
          <p:nvPr/>
        </p:nvSpPr>
        <p:spPr>
          <a:xfrm>
            <a:off x="5226120" y="4356000"/>
            <a:ext cx="314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8 (351) 217 30 89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5" name="TextBox 43"/>
          <p:cNvSpPr/>
          <p:nvPr/>
        </p:nvSpPr>
        <p:spPr>
          <a:xfrm>
            <a:off x="2774880" y="2052720"/>
            <a:ext cx="6112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454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111, г. Челябинск, ул. Комсомольская, д. 20А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454087, г. Челябинск, ул. Блюхера, д. 9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454091, г. Челябинск, ул. Красноармейская, д. 88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454048, г. Челябинск, ул. Худякова, д. 20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6" name="Google Shape;59;g142ea23b5d2_0_0"/>
          <p:cNvSpPr/>
          <p:nvPr/>
        </p:nvSpPr>
        <p:spPr>
          <a:xfrm>
            <a:off x="3944880" y="4637160"/>
            <a:ext cx="36594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121680" bIns="121680" anchor="t">
            <a:spAutoFit/>
          </a:bodyPr>
          <a:p>
            <a:pPr marL="15840" algn="ctr">
              <a:lnSpc>
                <a:spcPct val="150000"/>
              </a:lnSpc>
              <a:spcBef>
                <a:spcPts val="1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03864"/>
                </a:solidFill>
                <a:latin typeface="Calibri"/>
                <a:ea typeface="Jost"/>
              </a:rPr>
              <a:t>МЫ В СОЦИАЛЬНЫХ СЕТЯХ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687" name="Группа 5"/>
          <p:cNvGrpSpPr/>
          <p:nvPr/>
        </p:nvGrpSpPr>
        <p:grpSpPr>
          <a:xfrm>
            <a:off x="6307200" y="3443400"/>
            <a:ext cx="984240" cy="903240"/>
            <a:chOff x="6307200" y="3443400"/>
            <a:chExt cx="984240" cy="903240"/>
          </a:xfrm>
        </p:grpSpPr>
        <p:sp>
          <p:nvSpPr>
            <p:cNvPr id="688" name="Прямоугольник 53"/>
            <p:cNvSpPr/>
            <p:nvPr/>
          </p:nvSpPr>
          <p:spPr>
            <a:xfrm>
              <a:off x="6307200" y="3443400"/>
              <a:ext cx="984240" cy="903240"/>
            </a:xfrm>
            <a:prstGeom prst="rect">
              <a:avLst/>
            </a:prstGeom>
            <a:solidFill>
              <a:srgbClr val="264796"/>
            </a:solidFill>
            <a:ln w="6480">
              <a:solidFill>
                <a:srgbClr val="4472c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689" name="Google Shape;653;p43"/>
            <p:cNvSpPr/>
            <p:nvPr/>
          </p:nvSpPr>
          <p:spPr>
            <a:xfrm>
              <a:off x="6585480" y="3562920"/>
              <a:ext cx="427320" cy="679320"/>
            </a:xfrm>
            <a:custGeom>
              <a:avLst/>
              <a:gdLst/>
              <a:ahLst/>
              <a:rect l="l" t="t" r="r" b="b"/>
              <a:pathLst>
                <a:path fill="none" w="11838" h="20508">
                  <a:moveTo>
                    <a:pt x="10547" y="1"/>
                  </a:moveTo>
                  <a:lnTo>
                    <a:pt x="1292" y="1"/>
                  </a:lnTo>
                  <a:lnTo>
                    <a:pt x="1024" y="25"/>
                  </a:lnTo>
                  <a:lnTo>
                    <a:pt x="780" y="98"/>
                  </a:lnTo>
                  <a:lnTo>
                    <a:pt x="561" y="220"/>
                  </a:lnTo>
                  <a:lnTo>
                    <a:pt x="366" y="366"/>
                  </a:lnTo>
                  <a:lnTo>
                    <a:pt x="220" y="561"/>
                  </a:lnTo>
                  <a:lnTo>
                    <a:pt x="98" y="780"/>
                  </a:lnTo>
                  <a:lnTo>
                    <a:pt x="25" y="1024"/>
                  </a:lnTo>
                  <a:lnTo>
                    <a:pt x="1" y="1292"/>
                  </a:lnTo>
                  <a:lnTo>
                    <a:pt x="1" y="19217"/>
                  </a:lnTo>
                  <a:lnTo>
                    <a:pt x="25" y="19485"/>
                  </a:lnTo>
                  <a:lnTo>
                    <a:pt x="98" y="19728"/>
                  </a:lnTo>
                  <a:lnTo>
                    <a:pt x="220" y="19948"/>
                  </a:lnTo>
                  <a:lnTo>
                    <a:pt x="366" y="20142"/>
                  </a:lnTo>
                  <a:lnTo>
                    <a:pt x="561" y="20289"/>
                  </a:lnTo>
                  <a:lnTo>
                    <a:pt x="780" y="20410"/>
                  </a:lnTo>
                  <a:lnTo>
                    <a:pt x="1024" y="20483"/>
                  </a:lnTo>
                  <a:lnTo>
                    <a:pt x="1292" y="20508"/>
                  </a:lnTo>
                  <a:lnTo>
                    <a:pt x="10547" y="20508"/>
                  </a:lnTo>
                  <a:lnTo>
                    <a:pt x="10814" y="20483"/>
                  </a:lnTo>
                  <a:lnTo>
                    <a:pt x="11058" y="20410"/>
                  </a:lnTo>
                  <a:lnTo>
                    <a:pt x="11277" y="20289"/>
                  </a:lnTo>
                  <a:lnTo>
                    <a:pt x="11472" y="20142"/>
                  </a:lnTo>
                  <a:lnTo>
                    <a:pt x="11618" y="19948"/>
                  </a:lnTo>
                  <a:lnTo>
                    <a:pt x="11740" y="19728"/>
                  </a:lnTo>
                  <a:lnTo>
                    <a:pt x="11813" y="19485"/>
                  </a:lnTo>
                  <a:lnTo>
                    <a:pt x="11837" y="19217"/>
                  </a:lnTo>
                  <a:lnTo>
                    <a:pt x="11837" y="1292"/>
                  </a:lnTo>
                  <a:lnTo>
                    <a:pt x="11813" y="1024"/>
                  </a:lnTo>
                  <a:lnTo>
                    <a:pt x="11740" y="780"/>
                  </a:lnTo>
                  <a:lnTo>
                    <a:pt x="11618" y="561"/>
                  </a:lnTo>
                  <a:lnTo>
                    <a:pt x="11472" y="366"/>
                  </a:lnTo>
                  <a:lnTo>
                    <a:pt x="11277" y="220"/>
                  </a:lnTo>
                  <a:lnTo>
                    <a:pt x="11058" y="98"/>
                  </a:lnTo>
                  <a:lnTo>
                    <a:pt x="10814" y="25"/>
                  </a:lnTo>
                  <a:lnTo>
                    <a:pt x="10547" y="1"/>
                  </a:lnTo>
                  <a:close/>
                  <a:moveTo>
                    <a:pt x="5554" y="975"/>
                  </a:moveTo>
                  <a:lnTo>
                    <a:pt x="6284" y="975"/>
                  </a:lnTo>
                  <a:lnTo>
                    <a:pt x="6406" y="999"/>
                  </a:lnTo>
                  <a:lnTo>
                    <a:pt x="6479" y="1073"/>
                  </a:lnTo>
                  <a:lnTo>
                    <a:pt x="6552" y="1146"/>
                  </a:lnTo>
                  <a:lnTo>
                    <a:pt x="6577" y="1267"/>
                  </a:lnTo>
                  <a:lnTo>
                    <a:pt x="6552" y="1365"/>
                  </a:lnTo>
                  <a:lnTo>
                    <a:pt x="6479" y="1462"/>
                  </a:lnTo>
                  <a:lnTo>
                    <a:pt x="6406" y="1511"/>
                  </a:lnTo>
                  <a:lnTo>
                    <a:pt x="6284" y="1535"/>
                  </a:lnTo>
                  <a:lnTo>
                    <a:pt x="5554" y="1535"/>
                  </a:lnTo>
                  <a:lnTo>
                    <a:pt x="5432" y="1511"/>
                  </a:lnTo>
                  <a:lnTo>
                    <a:pt x="5359" y="1462"/>
                  </a:lnTo>
                  <a:lnTo>
                    <a:pt x="5286" y="1365"/>
                  </a:lnTo>
                  <a:lnTo>
                    <a:pt x="5262" y="1267"/>
                  </a:lnTo>
                  <a:lnTo>
                    <a:pt x="5286" y="1146"/>
                  </a:lnTo>
                  <a:lnTo>
                    <a:pt x="5359" y="1073"/>
                  </a:lnTo>
                  <a:lnTo>
                    <a:pt x="5432" y="999"/>
                  </a:lnTo>
                  <a:lnTo>
                    <a:pt x="5554" y="975"/>
                  </a:lnTo>
                  <a:close/>
                  <a:moveTo>
                    <a:pt x="5919" y="19436"/>
                  </a:moveTo>
                  <a:lnTo>
                    <a:pt x="5919" y="19436"/>
                  </a:lnTo>
                  <a:lnTo>
                    <a:pt x="5749" y="19412"/>
                  </a:lnTo>
                  <a:lnTo>
                    <a:pt x="5578" y="19363"/>
                  </a:lnTo>
                  <a:lnTo>
                    <a:pt x="5432" y="19290"/>
                  </a:lnTo>
                  <a:lnTo>
                    <a:pt x="5310" y="19193"/>
                  </a:lnTo>
                  <a:lnTo>
                    <a:pt x="5213" y="19071"/>
                  </a:lnTo>
                  <a:lnTo>
                    <a:pt x="5140" y="18925"/>
                  </a:lnTo>
                  <a:lnTo>
                    <a:pt x="5091" y="18754"/>
                  </a:lnTo>
                  <a:lnTo>
                    <a:pt x="5067" y="18584"/>
                  </a:lnTo>
                  <a:lnTo>
                    <a:pt x="5091" y="18413"/>
                  </a:lnTo>
                  <a:lnTo>
                    <a:pt x="5140" y="18243"/>
                  </a:lnTo>
                  <a:lnTo>
                    <a:pt x="5213" y="18097"/>
                  </a:lnTo>
                  <a:lnTo>
                    <a:pt x="5310" y="17975"/>
                  </a:lnTo>
                  <a:lnTo>
                    <a:pt x="5432" y="17877"/>
                  </a:lnTo>
                  <a:lnTo>
                    <a:pt x="5578" y="17804"/>
                  </a:lnTo>
                  <a:lnTo>
                    <a:pt x="5749" y="17756"/>
                  </a:lnTo>
                  <a:lnTo>
                    <a:pt x="5919" y="17731"/>
                  </a:lnTo>
                  <a:lnTo>
                    <a:pt x="6090" y="17756"/>
                  </a:lnTo>
                  <a:lnTo>
                    <a:pt x="6260" y="17804"/>
                  </a:lnTo>
                  <a:lnTo>
                    <a:pt x="6406" y="17877"/>
                  </a:lnTo>
                  <a:lnTo>
                    <a:pt x="6528" y="17975"/>
                  </a:lnTo>
                  <a:lnTo>
                    <a:pt x="6625" y="18097"/>
                  </a:lnTo>
                  <a:lnTo>
                    <a:pt x="6699" y="18243"/>
                  </a:lnTo>
                  <a:lnTo>
                    <a:pt x="6747" y="18413"/>
                  </a:lnTo>
                  <a:lnTo>
                    <a:pt x="6772" y="18584"/>
                  </a:lnTo>
                  <a:lnTo>
                    <a:pt x="6747" y="18754"/>
                  </a:lnTo>
                  <a:lnTo>
                    <a:pt x="6699" y="18925"/>
                  </a:lnTo>
                  <a:lnTo>
                    <a:pt x="6625" y="19071"/>
                  </a:lnTo>
                  <a:lnTo>
                    <a:pt x="6528" y="19193"/>
                  </a:lnTo>
                  <a:lnTo>
                    <a:pt x="6406" y="19290"/>
                  </a:lnTo>
                  <a:lnTo>
                    <a:pt x="6260" y="19363"/>
                  </a:lnTo>
                  <a:lnTo>
                    <a:pt x="6090" y="19412"/>
                  </a:lnTo>
                  <a:lnTo>
                    <a:pt x="5919" y="19436"/>
                  </a:lnTo>
                  <a:close/>
                  <a:moveTo>
                    <a:pt x="10547" y="16660"/>
                  </a:moveTo>
                  <a:lnTo>
                    <a:pt x="1292" y="16660"/>
                  </a:lnTo>
                  <a:lnTo>
                    <a:pt x="1292" y="2558"/>
                  </a:lnTo>
                  <a:lnTo>
                    <a:pt x="10547" y="2558"/>
                  </a:lnTo>
                  <a:lnTo>
                    <a:pt x="10547" y="16660"/>
                  </a:lnTo>
                  <a:close/>
                </a:path>
              </a:pathLst>
            </a:custGeom>
            <a:noFill/>
            <a:ln cap="rnd" w="12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91080" bIns="91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grpSp>
        <p:nvGrpSpPr>
          <p:cNvPr id="690" name="Группа 6"/>
          <p:cNvGrpSpPr/>
          <p:nvPr/>
        </p:nvGrpSpPr>
        <p:grpSpPr>
          <a:xfrm>
            <a:off x="2048760" y="5133960"/>
            <a:ext cx="8094960" cy="1638720"/>
            <a:chOff x="2048760" y="5133960"/>
            <a:chExt cx="8094960" cy="1638720"/>
          </a:xfrm>
        </p:grpSpPr>
        <p:pic>
          <p:nvPicPr>
            <p:cNvPr id="691" name="Picture 2" descr="http://qrcoder.ru/code/?https%3A%2F%2Frcokio.ru%2F&amp;4&amp;0"/>
            <p:cNvPicPr/>
            <p:nvPr/>
          </p:nvPicPr>
          <p:blipFill>
            <a:blip r:embed="rId2"/>
            <a:stretch/>
          </p:blipFill>
          <p:spPr>
            <a:xfrm>
              <a:off x="2153160" y="5217480"/>
              <a:ext cx="1267200" cy="126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2" name="TextBox 1"/>
            <p:cNvSpPr/>
            <p:nvPr/>
          </p:nvSpPr>
          <p:spPr>
            <a:xfrm>
              <a:off x="2048760" y="6483240"/>
              <a:ext cx="1476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Calibri"/>
                </a:rPr>
                <a:t>сайт ГБУ ДПО ЧИРО</a:t>
              </a:r>
              <a:endParaRPr b="0" lang="en-US" sz="12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693" name="TextBox 49"/>
            <p:cNvSpPr/>
            <p:nvPr/>
          </p:nvSpPr>
          <p:spPr>
            <a:xfrm>
              <a:off x="4250520" y="6483240"/>
              <a:ext cx="1244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Calibri"/>
                </a:rPr>
                <a:t>Телеграм-канал</a:t>
              </a:r>
              <a:endParaRPr b="0" lang="en-US" sz="12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694" name="TextBox 50"/>
            <p:cNvSpPr/>
            <p:nvPr/>
          </p:nvSpPr>
          <p:spPr>
            <a:xfrm>
              <a:off x="6061320" y="6483240"/>
              <a:ext cx="1809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Calibri"/>
                </a:rPr>
                <a:t>Сообщество в ВКонтакте</a:t>
              </a:r>
              <a:endParaRPr b="0" lang="en-US" sz="12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pic>
          <p:nvPicPr>
            <p:cNvPr id="695" name="Рисунок 2" descr=""/>
            <p:cNvPicPr/>
            <p:nvPr/>
          </p:nvPicPr>
          <p:blipFill>
            <a:blip r:embed="rId3">
              <a:biLevel thresh="50000"/>
            </a:blip>
            <a:stretch/>
          </p:blipFill>
          <p:spPr>
            <a:xfrm>
              <a:off x="6279480" y="5133960"/>
              <a:ext cx="1374480" cy="1374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6" name="Рисунок 3" descr=""/>
            <p:cNvPicPr/>
            <p:nvPr/>
          </p:nvPicPr>
          <p:blipFill>
            <a:blip r:embed="rId4"/>
            <a:srcRect l="17901" t="3970" r="16637" b="5413"/>
            <a:stretch/>
          </p:blipFill>
          <p:spPr>
            <a:xfrm>
              <a:off x="4239720" y="5231520"/>
              <a:ext cx="1267200" cy="117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7" name="Рисунок 4" descr=""/>
            <p:cNvPicPr/>
            <p:nvPr/>
          </p:nvPicPr>
          <p:blipFill>
            <a:blip r:embed="rId5"/>
            <a:stretch/>
          </p:blipFill>
          <p:spPr>
            <a:xfrm>
              <a:off x="8339760" y="5133960"/>
              <a:ext cx="1375200" cy="137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8" name="TextBox 42"/>
            <p:cNvSpPr/>
            <p:nvPr/>
          </p:nvSpPr>
          <p:spPr>
            <a:xfrm>
              <a:off x="7910280" y="6496200"/>
              <a:ext cx="2233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Calibri"/>
                </a:rPr>
                <a:t>Сообщество в Одноклассниках</a:t>
              </a:r>
              <a:endParaRPr b="0" lang="en-US" sz="12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pic>
        <p:nvPicPr>
          <p:cNvPr id="699" name="Рисунок 12" descr=""/>
          <p:cNvPicPr/>
          <p:nvPr/>
        </p:nvPicPr>
        <p:blipFill>
          <a:blip r:embed="rId6"/>
          <a:stretch/>
        </p:blipFill>
        <p:spPr>
          <a:xfrm>
            <a:off x="9028080" y="157320"/>
            <a:ext cx="2594160" cy="111888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dt" idx="37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ftr" idx="3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sldNum" idx="39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837F8-32D7-4C03-B0EE-C639154D27FD}" type="slidenum">
              <a:rPr b="0" lang="ru-RU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7"/>
    <p:sldLayoutId id="2147483832" r:id="rId8"/>
    <p:sldLayoutId id="2147483833" r:id="rId9"/>
    <p:sldLayoutId id="2147483834" r:id="rId10"/>
    <p:sldLayoutId id="2147483835" r:id="rId11"/>
    <p:sldLayoutId id="2147483836" r:id="rId12"/>
    <p:sldLayoutId id="2147483837" r:id="rId13"/>
    <p:sldLayoutId id="2147483838" r:id="rId14"/>
    <p:sldLayoutId id="2147483839" r:id="rId15"/>
    <p:sldLayoutId id="2147483840" r:id="rId16"/>
    <p:sldLayoutId id="2147483841" r:id="rId17"/>
    <p:sldLayoutId id="2147483842" r:id="rId18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Блок-схема: данные 4"/>
          <p:cNvSpPr/>
          <p:nvPr/>
        </p:nvSpPr>
        <p:spPr>
          <a:xfrm>
            <a:off x="0" y="0"/>
            <a:ext cx="8861400" cy="83988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0" y="10000"/>
                </a:moveTo>
                <a:cubicBezTo>
                  <a:pt x="12" y="6637"/>
                  <a:pt x="-4" y="3363"/>
                  <a:pt x="8" y="0"/>
                </a:cubicBezTo>
                <a:lnTo>
                  <a:pt x="10000" y="0"/>
                </a:lnTo>
                <a:lnTo>
                  <a:pt x="8563" y="10000"/>
                </a:lnTo>
                <a:lnTo>
                  <a:pt x="0" y="10000"/>
                </a:lnTo>
                <a:close/>
              </a:path>
            </a:pathLst>
          </a:custGeom>
          <a:solidFill>
            <a:srgbClr val="e31e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2" name="Блок-схема: данные 4"/>
          <p:cNvSpPr/>
          <p:nvPr/>
        </p:nvSpPr>
        <p:spPr>
          <a:xfrm>
            <a:off x="0" y="0"/>
            <a:ext cx="8791560" cy="80640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0" y="10000"/>
                </a:moveTo>
                <a:cubicBezTo>
                  <a:pt x="12" y="6637"/>
                  <a:pt x="-4" y="3363"/>
                  <a:pt x="8" y="0"/>
                </a:cubicBezTo>
                <a:lnTo>
                  <a:pt x="10000" y="0"/>
                </a:lnTo>
                <a:lnTo>
                  <a:pt x="8563" y="10000"/>
                </a:lnTo>
                <a:lnTo>
                  <a:pt x="0" y="10000"/>
                </a:lnTo>
                <a:close/>
              </a:path>
            </a:pathLst>
          </a:custGeom>
          <a:solidFill>
            <a:srgbClr val="2647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3" name="TextBox 10"/>
          <p:cNvSpPr/>
          <p:nvPr/>
        </p:nvSpPr>
        <p:spPr>
          <a:xfrm>
            <a:off x="-525600" y="157320"/>
            <a:ext cx="80582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Государственное бюджетное учреждение дополнительного профессионального образования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«Челябинский институт развития образования»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4" name="Прямоугольник 11"/>
          <p:cNvSpPr/>
          <p:nvPr/>
        </p:nvSpPr>
        <p:spPr>
          <a:xfrm>
            <a:off x="4119480" y="3444840"/>
            <a:ext cx="946080" cy="905040"/>
          </a:xfrm>
          <a:prstGeom prst="rect">
            <a:avLst/>
          </a:prstGeom>
          <a:solidFill>
            <a:srgbClr val="264796"/>
          </a:solidFill>
          <a:ln w="6480">
            <a:solidFill>
              <a:srgbClr val="4472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745" name="Google Shape;559;p43"/>
          <p:cNvGrpSpPr/>
          <p:nvPr/>
        </p:nvGrpSpPr>
        <p:grpSpPr>
          <a:xfrm>
            <a:off x="4321080" y="3598920"/>
            <a:ext cx="573120" cy="552240"/>
            <a:chOff x="4321080" y="3598920"/>
            <a:chExt cx="573120" cy="552240"/>
          </a:xfrm>
        </p:grpSpPr>
        <p:sp>
          <p:nvSpPr>
            <p:cNvPr id="746" name="Google Shape;560;p43"/>
            <p:cNvSpPr/>
            <p:nvPr/>
          </p:nvSpPr>
          <p:spPr>
            <a:xfrm>
              <a:off x="4321080" y="3598920"/>
              <a:ext cx="573120" cy="540000"/>
            </a:xfrm>
            <a:custGeom>
              <a:avLst/>
              <a:gdLst/>
              <a:ahLst/>
              <a:rect l="l" t="t" r="r" b="b"/>
              <a:pathLst>
                <a:path fill="none" w="18608" h="17805">
                  <a:moveTo>
                    <a:pt x="13493" y="14127"/>
                  </a:moveTo>
                  <a:lnTo>
                    <a:pt x="18608" y="17804"/>
                  </a:lnTo>
                  <a:lnTo>
                    <a:pt x="18608" y="17731"/>
                  </a:lnTo>
                  <a:lnTo>
                    <a:pt x="18608" y="6723"/>
                  </a:lnTo>
                  <a:lnTo>
                    <a:pt x="9304" y="1"/>
                  </a:lnTo>
                  <a:lnTo>
                    <a:pt x="1" y="6723"/>
                  </a:lnTo>
                  <a:lnTo>
                    <a:pt x="1" y="17731"/>
                  </a:lnTo>
                  <a:lnTo>
                    <a:pt x="1" y="17804"/>
                  </a:lnTo>
                  <a:lnTo>
                    <a:pt x="5115" y="14127"/>
                  </a:lnTo>
                </a:path>
              </a:pathLst>
            </a:custGeom>
            <a:noFill/>
            <a:ln cap="rnd" w="12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91080" bIns="91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747" name="Google Shape;561;p43"/>
            <p:cNvSpPr/>
            <p:nvPr/>
          </p:nvSpPr>
          <p:spPr>
            <a:xfrm>
              <a:off x="4330800" y="4150440"/>
              <a:ext cx="553680" cy="720"/>
            </a:xfrm>
            <a:custGeom>
              <a:avLst/>
              <a:gdLst/>
              <a:ahLst/>
              <a:rect l="l" t="t" r="r" b="b"/>
              <a:pathLst>
                <a:path fill="none" w="17975" h="25">
                  <a:moveTo>
                    <a:pt x="0" y="0"/>
                  </a:moveTo>
                  <a:lnTo>
                    <a:pt x="0" y="0"/>
                  </a:lnTo>
                  <a:lnTo>
                    <a:pt x="98" y="0"/>
                  </a:lnTo>
                  <a:lnTo>
                    <a:pt x="171" y="24"/>
                  </a:lnTo>
                  <a:lnTo>
                    <a:pt x="17804" y="24"/>
                  </a:lnTo>
                  <a:lnTo>
                    <a:pt x="17877" y="0"/>
                  </a:lnTo>
                  <a:lnTo>
                    <a:pt x="17974" y="0"/>
                  </a:lnTo>
                </a:path>
              </a:pathLst>
            </a:custGeom>
            <a:noFill/>
            <a:ln cap="rnd" w="12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90360" bIns="-90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748" name="Google Shape;562;p43"/>
            <p:cNvSpPr/>
            <p:nvPr/>
          </p:nvSpPr>
          <p:spPr>
            <a:xfrm>
              <a:off x="4321080" y="3802680"/>
              <a:ext cx="573120" cy="208080"/>
            </a:xfrm>
            <a:custGeom>
              <a:avLst/>
              <a:gdLst/>
              <a:ahLst/>
              <a:rect l="l" t="t" r="r" b="b"/>
              <a:pathLst>
                <a:path fill="none" w="18608" h="6869">
                  <a:moveTo>
                    <a:pt x="18608" y="1"/>
                  </a:moveTo>
                  <a:lnTo>
                    <a:pt x="9450" y="6820"/>
                  </a:lnTo>
                  <a:lnTo>
                    <a:pt x="9377" y="6845"/>
                  </a:lnTo>
                  <a:lnTo>
                    <a:pt x="9304" y="6869"/>
                  </a:lnTo>
                  <a:lnTo>
                    <a:pt x="9231" y="6845"/>
                  </a:lnTo>
                  <a:lnTo>
                    <a:pt x="9158" y="6820"/>
                  </a:lnTo>
                  <a:lnTo>
                    <a:pt x="1" y="1"/>
                  </a:lnTo>
                </a:path>
              </a:pathLst>
            </a:custGeom>
            <a:noFill/>
            <a:ln cap="rnd" w="12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91080" bIns="91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749" name="Google Shape;563;p43"/>
            <p:cNvSpPr/>
            <p:nvPr/>
          </p:nvSpPr>
          <p:spPr>
            <a:xfrm>
              <a:off x="4435560" y="3752280"/>
              <a:ext cx="343800" cy="134280"/>
            </a:xfrm>
            <a:custGeom>
              <a:avLst/>
              <a:gdLst/>
              <a:ahLst/>
              <a:rect l="l" t="t" r="r" b="b"/>
              <a:pathLst>
                <a:path fill="none" w="11156" h="4434">
                  <a:moveTo>
                    <a:pt x="1" y="4433"/>
                  </a:moveTo>
                  <a:lnTo>
                    <a:pt x="1" y="1"/>
                  </a:lnTo>
                  <a:lnTo>
                    <a:pt x="11155" y="1"/>
                  </a:lnTo>
                  <a:lnTo>
                    <a:pt x="11155" y="4433"/>
                  </a:lnTo>
                </a:path>
              </a:pathLst>
            </a:custGeom>
            <a:noFill/>
            <a:ln cap="rnd" w="12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3200" bIns="43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750" name="Google Shape;564;p43"/>
            <p:cNvSpPr/>
            <p:nvPr/>
          </p:nvSpPr>
          <p:spPr>
            <a:xfrm>
              <a:off x="4525200" y="3824640"/>
              <a:ext cx="164880" cy="360"/>
            </a:xfrm>
            <a:custGeom>
              <a:avLst/>
              <a:gdLst/>
              <a:ahLst/>
              <a:rect l="l" t="t" r="r" b="b"/>
              <a:pathLst>
                <a:path fill="none" w="5359" h="1">
                  <a:moveTo>
                    <a:pt x="0" y="0"/>
                  </a:moveTo>
                  <a:lnTo>
                    <a:pt x="5358" y="0"/>
                  </a:lnTo>
                </a:path>
              </a:pathLst>
            </a:custGeom>
            <a:noFill/>
            <a:ln cap="rnd" w="12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90720" bIns="-90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751" name="Google Shape;565;p43"/>
            <p:cNvSpPr/>
            <p:nvPr/>
          </p:nvSpPr>
          <p:spPr>
            <a:xfrm>
              <a:off x="4525200" y="3866040"/>
              <a:ext cx="164880" cy="360"/>
            </a:xfrm>
            <a:custGeom>
              <a:avLst/>
              <a:gdLst/>
              <a:ahLst/>
              <a:rect l="l" t="t" r="r" b="b"/>
              <a:pathLst>
                <a:path fill="none" w="5359" h="1">
                  <a:moveTo>
                    <a:pt x="0" y="0"/>
                  </a:moveTo>
                  <a:lnTo>
                    <a:pt x="5358" y="0"/>
                  </a:lnTo>
                </a:path>
              </a:pathLst>
            </a:custGeom>
            <a:noFill/>
            <a:ln cap="rnd" w="12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90720" bIns="-90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752" name="Google Shape;566;p43"/>
            <p:cNvSpPr/>
            <p:nvPr/>
          </p:nvSpPr>
          <p:spPr>
            <a:xfrm>
              <a:off x="4525200" y="3907440"/>
              <a:ext cx="104760" cy="360"/>
            </a:xfrm>
            <a:custGeom>
              <a:avLst/>
              <a:gdLst/>
              <a:ahLst/>
              <a:rect l="l" t="t" r="r" b="b"/>
              <a:pathLst>
                <a:path fill="none" w="3410" h="1">
                  <a:moveTo>
                    <a:pt x="0" y="0"/>
                  </a:moveTo>
                  <a:lnTo>
                    <a:pt x="3410" y="0"/>
                  </a:lnTo>
                </a:path>
              </a:pathLst>
            </a:custGeom>
            <a:noFill/>
            <a:ln cap="rnd" w="12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90720" bIns="-90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grpSp>
        <p:nvGrpSpPr>
          <p:cNvPr id="753" name="Группа 65"/>
          <p:cNvGrpSpPr/>
          <p:nvPr/>
        </p:nvGrpSpPr>
        <p:grpSpPr>
          <a:xfrm>
            <a:off x="5305320" y="1104840"/>
            <a:ext cx="916200" cy="835200"/>
            <a:chOff x="5305320" y="1104840"/>
            <a:chExt cx="916200" cy="835200"/>
          </a:xfrm>
        </p:grpSpPr>
        <p:sp>
          <p:nvSpPr>
            <p:cNvPr id="754" name="Прямоугольник 23"/>
            <p:cNvSpPr/>
            <p:nvPr/>
          </p:nvSpPr>
          <p:spPr>
            <a:xfrm>
              <a:off x="5305320" y="1104840"/>
              <a:ext cx="916200" cy="835200"/>
            </a:xfrm>
            <a:prstGeom prst="rect">
              <a:avLst/>
            </a:prstGeom>
            <a:solidFill>
              <a:srgbClr val="264796"/>
            </a:solidFill>
            <a:ln w="0">
              <a:noFill/>
            </a:ln>
            <a:effectLst>
              <a:outerShdw dist="19080" dir="5400000" blurRad="0" rotWithShape="0">
                <a:srgbClr val="000000">
                  <a:alpha val="6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grpSp>
          <p:nvGrpSpPr>
            <p:cNvPr id="755" name="Google Shape;732;p43"/>
            <p:cNvGrpSpPr/>
            <p:nvPr/>
          </p:nvGrpSpPr>
          <p:grpSpPr>
            <a:xfrm>
              <a:off x="5464080" y="1296360"/>
              <a:ext cx="609480" cy="502920"/>
              <a:chOff x="5464080" y="1296360"/>
              <a:chExt cx="609480" cy="502920"/>
            </a:xfrm>
          </p:grpSpPr>
          <p:sp>
            <p:nvSpPr>
              <p:cNvPr id="756" name="Google Shape;733;p43"/>
              <p:cNvSpPr/>
              <p:nvPr/>
            </p:nvSpPr>
            <p:spPr>
              <a:xfrm>
                <a:off x="5963760" y="1731240"/>
                <a:ext cx="85320" cy="68040"/>
              </a:xfrm>
              <a:custGeom>
                <a:avLst/>
                <a:gdLst/>
                <a:ahLst/>
                <a:rect l="l" t="t" r="r" b="b"/>
                <a:pathLst>
                  <a:path fill="none" w="2631" h="2096">
                    <a:moveTo>
                      <a:pt x="1" y="1"/>
                    </a:moveTo>
                    <a:lnTo>
                      <a:pt x="1" y="780"/>
                    </a:lnTo>
                    <a:lnTo>
                      <a:pt x="25" y="1048"/>
                    </a:lnTo>
                    <a:lnTo>
                      <a:pt x="122" y="1291"/>
                    </a:lnTo>
                    <a:lnTo>
                      <a:pt x="244" y="1511"/>
                    </a:lnTo>
                    <a:lnTo>
                      <a:pt x="390" y="1705"/>
                    </a:lnTo>
                    <a:lnTo>
                      <a:pt x="585" y="1852"/>
                    </a:lnTo>
                    <a:lnTo>
                      <a:pt x="804" y="1973"/>
                    </a:lnTo>
                    <a:lnTo>
                      <a:pt x="1048" y="2071"/>
                    </a:lnTo>
                    <a:lnTo>
                      <a:pt x="1316" y="2095"/>
                    </a:lnTo>
                    <a:lnTo>
                      <a:pt x="1584" y="2071"/>
                    </a:lnTo>
                    <a:lnTo>
                      <a:pt x="1827" y="1973"/>
                    </a:lnTo>
                    <a:lnTo>
                      <a:pt x="2046" y="1852"/>
                    </a:lnTo>
                    <a:lnTo>
                      <a:pt x="2241" y="1705"/>
                    </a:lnTo>
                    <a:lnTo>
                      <a:pt x="2412" y="1511"/>
                    </a:lnTo>
                    <a:lnTo>
                      <a:pt x="2533" y="1291"/>
                    </a:lnTo>
                    <a:lnTo>
                      <a:pt x="2607" y="1048"/>
                    </a:lnTo>
                    <a:lnTo>
                      <a:pt x="2631" y="780"/>
                    </a:lnTo>
                    <a:lnTo>
                      <a:pt x="2631" y="1"/>
                    </a:lnTo>
                  </a:path>
                </a:pathLst>
              </a:custGeom>
              <a:noFill/>
              <a:ln cap="rnd" w="12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-23040" bIns="-23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  <p:sp>
            <p:nvSpPr>
              <p:cNvPr id="757" name="Google Shape;734;p43"/>
              <p:cNvSpPr/>
              <p:nvPr/>
            </p:nvSpPr>
            <p:spPr>
              <a:xfrm>
                <a:off x="5488560" y="1731240"/>
                <a:ext cx="85320" cy="68040"/>
              </a:xfrm>
              <a:custGeom>
                <a:avLst/>
                <a:gdLst/>
                <a:ahLst/>
                <a:rect l="l" t="t" r="r" b="b"/>
                <a:pathLst>
                  <a:path fill="none" w="2631" h="2096">
                    <a:moveTo>
                      <a:pt x="1" y="1"/>
                    </a:moveTo>
                    <a:lnTo>
                      <a:pt x="1" y="780"/>
                    </a:lnTo>
                    <a:lnTo>
                      <a:pt x="25" y="1048"/>
                    </a:lnTo>
                    <a:lnTo>
                      <a:pt x="98" y="1291"/>
                    </a:lnTo>
                    <a:lnTo>
                      <a:pt x="220" y="1511"/>
                    </a:lnTo>
                    <a:lnTo>
                      <a:pt x="390" y="1705"/>
                    </a:lnTo>
                    <a:lnTo>
                      <a:pt x="585" y="1852"/>
                    </a:lnTo>
                    <a:lnTo>
                      <a:pt x="804" y="1973"/>
                    </a:lnTo>
                    <a:lnTo>
                      <a:pt x="1048" y="2071"/>
                    </a:lnTo>
                    <a:lnTo>
                      <a:pt x="1316" y="2095"/>
                    </a:lnTo>
                    <a:lnTo>
                      <a:pt x="1584" y="2071"/>
                    </a:lnTo>
                    <a:lnTo>
                      <a:pt x="1827" y="1973"/>
                    </a:lnTo>
                    <a:lnTo>
                      <a:pt x="2046" y="1852"/>
                    </a:lnTo>
                    <a:lnTo>
                      <a:pt x="2241" y="1705"/>
                    </a:lnTo>
                    <a:lnTo>
                      <a:pt x="2387" y="1511"/>
                    </a:lnTo>
                    <a:lnTo>
                      <a:pt x="2509" y="1291"/>
                    </a:lnTo>
                    <a:lnTo>
                      <a:pt x="2607" y="1048"/>
                    </a:lnTo>
                    <a:lnTo>
                      <a:pt x="2631" y="780"/>
                    </a:lnTo>
                    <a:lnTo>
                      <a:pt x="2631" y="1"/>
                    </a:lnTo>
                  </a:path>
                </a:pathLst>
              </a:custGeom>
              <a:noFill/>
              <a:ln cap="rnd" w="12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-23040" bIns="-23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  <p:sp>
            <p:nvSpPr>
              <p:cNvPr id="758" name="Google Shape;735;p43"/>
              <p:cNvSpPr/>
              <p:nvPr/>
            </p:nvSpPr>
            <p:spPr>
              <a:xfrm>
                <a:off x="5464080" y="1296360"/>
                <a:ext cx="609480" cy="432720"/>
              </a:xfrm>
              <a:custGeom>
                <a:avLst/>
                <a:gdLst/>
                <a:ahLst/>
                <a:rect l="l" t="t" r="r" b="b"/>
                <a:pathLst>
                  <a:path fill="none" w="18754" h="13323">
                    <a:moveTo>
                      <a:pt x="18754" y="5553"/>
                    </a:moveTo>
                    <a:lnTo>
                      <a:pt x="18754" y="5553"/>
                    </a:lnTo>
                    <a:lnTo>
                      <a:pt x="18730" y="5334"/>
                    </a:lnTo>
                    <a:lnTo>
                      <a:pt x="18681" y="5091"/>
                    </a:lnTo>
                    <a:lnTo>
                      <a:pt x="18583" y="4847"/>
                    </a:lnTo>
                    <a:lnTo>
                      <a:pt x="18462" y="4628"/>
                    </a:lnTo>
                    <a:lnTo>
                      <a:pt x="18291" y="4433"/>
                    </a:lnTo>
                    <a:lnTo>
                      <a:pt x="18121" y="4287"/>
                    </a:lnTo>
                    <a:lnTo>
                      <a:pt x="18023" y="4214"/>
                    </a:lnTo>
                    <a:lnTo>
                      <a:pt x="17926" y="4165"/>
                    </a:lnTo>
                    <a:lnTo>
                      <a:pt x="17828" y="4141"/>
                    </a:lnTo>
                    <a:lnTo>
                      <a:pt x="17731" y="4141"/>
                    </a:lnTo>
                    <a:lnTo>
                      <a:pt x="16489" y="4141"/>
                    </a:lnTo>
                    <a:lnTo>
                      <a:pt x="15588" y="1803"/>
                    </a:lnTo>
                    <a:lnTo>
                      <a:pt x="15490" y="1583"/>
                    </a:lnTo>
                    <a:lnTo>
                      <a:pt x="15344" y="1364"/>
                    </a:lnTo>
                    <a:lnTo>
                      <a:pt x="15174" y="1169"/>
                    </a:lnTo>
                    <a:lnTo>
                      <a:pt x="15003" y="975"/>
                    </a:lnTo>
                    <a:lnTo>
                      <a:pt x="14784" y="804"/>
                    </a:lnTo>
                    <a:lnTo>
                      <a:pt x="14565" y="658"/>
                    </a:lnTo>
                    <a:lnTo>
                      <a:pt x="14346" y="536"/>
                    </a:lnTo>
                    <a:lnTo>
                      <a:pt x="14102" y="439"/>
                    </a:lnTo>
                    <a:lnTo>
                      <a:pt x="13810" y="390"/>
                    </a:lnTo>
                    <a:lnTo>
                      <a:pt x="13444" y="317"/>
                    </a:lnTo>
                    <a:lnTo>
                      <a:pt x="12933" y="220"/>
                    </a:lnTo>
                    <a:lnTo>
                      <a:pt x="12275" y="147"/>
                    </a:lnTo>
                    <a:lnTo>
                      <a:pt x="11472" y="73"/>
                    </a:lnTo>
                    <a:lnTo>
                      <a:pt x="10498" y="25"/>
                    </a:lnTo>
                    <a:lnTo>
                      <a:pt x="9377" y="0"/>
                    </a:lnTo>
                    <a:lnTo>
                      <a:pt x="8257" y="25"/>
                    </a:lnTo>
                    <a:lnTo>
                      <a:pt x="7283" y="73"/>
                    </a:lnTo>
                    <a:lnTo>
                      <a:pt x="6479" y="147"/>
                    </a:lnTo>
                    <a:lnTo>
                      <a:pt x="5821" y="220"/>
                    </a:lnTo>
                    <a:lnTo>
                      <a:pt x="5310" y="317"/>
                    </a:lnTo>
                    <a:lnTo>
                      <a:pt x="4945" y="390"/>
                    </a:lnTo>
                    <a:lnTo>
                      <a:pt x="4652" y="439"/>
                    </a:lnTo>
                    <a:lnTo>
                      <a:pt x="4409" y="536"/>
                    </a:lnTo>
                    <a:lnTo>
                      <a:pt x="4190" y="658"/>
                    </a:lnTo>
                    <a:lnTo>
                      <a:pt x="3970" y="804"/>
                    </a:lnTo>
                    <a:lnTo>
                      <a:pt x="3751" y="975"/>
                    </a:lnTo>
                    <a:lnTo>
                      <a:pt x="3581" y="1169"/>
                    </a:lnTo>
                    <a:lnTo>
                      <a:pt x="3410" y="1364"/>
                    </a:lnTo>
                    <a:lnTo>
                      <a:pt x="3264" y="1583"/>
                    </a:lnTo>
                    <a:lnTo>
                      <a:pt x="3167" y="1803"/>
                    </a:lnTo>
                    <a:lnTo>
                      <a:pt x="2266" y="4141"/>
                    </a:lnTo>
                    <a:lnTo>
                      <a:pt x="1023" y="4141"/>
                    </a:lnTo>
                    <a:lnTo>
                      <a:pt x="926" y="4141"/>
                    </a:lnTo>
                    <a:lnTo>
                      <a:pt x="829" y="4165"/>
                    </a:lnTo>
                    <a:lnTo>
                      <a:pt x="731" y="4214"/>
                    </a:lnTo>
                    <a:lnTo>
                      <a:pt x="634" y="4287"/>
                    </a:lnTo>
                    <a:lnTo>
                      <a:pt x="463" y="4433"/>
                    </a:lnTo>
                    <a:lnTo>
                      <a:pt x="293" y="4628"/>
                    </a:lnTo>
                    <a:lnTo>
                      <a:pt x="171" y="4847"/>
                    </a:lnTo>
                    <a:lnTo>
                      <a:pt x="74" y="5091"/>
                    </a:lnTo>
                    <a:lnTo>
                      <a:pt x="25" y="5334"/>
                    </a:lnTo>
                    <a:lnTo>
                      <a:pt x="1" y="5553"/>
                    </a:lnTo>
                    <a:lnTo>
                      <a:pt x="25" y="5748"/>
                    </a:lnTo>
                    <a:lnTo>
                      <a:pt x="74" y="5894"/>
                    </a:lnTo>
                    <a:lnTo>
                      <a:pt x="171" y="6016"/>
                    </a:lnTo>
                    <a:lnTo>
                      <a:pt x="293" y="6089"/>
                    </a:lnTo>
                    <a:lnTo>
                      <a:pt x="463" y="6138"/>
                    </a:lnTo>
                    <a:lnTo>
                      <a:pt x="634" y="6187"/>
                    </a:lnTo>
                    <a:lnTo>
                      <a:pt x="1023" y="6187"/>
                    </a:lnTo>
                    <a:lnTo>
                      <a:pt x="1462" y="6187"/>
                    </a:lnTo>
                    <a:lnTo>
                      <a:pt x="1145" y="7015"/>
                    </a:lnTo>
                    <a:lnTo>
                      <a:pt x="999" y="7526"/>
                    </a:lnTo>
                    <a:lnTo>
                      <a:pt x="877" y="8086"/>
                    </a:lnTo>
                    <a:lnTo>
                      <a:pt x="780" y="8671"/>
                    </a:lnTo>
                    <a:lnTo>
                      <a:pt x="756" y="9207"/>
                    </a:lnTo>
                    <a:lnTo>
                      <a:pt x="756" y="13323"/>
                    </a:lnTo>
                    <a:lnTo>
                      <a:pt x="17999" y="13323"/>
                    </a:lnTo>
                    <a:lnTo>
                      <a:pt x="17999" y="9207"/>
                    </a:lnTo>
                    <a:lnTo>
                      <a:pt x="17975" y="8671"/>
                    </a:lnTo>
                    <a:lnTo>
                      <a:pt x="17877" y="8086"/>
                    </a:lnTo>
                    <a:lnTo>
                      <a:pt x="17755" y="7526"/>
                    </a:lnTo>
                    <a:lnTo>
                      <a:pt x="17609" y="7015"/>
                    </a:lnTo>
                    <a:lnTo>
                      <a:pt x="17293" y="6187"/>
                    </a:lnTo>
                    <a:lnTo>
                      <a:pt x="17731" y="6187"/>
                    </a:lnTo>
                    <a:lnTo>
                      <a:pt x="18121" y="6187"/>
                    </a:lnTo>
                    <a:lnTo>
                      <a:pt x="18291" y="6138"/>
                    </a:lnTo>
                    <a:lnTo>
                      <a:pt x="18462" y="6089"/>
                    </a:lnTo>
                    <a:lnTo>
                      <a:pt x="18583" y="6016"/>
                    </a:lnTo>
                    <a:lnTo>
                      <a:pt x="18681" y="5894"/>
                    </a:lnTo>
                    <a:lnTo>
                      <a:pt x="18730" y="5748"/>
                    </a:lnTo>
                    <a:lnTo>
                      <a:pt x="18754" y="5553"/>
                    </a:lnTo>
                  </a:path>
                </a:pathLst>
              </a:custGeom>
              <a:noFill/>
              <a:ln cap="rnd" w="12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91080" bIns="91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  <p:sp>
            <p:nvSpPr>
              <p:cNvPr id="759" name="Google Shape;736;p43"/>
              <p:cNvSpPr/>
              <p:nvPr/>
            </p:nvSpPr>
            <p:spPr>
              <a:xfrm>
                <a:off x="5571720" y="1339560"/>
                <a:ext cx="394200" cy="194400"/>
              </a:xfrm>
              <a:custGeom>
                <a:avLst/>
                <a:gdLst/>
                <a:ahLst/>
                <a:rect l="l" t="t" r="r" b="b"/>
                <a:pathLst>
                  <a:path fill="none" w="12130" h="5993">
                    <a:moveTo>
                      <a:pt x="1" y="4628"/>
                    </a:moveTo>
                    <a:lnTo>
                      <a:pt x="1" y="4628"/>
                    </a:lnTo>
                    <a:lnTo>
                      <a:pt x="171" y="4019"/>
                    </a:lnTo>
                    <a:lnTo>
                      <a:pt x="585" y="2656"/>
                    </a:lnTo>
                    <a:lnTo>
                      <a:pt x="805" y="1925"/>
                    </a:lnTo>
                    <a:lnTo>
                      <a:pt x="1024" y="1292"/>
                    </a:lnTo>
                    <a:lnTo>
                      <a:pt x="1194" y="829"/>
                    </a:lnTo>
                    <a:lnTo>
                      <a:pt x="1267" y="707"/>
                    </a:lnTo>
                    <a:lnTo>
                      <a:pt x="1316" y="658"/>
                    </a:lnTo>
                    <a:lnTo>
                      <a:pt x="1535" y="561"/>
                    </a:lnTo>
                    <a:lnTo>
                      <a:pt x="1852" y="464"/>
                    </a:lnTo>
                    <a:lnTo>
                      <a:pt x="2315" y="342"/>
                    </a:lnTo>
                    <a:lnTo>
                      <a:pt x="2948" y="220"/>
                    </a:lnTo>
                    <a:lnTo>
                      <a:pt x="3776" y="98"/>
                    </a:lnTo>
                    <a:lnTo>
                      <a:pt x="4799" y="25"/>
                    </a:lnTo>
                    <a:lnTo>
                      <a:pt x="5408" y="1"/>
                    </a:lnTo>
                    <a:lnTo>
                      <a:pt x="6065" y="1"/>
                    </a:lnTo>
                    <a:lnTo>
                      <a:pt x="6723" y="1"/>
                    </a:lnTo>
                    <a:lnTo>
                      <a:pt x="7332" y="25"/>
                    </a:lnTo>
                    <a:lnTo>
                      <a:pt x="8355" y="98"/>
                    </a:lnTo>
                    <a:lnTo>
                      <a:pt x="9183" y="220"/>
                    </a:lnTo>
                    <a:lnTo>
                      <a:pt x="9816" y="342"/>
                    </a:lnTo>
                    <a:lnTo>
                      <a:pt x="10279" y="464"/>
                    </a:lnTo>
                    <a:lnTo>
                      <a:pt x="10595" y="561"/>
                    </a:lnTo>
                    <a:lnTo>
                      <a:pt x="10814" y="658"/>
                    </a:lnTo>
                    <a:lnTo>
                      <a:pt x="10863" y="707"/>
                    </a:lnTo>
                    <a:lnTo>
                      <a:pt x="10936" y="829"/>
                    </a:lnTo>
                    <a:lnTo>
                      <a:pt x="11107" y="1292"/>
                    </a:lnTo>
                    <a:lnTo>
                      <a:pt x="11326" y="1925"/>
                    </a:lnTo>
                    <a:lnTo>
                      <a:pt x="11545" y="2656"/>
                    </a:lnTo>
                    <a:lnTo>
                      <a:pt x="11959" y="4019"/>
                    </a:lnTo>
                    <a:lnTo>
                      <a:pt x="12130" y="4628"/>
                    </a:lnTo>
                    <a:lnTo>
                      <a:pt x="12105" y="4677"/>
                    </a:lnTo>
                    <a:lnTo>
                      <a:pt x="12057" y="4750"/>
                    </a:lnTo>
                    <a:lnTo>
                      <a:pt x="11959" y="4823"/>
                    </a:lnTo>
                    <a:lnTo>
                      <a:pt x="11813" y="4921"/>
                    </a:lnTo>
                    <a:lnTo>
                      <a:pt x="11618" y="5042"/>
                    </a:lnTo>
                    <a:lnTo>
                      <a:pt x="11375" y="5164"/>
                    </a:lnTo>
                    <a:lnTo>
                      <a:pt x="11058" y="5262"/>
                    </a:lnTo>
                    <a:lnTo>
                      <a:pt x="10717" y="5383"/>
                    </a:lnTo>
                    <a:lnTo>
                      <a:pt x="10327" y="5505"/>
                    </a:lnTo>
                    <a:lnTo>
                      <a:pt x="9865" y="5627"/>
                    </a:lnTo>
                    <a:lnTo>
                      <a:pt x="9377" y="5724"/>
                    </a:lnTo>
                    <a:lnTo>
                      <a:pt x="8817" y="5822"/>
                    </a:lnTo>
                    <a:lnTo>
                      <a:pt x="8208" y="5895"/>
                    </a:lnTo>
                    <a:lnTo>
                      <a:pt x="7551" y="5944"/>
                    </a:lnTo>
                    <a:lnTo>
                      <a:pt x="6845" y="5992"/>
                    </a:lnTo>
                    <a:lnTo>
                      <a:pt x="6065" y="5992"/>
                    </a:lnTo>
                    <a:lnTo>
                      <a:pt x="5286" y="5992"/>
                    </a:lnTo>
                    <a:lnTo>
                      <a:pt x="4580" y="5944"/>
                    </a:lnTo>
                    <a:lnTo>
                      <a:pt x="3922" y="5895"/>
                    </a:lnTo>
                    <a:lnTo>
                      <a:pt x="3313" y="5822"/>
                    </a:lnTo>
                    <a:lnTo>
                      <a:pt x="2753" y="5724"/>
                    </a:lnTo>
                    <a:lnTo>
                      <a:pt x="2266" y="5627"/>
                    </a:lnTo>
                    <a:lnTo>
                      <a:pt x="1803" y="5505"/>
                    </a:lnTo>
                    <a:lnTo>
                      <a:pt x="1413" y="5383"/>
                    </a:lnTo>
                    <a:lnTo>
                      <a:pt x="1072" y="5262"/>
                    </a:lnTo>
                    <a:lnTo>
                      <a:pt x="756" y="5164"/>
                    </a:lnTo>
                    <a:lnTo>
                      <a:pt x="512" y="5042"/>
                    </a:lnTo>
                    <a:lnTo>
                      <a:pt x="317" y="4921"/>
                    </a:lnTo>
                    <a:lnTo>
                      <a:pt x="171" y="4823"/>
                    </a:lnTo>
                    <a:lnTo>
                      <a:pt x="74" y="4750"/>
                    </a:lnTo>
                    <a:lnTo>
                      <a:pt x="25" y="4677"/>
                    </a:lnTo>
                    <a:lnTo>
                      <a:pt x="1" y="4628"/>
                    </a:lnTo>
                  </a:path>
                </a:pathLst>
              </a:custGeom>
              <a:noFill/>
              <a:ln cap="rnd" w="12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91080" bIns="91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  <p:sp>
            <p:nvSpPr>
              <p:cNvPr id="760" name="Google Shape;737;p43"/>
              <p:cNvSpPr/>
              <p:nvPr/>
            </p:nvSpPr>
            <p:spPr>
              <a:xfrm>
                <a:off x="5540040" y="1591200"/>
                <a:ext cx="105120" cy="84600"/>
              </a:xfrm>
              <a:custGeom>
                <a:avLst/>
                <a:gdLst/>
                <a:ahLst/>
                <a:rect l="l" t="t" r="r" b="b"/>
                <a:pathLst>
                  <a:path fill="none" w="3240" h="2607">
                    <a:moveTo>
                      <a:pt x="1632" y="2607"/>
                    </a:moveTo>
                    <a:lnTo>
                      <a:pt x="1632" y="2607"/>
                    </a:lnTo>
                    <a:lnTo>
                      <a:pt x="1291" y="2582"/>
                    </a:lnTo>
                    <a:lnTo>
                      <a:pt x="999" y="2509"/>
                    </a:lnTo>
                    <a:lnTo>
                      <a:pt x="731" y="2388"/>
                    </a:lnTo>
                    <a:lnTo>
                      <a:pt x="488" y="2217"/>
                    </a:lnTo>
                    <a:lnTo>
                      <a:pt x="293" y="2047"/>
                    </a:lnTo>
                    <a:lnTo>
                      <a:pt x="122" y="1803"/>
                    </a:lnTo>
                    <a:lnTo>
                      <a:pt x="74" y="1706"/>
                    </a:lnTo>
                    <a:lnTo>
                      <a:pt x="49" y="1559"/>
                    </a:lnTo>
                    <a:lnTo>
                      <a:pt x="25" y="1438"/>
                    </a:lnTo>
                    <a:lnTo>
                      <a:pt x="1" y="1316"/>
                    </a:lnTo>
                    <a:lnTo>
                      <a:pt x="25" y="1170"/>
                    </a:lnTo>
                    <a:lnTo>
                      <a:pt x="49" y="1048"/>
                    </a:lnTo>
                    <a:lnTo>
                      <a:pt x="74" y="926"/>
                    </a:lnTo>
                    <a:lnTo>
                      <a:pt x="122" y="804"/>
                    </a:lnTo>
                    <a:lnTo>
                      <a:pt x="293" y="585"/>
                    </a:lnTo>
                    <a:lnTo>
                      <a:pt x="488" y="390"/>
                    </a:lnTo>
                    <a:lnTo>
                      <a:pt x="731" y="220"/>
                    </a:lnTo>
                    <a:lnTo>
                      <a:pt x="999" y="98"/>
                    </a:lnTo>
                    <a:lnTo>
                      <a:pt x="1291" y="25"/>
                    </a:lnTo>
                    <a:lnTo>
                      <a:pt x="1632" y="1"/>
                    </a:lnTo>
                    <a:lnTo>
                      <a:pt x="1803" y="1"/>
                    </a:lnTo>
                    <a:lnTo>
                      <a:pt x="1949" y="49"/>
                    </a:lnTo>
                    <a:lnTo>
                      <a:pt x="2120" y="98"/>
                    </a:lnTo>
                    <a:lnTo>
                      <a:pt x="2266" y="171"/>
                    </a:lnTo>
                    <a:lnTo>
                      <a:pt x="2412" y="269"/>
                    </a:lnTo>
                    <a:lnTo>
                      <a:pt x="2534" y="390"/>
                    </a:lnTo>
                    <a:lnTo>
                      <a:pt x="2777" y="634"/>
                    </a:lnTo>
                    <a:lnTo>
                      <a:pt x="2972" y="926"/>
                    </a:lnTo>
                    <a:lnTo>
                      <a:pt x="3118" y="1219"/>
                    </a:lnTo>
                    <a:lnTo>
                      <a:pt x="3215" y="1535"/>
                    </a:lnTo>
                    <a:lnTo>
                      <a:pt x="3240" y="1681"/>
                    </a:lnTo>
                    <a:lnTo>
                      <a:pt x="3240" y="1803"/>
                    </a:lnTo>
                    <a:lnTo>
                      <a:pt x="3240" y="1949"/>
                    </a:lnTo>
                    <a:lnTo>
                      <a:pt x="3215" y="2047"/>
                    </a:lnTo>
                    <a:lnTo>
                      <a:pt x="3167" y="2144"/>
                    </a:lnTo>
                    <a:lnTo>
                      <a:pt x="3118" y="2241"/>
                    </a:lnTo>
                    <a:lnTo>
                      <a:pt x="3045" y="2314"/>
                    </a:lnTo>
                    <a:lnTo>
                      <a:pt x="2972" y="2388"/>
                    </a:lnTo>
                    <a:lnTo>
                      <a:pt x="2777" y="2485"/>
                    </a:lnTo>
                    <a:lnTo>
                      <a:pt x="2534" y="2558"/>
                    </a:lnTo>
                    <a:lnTo>
                      <a:pt x="2266" y="2582"/>
                    </a:lnTo>
                    <a:lnTo>
                      <a:pt x="1949" y="2607"/>
                    </a:lnTo>
                    <a:lnTo>
                      <a:pt x="1632" y="2607"/>
                    </a:lnTo>
                  </a:path>
                </a:pathLst>
              </a:custGeom>
              <a:noFill/>
              <a:ln cap="rnd" w="12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-6480" bIns="-6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  <p:sp>
            <p:nvSpPr>
              <p:cNvPr id="761" name="Google Shape;738;p43"/>
              <p:cNvSpPr/>
              <p:nvPr/>
            </p:nvSpPr>
            <p:spPr>
              <a:xfrm>
                <a:off x="5696640" y="1652400"/>
                <a:ext cx="144000" cy="360"/>
              </a:xfrm>
              <a:custGeom>
                <a:avLst/>
                <a:gdLst/>
                <a:ahLst/>
                <a:rect l="l" t="t" r="r" b="b"/>
                <a:pathLst>
                  <a:path fill="none" w="4434" h="1">
                    <a:moveTo>
                      <a:pt x="1" y="0"/>
                    </a:moveTo>
                    <a:lnTo>
                      <a:pt x="4434" y="0"/>
                    </a:lnTo>
                  </a:path>
                </a:pathLst>
              </a:custGeom>
              <a:noFill/>
              <a:ln cap="rnd" w="12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-90720" bIns="-90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  <p:sp>
            <p:nvSpPr>
              <p:cNvPr id="762" name="Google Shape;739;p43"/>
              <p:cNvSpPr/>
              <p:nvPr/>
            </p:nvSpPr>
            <p:spPr>
              <a:xfrm>
                <a:off x="5687280" y="1617480"/>
                <a:ext cx="163080" cy="360"/>
              </a:xfrm>
              <a:custGeom>
                <a:avLst/>
                <a:gdLst/>
                <a:ahLst/>
                <a:rect l="l" t="t" r="r" b="b"/>
                <a:pathLst>
                  <a:path fill="none" w="5018" h="1">
                    <a:moveTo>
                      <a:pt x="1" y="0"/>
                    </a:moveTo>
                    <a:lnTo>
                      <a:pt x="5018" y="0"/>
                    </a:lnTo>
                  </a:path>
                </a:pathLst>
              </a:custGeom>
              <a:noFill/>
              <a:ln cap="rnd" w="12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-90720" bIns="-90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  <p:sp>
            <p:nvSpPr>
              <p:cNvPr id="763" name="Google Shape;740;p43"/>
              <p:cNvSpPr/>
              <p:nvPr/>
            </p:nvSpPr>
            <p:spPr>
              <a:xfrm>
                <a:off x="5892480" y="1591200"/>
                <a:ext cx="105120" cy="84600"/>
              </a:xfrm>
              <a:custGeom>
                <a:avLst/>
                <a:gdLst/>
                <a:ahLst/>
                <a:rect l="l" t="t" r="r" b="b"/>
                <a:pathLst>
                  <a:path fill="none" w="3240" h="2607">
                    <a:moveTo>
                      <a:pt x="1608" y="2607"/>
                    </a:moveTo>
                    <a:lnTo>
                      <a:pt x="1608" y="2607"/>
                    </a:lnTo>
                    <a:lnTo>
                      <a:pt x="1291" y="2607"/>
                    </a:lnTo>
                    <a:lnTo>
                      <a:pt x="975" y="2582"/>
                    </a:lnTo>
                    <a:lnTo>
                      <a:pt x="707" y="2558"/>
                    </a:lnTo>
                    <a:lnTo>
                      <a:pt x="463" y="2485"/>
                    </a:lnTo>
                    <a:lnTo>
                      <a:pt x="268" y="2388"/>
                    </a:lnTo>
                    <a:lnTo>
                      <a:pt x="195" y="2314"/>
                    </a:lnTo>
                    <a:lnTo>
                      <a:pt x="122" y="2241"/>
                    </a:lnTo>
                    <a:lnTo>
                      <a:pt x="74" y="2144"/>
                    </a:lnTo>
                    <a:lnTo>
                      <a:pt x="25" y="2047"/>
                    </a:lnTo>
                    <a:lnTo>
                      <a:pt x="1" y="1949"/>
                    </a:lnTo>
                    <a:lnTo>
                      <a:pt x="1" y="1803"/>
                    </a:lnTo>
                    <a:lnTo>
                      <a:pt x="1" y="1681"/>
                    </a:lnTo>
                    <a:lnTo>
                      <a:pt x="25" y="1535"/>
                    </a:lnTo>
                    <a:lnTo>
                      <a:pt x="122" y="1219"/>
                    </a:lnTo>
                    <a:lnTo>
                      <a:pt x="268" y="926"/>
                    </a:lnTo>
                    <a:lnTo>
                      <a:pt x="463" y="634"/>
                    </a:lnTo>
                    <a:lnTo>
                      <a:pt x="707" y="390"/>
                    </a:lnTo>
                    <a:lnTo>
                      <a:pt x="829" y="269"/>
                    </a:lnTo>
                    <a:lnTo>
                      <a:pt x="975" y="171"/>
                    </a:lnTo>
                    <a:lnTo>
                      <a:pt x="1121" y="98"/>
                    </a:lnTo>
                    <a:lnTo>
                      <a:pt x="1291" y="49"/>
                    </a:lnTo>
                    <a:lnTo>
                      <a:pt x="1438" y="1"/>
                    </a:lnTo>
                    <a:lnTo>
                      <a:pt x="1608" y="1"/>
                    </a:lnTo>
                    <a:lnTo>
                      <a:pt x="1949" y="25"/>
                    </a:lnTo>
                    <a:lnTo>
                      <a:pt x="2241" y="98"/>
                    </a:lnTo>
                    <a:lnTo>
                      <a:pt x="2509" y="220"/>
                    </a:lnTo>
                    <a:lnTo>
                      <a:pt x="2753" y="390"/>
                    </a:lnTo>
                    <a:lnTo>
                      <a:pt x="2948" y="585"/>
                    </a:lnTo>
                    <a:lnTo>
                      <a:pt x="3118" y="804"/>
                    </a:lnTo>
                    <a:lnTo>
                      <a:pt x="3167" y="926"/>
                    </a:lnTo>
                    <a:lnTo>
                      <a:pt x="3191" y="1048"/>
                    </a:lnTo>
                    <a:lnTo>
                      <a:pt x="3215" y="1170"/>
                    </a:lnTo>
                    <a:lnTo>
                      <a:pt x="3240" y="1316"/>
                    </a:lnTo>
                    <a:lnTo>
                      <a:pt x="3215" y="1438"/>
                    </a:lnTo>
                    <a:lnTo>
                      <a:pt x="3191" y="1559"/>
                    </a:lnTo>
                    <a:lnTo>
                      <a:pt x="3167" y="1706"/>
                    </a:lnTo>
                    <a:lnTo>
                      <a:pt x="3118" y="1803"/>
                    </a:lnTo>
                    <a:lnTo>
                      <a:pt x="2948" y="2047"/>
                    </a:lnTo>
                    <a:lnTo>
                      <a:pt x="2753" y="2217"/>
                    </a:lnTo>
                    <a:lnTo>
                      <a:pt x="2509" y="2388"/>
                    </a:lnTo>
                    <a:lnTo>
                      <a:pt x="2241" y="2509"/>
                    </a:lnTo>
                    <a:lnTo>
                      <a:pt x="1949" y="2582"/>
                    </a:lnTo>
                    <a:lnTo>
                      <a:pt x="1608" y="2607"/>
                    </a:lnTo>
                  </a:path>
                </a:pathLst>
              </a:custGeom>
              <a:noFill/>
              <a:ln cap="rnd" w="12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-6480" bIns="-6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764" name="TextBox 40"/>
          <p:cNvSpPr/>
          <p:nvPr/>
        </p:nvSpPr>
        <p:spPr>
          <a:xfrm>
            <a:off x="3247920" y="4349880"/>
            <a:ext cx="27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info@chiro74.ru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5" name="TextBox 41"/>
          <p:cNvSpPr/>
          <p:nvPr/>
        </p:nvSpPr>
        <p:spPr>
          <a:xfrm>
            <a:off x="5226120" y="4356000"/>
            <a:ext cx="314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8 (351) 217 30 89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6" name="TextBox 43"/>
          <p:cNvSpPr/>
          <p:nvPr/>
        </p:nvSpPr>
        <p:spPr>
          <a:xfrm>
            <a:off x="2774880" y="2052720"/>
            <a:ext cx="6112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454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111, г. Челябинск, ул. Комсомольская, д. 20А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454087, г. Челябинск, ул. Блюхера, д. 9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454091, г. Челябинск, ул. Красноармейская, д. 88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454048, г. Челябинск, ул. Худякова, д. 20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7" name="Google Shape;59;g142ea23b5d2_0_0"/>
          <p:cNvSpPr/>
          <p:nvPr/>
        </p:nvSpPr>
        <p:spPr>
          <a:xfrm>
            <a:off x="3944880" y="4637160"/>
            <a:ext cx="36594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121680" bIns="121680" anchor="t">
            <a:spAutoFit/>
          </a:bodyPr>
          <a:p>
            <a:pPr marL="15840" algn="ctr">
              <a:lnSpc>
                <a:spcPct val="150000"/>
              </a:lnSpc>
              <a:spcBef>
                <a:spcPts val="1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03864"/>
                </a:solidFill>
                <a:latin typeface="Calibri"/>
                <a:ea typeface="Jost"/>
              </a:rPr>
              <a:t>МЫ В СОЦИАЛЬНЫХ СЕТЯХ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768" name="Группа 5"/>
          <p:cNvGrpSpPr/>
          <p:nvPr/>
        </p:nvGrpSpPr>
        <p:grpSpPr>
          <a:xfrm>
            <a:off x="6307200" y="3443400"/>
            <a:ext cx="984240" cy="903240"/>
            <a:chOff x="6307200" y="3443400"/>
            <a:chExt cx="984240" cy="903240"/>
          </a:xfrm>
        </p:grpSpPr>
        <p:sp>
          <p:nvSpPr>
            <p:cNvPr id="769" name="Прямоугольник 53"/>
            <p:cNvSpPr/>
            <p:nvPr/>
          </p:nvSpPr>
          <p:spPr>
            <a:xfrm>
              <a:off x="6307200" y="3443400"/>
              <a:ext cx="984240" cy="903240"/>
            </a:xfrm>
            <a:prstGeom prst="rect">
              <a:avLst/>
            </a:prstGeom>
            <a:solidFill>
              <a:srgbClr val="264796"/>
            </a:solidFill>
            <a:ln w="6480">
              <a:solidFill>
                <a:srgbClr val="4472c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770" name="Google Shape;653;p43"/>
            <p:cNvSpPr/>
            <p:nvPr/>
          </p:nvSpPr>
          <p:spPr>
            <a:xfrm>
              <a:off x="6585480" y="3562920"/>
              <a:ext cx="427320" cy="679320"/>
            </a:xfrm>
            <a:custGeom>
              <a:avLst/>
              <a:gdLst/>
              <a:ahLst/>
              <a:rect l="l" t="t" r="r" b="b"/>
              <a:pathLst>
                <a:path fill="none" w="11838" h="20508">
                  <a:moveTo>
                    <a:pt x="10547" y="1"/>
                  </a:moveTo>
                  <a:lnTo>
                    <a:pt x="1292" y="1"/>
                  </a:lnTo>
                  <a:lnTo>
                    <a:pt x="1024" y="25"/>
                  </a:lnTo>
                  <a:lnTo>
                    <a:pt x="780" y="98"/>
                  </a:lnTo>
                  <a:lnTo>
                    <a:pt x="561" y="220"/>
                  </a:lnTo>
                  <a:lnTo>
                    <a:pt x="366" y="366"/>
                  </a:lnTo>
                  <a:lnTo>
                    <a:pt x="220" y="561"/>
                  </a:lnTo>
                  <a:lnTo>
                    <a:pt x="98" y="780"/>
                  </a:lnTo>
                  <a:lnTo>
                    <a:pt x="25" y="1024"/>
                  </a:lnTo>
                  <a:lnTo>
                    <a:pt x="1" y="1292"/>
                  </a:lnTo>
                  <a:lnTo>
                    <a:pt x="1" y="19217"/>
                  </a:lnTo>
                  <a:lnTo>
                    <a:pt x="25" y="19485"/>
                  </a:lnTo>
                  <a:lnTo>
                    <a:pt x="98" y="19728"/>
                  </a:lnTo>
                  <a:lnTo>
                    <a:pt x="220" y="19948"/>
                  </a:lnTo>
                  <a:lnTo>
                    <a:pt x="366" y="20142"/>
                  </a:lnTo>
                  <a:lnTo>
                    <a:pt x="561" y="20289"/>
                  </a:lnTo>
                  <a:lnTo>
                    <a:pt x="780" y="20410"/>
                  </a:lnTo>
                  <a:lnTo>
                    <a:pt x="1024" y="20483"/>
                  </a:lnTo>
                  <a:lnTo>
                    <a:pt x="1292" y="20508"/>
                  </a:lnTo>
                  <a:lnTo>
                    <a:pt x="10547" y="20508"/>
                  </a:lnTo>
                  <a:lnTo>
                    <a:pt x="10814" y="20483"/>
                  </a:lnTo>
                  <a:lnTo>
                    <a:pt x="11058" y="20410"/>
                  </a:lnTo>
                  <a:lnTo>
                    <a:pt x="11277" y="20289"/>
                  </a:lnTo>
                  <a:lnTo>
                    <a:pt x="11472" y="20142"/>
                  </a:lnTo>
                  <a:lnTo>
                    <a:pt x="11618" y="19948"/>
                  </a:lnTo>
                  <a:lnTo>
                    <a:pt x="11740" y="19728"/>
                  </a:lnTo>
                  <a:lnTo>
                    <a:pt x="11813" y="19485"/>
                  </a:lnTo>
                  <a:lnTo>
                    <a:pt x="11837" y="19217"/>
                  </a:lnTo>
                  <a:lnTo>
                    <a:pt x="11837" y="1292"/>
                  </a:lnTo>
                  <a:lnTo>
                    <a:pt x="11813" y="1024"/>
                  </a:lnTo>
                  <a:lnTo>
                    <a:pt x="11740" y="780"/>
                  </a:lnTo>
                  <a:lnTo>
                    <a:pt x="11618" y="561"/>
                  </a:lnTo>
                  <a:lnTo>
                    <a:pt x="11472" y="366"/>
                  </a:lnTo>
                  <a:lnTo>
                    <a:pt x="11277" y="220"/>
                  </a:lnTo>
                  <a:lnTo>
                    <a:pt x="11058" y="98"/>
                  </a:lnTo>
                  <a:lnTo>
                    <a:pt x="10814" y="25"/>
                  </a:lnTo>
                  <a:lnTo>
                    <a:pt x="10547" y="1"/>
                  </a:lnTo>
                  <a:close/>
                  <a:moveTo>
                    <a:pt x="5554" y="975"/>
                  </a:moveTo>
                  <a:lnTo>
                    <a:pt x="6284" y="975"/>
                  </a:lnTo>
                  <a:lnTo>
                    <a:pt x="6406" y="999"/>
                  </a:lnTo>
                  <a:lnTo>
                    <a:pt x="6479" y="1073"/>
                  </a:lnTo>
                  <a:lnTo>
                    <a:pt x="6552" y="1146"/>
                  </a:lnTo>
                  <a:lnTo>
                    <a:pt x="6577" y="1267"/>
                  </a:lnTo>
                  <a:lnTo>
                    <a:pt x="6552" y="1365"/>
                  </a:lnTo>
                  <a:lnTo>
                    <a:pt x="6479" y="1462"/>
                  </a:lnTo>
                  <a:lnTo>
                    <a:pt x="6406" y="1511"/>
                  </a:lnTo>
                  <a:lnTo>
                    <a:pt x="6284" y="1535"/>
                  </a:lnTo>
                  <a:lnTo>
                    <a:pt x="5554" y="1535"/>
                  </a:lnTo>
                  <a:lnTo>
                    <a:pt x="5432" y="1511"/>
                  </a:lnTo>
                  <a:lnTo>
                    <a:pt x="5359" y="1462"/>
                  </a:lnTo>
                  <a:lnTo>
                    <a:pt x="5286" y="1365"/>
                  </a:lnTo>
                  <a:lnTo>
                    <a:pt x="5262" y="1267"/>
                  </a:lnTo>
                  <a:lnTo>
                    <a:pt x="5286" y="1146"/>
                  </a:lnTo>
                  <a:lnTo>
                    <a:pt x="5359" y="1073"/>
                  </a:lnTo>
                  <a:lnTo>
                    <a:pt x="5432" y="999"/>
                  </a:lnTo>
                  <a:lnTo>
                    <a:pt x="5554" y="975"/>
                  </a:lnTo>
                  <a:close/>
                  <a:moveTo>
                    <a:pt x="5919" y="19436"/>
                  </a:moveTo>
                  <a:lnTo>
                    <a:pt x="5919" y="19436"/>
                  </a:lnTo>
                  <a:lnTo>
                    <a:pt x="5749" y="19412"/>
                  </a:lnTo>
                  <a:lnTo>
                    <a:pt x="5578" y="19363"/>
                  </a:lnTo>
                  <a:lnTo>
                    <a:pt x="5432" y="19290"/>
                  </a:lnTo>
                  <a:lnTo>
                    <a:pt x="5310" y="19193"/>
                  </a:lnTo>
                  <a:lnTo>
                    <a:pt x="5213" y="19071"/>
                  </a:lnTo>
                  <a:lnTo>
                    <a:pt x="5140" y="18925"/>
                  </a:lnTo>
                  <a:lnTo>
                    <a:pt x="5091" y="18754"/>
                  </a:lnTo>
                  <a:lnTo>
                    <a:pt x="5067" y="18584"/>
                  </a:lnTo>
                  <a:lnTo>
                    <a:pt x="5091" y="18413"/>
                  </a:lnTo>
                  <a:lnTo>
                    <a:pt x="5140" y="18243"/>
                  </a:lnTo>
                  <a:lnTo>
                    <a:pt x="5213" y="18097"/>
                  </a:lnTo>
                  <a:lnTo>
                    <a:pt x="5310" y="17975"/>
                  </a:lnTo>
                  <a:lnTo>
                    <a:pt x="5432" y="17877"/>
                  </a:lnTo>
                  <a:lnTo>
                    <a:pt x="5578" y="17804"/>
                  </a:lnTo>
                  <a:lnTo>
                    <a:pt x="5749" y="17756"/>
                  </a:lnTo>
                  <a:lnTo>
                    <a:pt x="5919" y="17731"/>
                  </a:lnTo>
                  <a:lnTo>
                    <a:pt x="6090" y="17756"/>
                  </a:lnTo>
                  <a:lnTo>
                    <a:pt x="6260" y="17804"/>
                  </a:lnTo>
                  <a:lnTo>
                    <a:pt x="6406" y="17877"/>
                  </a:lnTo>
                  <a:lnTo>
                    <a:pt x="6528" y="17975"/>
                  </a:lnTo>
                  <a:lnTo>
                    <a:pt x="6625" y="18097"/>
                  </a:lnTo>
                  <a:lnTo>
                    <a:pt x="6699" y="18243"/>
                  </a:lnTo>
                  <a:lnTo>
                    <a:pt x="6747" y="18413"/>
                  </a:lnTo>
                  <a:lnTo>
                    <a:pt x="6772" y="18584"/>
                  </a:lnTo>
                  <a:lnTo>
                    <a:pt x="6747" y="18754"/>
                  </a:lnTo>
                  <a:lnTo>
                    <a:pt x="6699" y="18925"/>
                  </a:lnTo>
                  <a:lnTo>
                    <a:pt x="6625" y="19071"/>
                  </a:lnTo>
                  <a:lnTo>
                    <a:pt x="6528" y="19193"/>
                  </a:lnTo>
                  <a:lnTo>
                    <a:pt x="6406" y="19290"/>
                  </a:lnTo>
                  <a:lnTo>
                    <a:pt x="6260" y="19363"/>
                  </a:lnTo>
                  <a:lnTo>
                    <a:pt x="6090" y="19412"/>
                  </a:lnTo>
                  <a:lnTo>
                    <a:pt x="5919" y="19436"/>
                  </a:lnTo>
                  <a:close/>
                  <a:moveTo>
                    <a:pt x="10547" y="16660"/>
                  </a:moveTo>
                  <a:lnTo>
                    <a:pt x="1292" y="16660"/>
                  </a:lnTo>
                  <a:lnTo>
                    <a:pt x="1292" y="2558"/>
                  </a:lnTo>
                  <a:lnTo>
                    <a:pt x="10547" y="2558"/>
                  </a:lnTo>
                  <a:lnTo>
                    <a:pt x="10547" y="16660"/>
                  </a:lnTo>
                  <a:close/>
                </a:path>
              </a:pathLst>
            </a:custGeom>
            <a:noFill/>
            <a:ln cap="rnd" w="12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91080" bIns="91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grpSp>
        <p:nvGrpSpPr>
          <p:cNvPr id="771" name="Группа 6"/>
          <p:cNvGrpSpPr/>
          <p:nvPr/>
        </p:nvGrpSpPr>
        <p:grpSpPr>
          <a:xfrm>
            <a:off x="2048760" y="5133960"/>
            <a:ext cx="8094960" cy="1638720"/>
            <a:chOff x="2048760" y="5133960"/>
            <a:chExt cx="8094960" cy="1638720"/>
          </a:xfrm>
        </p:grpSpPr>
        <p:pic>
          <p:nvPicPr>
            <p:cNvPr id="772" name="Picture 2" descr="http://qrcoder.ru/code/?https%3A%2F%2Frcokio.ru%2F&amp;4&amp;0"/>
            <p:cNvPicPr/>
            <p:nvPr/>
          </p:nvPicPr>
          <p:blipFill>
            <a:blip r:embed="rId2"/>
            <a:stretch/>
          </p:blipFill>
          <p:spPr>
            <a:xfrm>
              <a:off x="2153160" y="5217480"/>
              <a:ext cx="1267200" cy="126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3" name="TextBox 1"/>
            <p:cNvSpPr/>
            <p:nvPr/>
          </p:nvSpPr>
          <p:spPr>
            <a:xfrm>
              <a:off x="2048760" y="6483240"/>
              <a:ext cx="1476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Calibri"/>
                </a:rPr>
                <a:t>сайт ГБУ ДПО ЧИРО</a:t>
              </a:r>
              <a:endParaRPr b="0" lang="en-US" sz="12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774" name="TextBox 49"/>
            <p:cNvSpPr/>
            <p:nvPr/>
          </p:nvSpPr>
          <p:spPr>
            <a:xfrm>
              <a:off x="4250520" y="6483240"/>
              <a:ext cx="1244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Calibri"/>
                </a:rPr>
                <a:t>Телеграм-канал</a:t>
              </a:r>
              <a:endParaRPr b="0" lang="en-US" sz="12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775" name="TextBox 50"/>
            <p:cNvSpPr/>
            <p:nvPr/>
          </p:nvSpPr>
          <p:spPr>
            <a:xfrm>
              <a:off x="6061320" y="6483240"/>
              <a:ext cx="1809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Calibri"/>
                </a:rPr>
                <a:t>Сообщество в ВКонтакте</a:t>
              </a:r>
              <a:endParaRPr b="0" lang="en-US" sz="12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pic>
          <p:nvPicPr>
            <p:cNvPr id="776" name="Рисунок 2" descr=""/>
            <p:cNvPicPr/>
            <p:nvPr/>
          </p:nvPicPr>
          <p:blipFill>
            <a:blip r:embed="rId3">
              <a:biLevel thresh="50000"/>
            </a:blip>
            <a:stretch/>
          </p:blipFill>
          <p:spPr>
            <a:xfrm>
              <a:off x="6279480" y="5133960"/>
              <a:ext cx="1374480" cy="1374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7" name="Рисунок 3" descr=""/>
            <p:cNvPicPr/>
            <p:nvPr/>
          </p:nvPicPr>
          <p:blipFill>
            <a:blip r:embed="rId4"/>
            <a:srcRect l="17901" t="3970" r="16637" b="5413"/>
            <a:stretch/>
          </p:blipFill>
          <p:spPr>
            <a:xfrm>
              <a:off x="4239720" y="5231520"/>
              <a:ext cx="1267200" cy="117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8" name="Рисунок 4" descr=""/>
            <p:cNvPicPr/>
            <p:nvPr/>
          </p:nvPicPr>
          <p:blipFill>
            <a:blip r:embed="rId5"/>
            <a:stretch/>
          </p:blipFill>
          <p:spPr>
            <a:xfrm>
              <a:off x="8339760" y="5133960"/>
              <a:ext cx="1375200" cy="137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9" name="TextBox 42"/>
            <p:cNvSpPr/>
            <p:nvPr/>
          </p:nvSpPr>
          <p:spPr>
            <a:xfrm>
              <a:off x="7910280" y="6496200"/>
              <a:ext cx="2233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Calibri"/>
                </a:rPr>
                <a:t>Сообщество в Одноклассниках</a:t>
              </a:r>
              <a:endParaRPr b="0" lang="en-US" sz="12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pic>
        <p:nvPicPr>
          <p:cNvPr id="780" name="Рисунок 12" descr=""/>
          <p:cNvPicPr/>
          <p:nvPr/>
        </p:nvPicPr>
        <p:blipFill>
          <a:blip r:embed="rId6"/>
          <a:stretch/>
        </p:blipFill>
        <p:spPr>
          <a:xfrm>
            <a:off x="9028080" y="157320"/>
            <a:ext cx="2594160" cy="1118880"/>
          </a:xfrm>
          <a:prstGeom prst="rect">
            <a:avLst/>
          </a:prstGeom>
          <a:ln w="0">
            <a:noFill/>
          </a:ln>
        </p:spPr>
      </p:pic>
      <p:sp>
        <p:nvSpPr>
          <p:cNvPr id="781" name="PlaceHolder 1"/>
          <p:cNvSpPr>
            <a:spLocks noGrp="1"/>
          </p:cNvSpPr>
          <p:nvPr>
            <p:ph type="dt" idx="40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 type="ftr" idx="4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 type="sldNum" idx="42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724EC-EE1B-46EA-885B-0181651B23EF}" type="slidenum">
              <a:rPr b="0" lang="ru-RU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7"/>
    <p:sldLayoutId id="2147483845" r:id="rId8"/>
    <p:sldLayoutId id="2147483846" r:id="rId9"/>
    <p:sldLayoutId id="2147483847" r:id="rId10"/>
    <p:sldLayoutId id="2147483848" r:id="rId11"/>
    <p:sldLayoutId id="2147483849" r:id="rId12"/>
    <p:sldLayoutId id="2147483850" r:id="rId13"/>
    <p:sldLayoutId id="2147483851" r:id="rId14"/>
    <p:sldLayoutId id="2147483852" r:id="rId15"/>
    <p:sldLayoutId id="2147483853" r:id="rId16"/>
    <p:sldLayoutId id="2147483854" r:id="rId17"/>
    <p:sldLayoutId id="2147483855" r:id="rId18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Блок-схема: данные 4"/>
          <p:cNvSpPr/>
          <p:nvPr/>
        </p:nvSpPr>
        <p:spPr>
          <a:xfrm>
            <a:off x="0" y="0"/>
            <a:ext cx="8861400" cy="83988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0" y="10000"/>
                </a:moveTo>
                <a:cubicBezTo>
                  <a:pt x="12" y="6637"/>
                  <a:pt x="-4" y="3363"/>
                  <a:pt x="8" y="0"/>
                </a:cubicBezTo>
                <a:lnTo>
                  <a:pt x="10000" y="0"/>
                </a:lnTo>
                <a:lnTo>
                  <a:pt x="8563" y="10000"/>
                </a:lnTo>
                <a:lnTo>
                  <a:pt x="0" y="10000"/>
                </a:lnTo>
                <a:close/>
              </a:path>
            </a:pathLst>
          </a:custGeom>
          <a:solidFill>
            <a:srgbClr val="e31e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1" name="Блок-схема: данные 4"/>
          <p:cNvSpPr/>
          <p:nvPr/>
        </p:nvSpPr>
        <p:spPr>
          <a:xfrm>
            <a:off x="0" y="0"/>
            <a:ext cx="8791560" cy="80640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0" y="10000"/>
                </a:moveTo>
                <a:cubicBezTo>
                  <a:pt x="12" y="6637"/>
                  <a:pt x="-4" y="3363"/>
                  <a:pt x="8" y="0"/>
                </a:cubicBezTo>
                <a:lnTo>
                  <a:pt x="10000" y="0"/>
                </a:lnTo>
                <a:lnTo>
                  <a:pt x="8563" y="10000"/>
                </a:lnTo>
                <a:lnTo>
                  <a:pt x="0" y="10000"/>
                </a:lnTo>
                <a:close/>
              </a:path>
            </a:pathLst>
          </a:custGeom>
          <a:solidFill>
            <a:srgbClr val="2647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2" name="TextBox 10"/>
          <p:cNvSpPr/>
          <p:nvPr/>
        </p:nvSpPr>
        <p:spPr>
          <a:xfrm>
            <a:off x="-525600" y="157320"/>
            <a:ext cx="80582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Государственное бюджетное учреждение дополнительного профессионального образования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«Челябинский институт развития образования»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3" name="Прямоугольник 11"/>
          <p:cNvSpPr/>
          <p:nvPr/>
        </p:nvSpPr>
        <p:spPr>
          <a:xfrm>
            <a:off x="4119480" y="3444840"/>
            <a:ext cx="946080" cy="905040"/>
          </a:xfrm>
          <a:prstGeom prst="rect">
            <a:avLst/>
          </a:prstGeom>
          <a:solidFill>
            <a:srgbClr val="264796"/>
          </a:solidFill>
          <a:ln w="6480">
            <a:solidFill>
              <a:srgbClr val="4472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824" name="Google Shape;559;p43"/>
          <p:cNvGrpSpPr/>
          <p:nvPr/>
        </p:nvGrpSpPr>
        <p:grpSpPr>
          <a:xfrm>
            <a:off x="4321080" y="3598920"/>
            <a:ext cx="573120" cy="552240"/>
            <a:chOff x="4321080" y="3598920"/>
            <a:chExt cx="573120" cy="552240"/>
          </a:xfrm>
        </p:grpSpPr>
        <p:sp>
          <p:nvSpPr>
            <p:cNvPr id="825" name="Google Shape;560;p43"/>
            <p:cNvSpPr/>
            <p:nvPr/>
          </p:nvSpPr>
          <p:spPr>
            <a:xfrm>
              <a:off x="4321080" y="3598920"/>
              <a:ext cx="573120" cy="540000"/>
            </a:xfrm>
            <a:custGeom>
              <a:avLst/>
              <a:gdLst/>
              <a:ahLst/>
              <a:rect l="l" t="t" r="r" b="b"/>
              <a:pathLst>
                <a:path fill="none" w="18608" h="17805">
                  <a:moveTo>
                    <a:pt x="13493" y="14127"/>
                  </a:moveTo>
                  <a:lnTo>
                    <a:pt x="18608" y="17804"/>
                  </a:lnTo>
                  <a:lnTo>
                    <a:pt x="18608" y="17731"/>
                  </a:lnTo>
                  <a:lnTo>
                    <a:pt x="18608" y="6723"/>
                  </a:lnTo>
                  <a:lnTo>
                    <a:pt x="9304" y="1"/>
                  </a:lnTo>
                  <a:lnTo>
                    <a:pt x="1" y="6723"/>
                  </a:lnTo>
                  <a:lnTo>
                    <a:pt x="1" y="17731"/>
                  </a:lnTo>
                  <a:lnTo>
                    <a:pt x="1" y="17804"/>
                  </a:lnTo>
                  <a:lnTo>
                    <a:pt x="5115" y="14127"/>
                  </a:lnTo>
                </a:path>
              </a:pathLst>
            </a:custGeom>
            <a:noFill/>
            <a:ln cap="rnd" w="12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91080" bIns="91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826" name="Google Shape;561;p43"/>
            <p:cNvSpPr/>
            <p:nvPr/>
          </p:nvSpPr>
          <p:spPr>
            <a:xfrm>
              <a:off x="4330800" y="4150440"/>
              <a:ext cx="553680" cy="720"/>
            </a:xfrm>
            <a:custGeom>
              <a:avLst/>
              <a:gdLst/>
              <a:ahLst/>
              <a:rect l="l" t="t" r="r" b="b"/>
              <a:pathLst>
                <a:path fill="none" w="17975" h="25">
                  <a:moveTo>
                    <a:pt x="0" y="0"/>
                  </a:moveTo>
                  <a:lnTo>
                    <a:pt x="0" y="0"/>
                  </a:lnTo>
                  <a:lnTo>
                    <a:pt x="98" y="0"/>
                  </a:lnTo>
                  <a:lnTo>
                    <a:pt x="171" y="24"/>
                  </a:lnTo>
                  <a:lnTo>
                    <a:pt x="17804" y="24"/>
                  </a:lnTo>
                  <a:lnTo>
                    <a:pt x="17877" y="0"/>
                  </a:lnTo>
                  <a:lnTo>
                    <a:pt x="17974" y="0"/>
                  </a:lnTo>
                </a:path>
              </a:pathLst>
            </a:custGeom>
            <a:noFill/>
            <a:ln cap="rnd" w="12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90360" bIns="-90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827" name="Google Shape;562;p43"/>
            <p:cNvSpPr/>
            <p:nvPr/>
          </p:nvSpPr>
          <p:spPr>
            <a:xfrm>
              <a:off x="4321080" y="3802680"/>
              <a:ext cx="573120" cy="208080"/>
            </a:xfrm>
            <a:custGeom>
              <a:avLst/>
              <a:gdLst/>
              <a:ahLst/>
              <a:rect l="l" t="t" r="r" b="b"/>
              <a:pathLst>
                <a:path fill="none" w="18608" h="6869">
                  <a:moveTo>
                    <a:pt x="18608" y="1"/>
                  </a:moveTo>
                  <a:lnTo>
                    <a:pt x="9450" y="6820"/>
                  </a:lnTo>
                  <a:lnTo>
                    <a:pt x="9377" y="6845"/>
                  </a:lnTo>
                  <a:lnTo>
                    <a:pt x="9304" y="6869"/>
                  </a:lnTo>
                  <a:lnTo>
                    <a:pt x="9231" y="6845"/>
                  </a:lnTo>
                  <a:lnTo>
                    <a:pt x="9158" y="6820"/>
                  </a:lnTo>
                  <a:lnTo>
                    <a:pt x="1" y="1"/>
                  </a:lnTo>
                </a:path>
              </a:pathLst>
            </a:custGeom>
            <a:noFill/>
            <a:ln cap="rnd" w="12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91080" bIns="91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828" name="Google Shape;563;p43"/>
            <p:cNvSpPr/>
            <p:nvPr/>
          </p:nvSpPr>
          <p:spPr>
            <a:xfrm>
              <a:off x="4435560" y="3752280"/>
              <a:ext cx="343800" cy="134280"/>
            </a:xfrm>
            <a:custGeom>
              <a:avLst/>
              <a:gdLst/>
              <a:ahLst/>
              <a:rect l="l" t="t" r="r" b="b"/>
              <a:pathLst>
                <a:path fill="none" w="11156" h="4434">
                  <a:moveTo>
                    <a:pt x="1" y="4433"/>
                  </a:moveTo>
                  <a:lnTo>
                    <a:pt x="1" y="1"/>
                  </a:lnTo>
                  <a:lnTo>
                    <a:pt x="11155" y="1"/>
                  </a:lnTo>
                  <a:lnTo>
                    <a:pt x="11155" y="4433"/>
                  </a:lnTo>
                </a:path>
              </a:pathLst>
            </a:custGeom>
            <a:noFill/>
            <a:ln cap="rnd" w="12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3200" bIns="43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829" name="Google Shape;564;p43"/>
            <p:cNvSpPr/>
            <p:nvPr/>
          </p:nvSpPr>
          <p:spPr>
            <a:xfrm>
              <a:off x="4525200" y="3824640"/>
              <a:ext cx="164880" cy="360"/>
            </a:xfrm>
            <a:custGeom>
              <a:avLst/>
              <a:gdLst/>
              <a:ahLst/>
              <a:rect l="l" t="t" r="r" b="b"/>
              <a:pathLst>
                <a:path fill="none" w="5359" h="1">
                  <a:moveTo>
                    <a:pt x="0" y="0"/>
                  </a:moveTo>
                  <a:lnTo>
                    <a:pt x="5358" y="0"/>
                  </a:lnTo>
                </a:path>
              </a:pathLst>
            </a:custGeom>
            <a:noFill/>
            <a:ln cap="rnd" w="12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90720" bIns="-90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830" name="Google Shape;565;p43"/>
            <p:cNvSpPr/>
            <p:nvPr/>
          </p:nvSpPr>
          <p:spPr>
            <a:xfrm>
              <a:off x="4525200" y="3866040"/>
              <a:ext cx="164880" cy="360"/>
            </a:xfrm>
            <a:custGeom>
              <a:avLst/>
              <a:gdLst/>
              <a:ahLst/>
              <a:rect l="l" t="t" r="r" b="b"/>
              <a:pathLst>
                <a:path fill="none" w="5359" h="1">
                  <a:moveTo>
                    <a:pt x="0" y="0"/>
                  </a:moveTo>
                  <a:lnTo>
                    <a:pt x="5358" y="0"/>
                  </a:lnTo>
                </a:path>
              </a:pathLst>
            </a:custGeom>
            <a:noFill/>
            <a:ln cap="rnd" w="12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90720" bIns="-90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831" name="Google Shape;566;p43"/>
            <p:cNvSpPr/>
            <p:nvPr/>
          </p:nvSpPr>
          <p:spPr>
            <a:xfrm>
              <a:off x="4525200" y="3907440"/>
              <a:ext cx="104760" cy="360"/>
            </a:xfrm>
            <a:custGeom>
              <a:avLst/>
              <a:gdLst/>
              <a:ahLst/>
              <a:rect l="l" t="t" r="r" b="b"/>
              <a:pathLst>
                <a:path fill="none" w="3410" h="1">
                  <a:moveTo>
                    <a:pt x="0" y="0"/>
                  </a:moveTo>
                  <a:lnTo>
                    <a:pt x="3410" y="0"/>
                  </a:lnTo>
                </a:path>
              </a:pathLst>
            </a:custGeom>
            <a:noFill/>
            <a:ln cap="rnd" w="12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90720" bIns="-90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grpSp>
        <p:nvGrpSpPr>
          <p:cNvPr id="832" name="Группа 65"/>
          <p:cNvGrpSpPr/>
          <p:nvPr/>
        </p:nvGrpSpPr>
        <p:grpSpPr>
          <a:xfrm>
            <a:off x="5305320" y="1104840"/>
            <a:ext cx="916200" cy="835200"/>
            <a:chOff x="5305320" y="1104840"/>
            <a:chExt cx="916200" cy="835200"/>
          </a:xfrm>
        </p:grpSpPr>
        <p:sp>
          <p:nvSpPr>
            <p:cNvPr id="833" name="Прямоугольник 23"/>
            <p:cNvSpPr/>
            <p:nvPr/>
          </p:nvSpPr>
          <p:spPr>
            <a:xfrm>
              <a:off x="5305320" y="1104840"/>
              <a:ext cx="916200" cy="835200"/>
            </a:xfrm>
            <a:prstGeom prst="rect">
              <a:avLst/>
            </a:prstGeom>
            <a:solidFill>
              <a:srgbClr val="264796"/>
            </a:solidFill>
            <a:ln w="0">
              <a:noFill/>
            </a:ln>
            <a:effectLst>
              <a:outerShdw dist="19080" dir="5400000" blurRad="0" rotWithShape="0">
                <a:srgbClr val="000000">
                  <a:alpha val="6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grpSp>
          <p:nvGrpSpPr>
            <p:cNvPr id="834" name="Google Shape;732;p43"/>
            <p:cNvGrpSpPr/>
            <p:nvPr/>
          </p:nvGrpSpPr>
          <p:grpSpPr>
            <a:xfrm>
              <a:off x="5464080" y="1296360"/>
              <a:ext cx="609480" cy="502920"/>
              <a:chOff x="5464080" y="1296360"/>
              <a:chExt cx="609480" cy="502920"/>
            </a:xfrm>
          </p:grpSpPr>
          <p:sp>
            <p:nvSpPr>
              <p:cNvPr id="835" name="Google Shape;733;p43"/>
              <p:cNvSpPr/>
              <p:nvPr/>
            </p:nvSpPr>
            <p:spPr>
              <a:xfrm>
                <a:off x="5963760" y="1731240"/>
                <a:ext cx="85320" cy="68040"/>
              </a:xfrm>
              <a:custGeom>
                <a:avLst/>
                <a:gdLst/>
                <a:ahLst/>
                <a:rect l="l" t="t" r="r" b="b"/>
                <a:pathLst>
                  <a:path fill="none" w="2631" h="2096">
                    <a:moveTo>
                      <a:pt x="1" y="1"/>
                    </a:moveTo>
                    <a:lnTo>
                      <a:pt x="1" y="780"/>
                    </a:lnTo>
                    <a:lnTo>
                      <a:pt x="25" y="1048"/>
                    </a:lnTo>
                    <a:lnTo>
                      <a:pt x="122" y="1291"/>
                    </a:lnTo>
                    <a:lnTo>
                      <a:pt x="244" y="1511"/>
                    </a:lnTo>
                    <a:lnTo>
                      <a:pt x="390" y="1705"/>
                    </a:lnTo>
                    <a:lnTo>
                      <a:pt x="585" y="1852"/>
                    </a:lnTo>
                    <a:lnTo>
                      <a:pt x="804" y="1973"/>
                    </a:lnTo>
                    <a:lnTo>
                      <a:pt x="1048" y="2071"/>
                    </a:lnTo>
                    <a:lnTo>
                      <a:pt x="1316" y="2095"/>
                    </a:lnTo>
                    <a:lnTo>
                      <a:pt x="1584" y="2071"/>
                    </a:lnTo>
                    <a:lnTo>
                      <a:pt x="1827" y="1973"/>
                    </a:lnTo>
                    <a:lnTo>
                      <a:pt x="2046" y="1852"/>
                    </a:lnTo>
                    <a:lnTo>
                      <a:pt x="2241" y="1705"/>
                    </a:lnTo>
                    <a:lnTo>
                      <a:pt x="2412" y="1511"/>
                    </a:lnTo>
                    <a:lnTo>
                      <a:pt x="2533" y="1291"/>
                    </a:lnTo>
                    <a:lnTo>
                      <a:pt x="2607" y="1048"/>
                    </a:lnTo>
                    <a:lnTo>
                      <a:pt x="2631" y="780"/>
                    </a:lnTo>
                    <a:lnTo>
                      <a:pt x="2631" y="1"/>
                    </a:lnTo>
                  </a:path>
                </a:pathLst>
              </a:custGeom>
              <a:noFill/>
              <a:ln cap="rnd" w="12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-23040" bIns="-23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  <p:sp>
            <p:nvSpPr>
              <p:cNvPr id="836" name="Google Shape;734;p43"/>
              <p:cNvSpPr/>
              <p:nvPr/>
            </p:nvSpPr>
            <p:spPr>
              <a:xfrm>
                <a:off x="5488560" y="1731240"/>
                <a:ext cx="85320" cy="68040"/>
              </a:xfrm>
              <a:custGeom>
                <a:avLst/>
                <a:gdLst/>
                <a:ahLst/>
                <a:rect l="l" t="t" r="r" b="b"/>
                <a:pathLst>
                  <a:path fill="none" w="2631" h="2096">
                    <a:moveTo>
                      <a:pt x="1" y="1"/>
                    </a:moveTo>
                    <a:lnTo>
                      <a:pt x="1" y="780"/>
                    </a:lnTo>
                    <a:lnTo>
                      <a:pt x="25" y="1048"/>
                    </a:lnTo>
                    <a:lnTo>
                      <a:pt x="98" y="1291"/>
                    </a:lnTo>
                    <a:lnTo>
                      <a:pt x="220" y="1511"/>
                    </a:lnTo>
                    <a:lnTo>
                      <a:pt x="390" y="1705"/>
                    </a:lnTo>
                    <a:lnTo>
                      <a:pt x="585" y="1852"/>
                    </a:lnTo>
                    <a:lnTo>
                      <a:pt x="804" y="1973"/>
                    </a:lnTo>
                    <a:lnTo>
                      <a:pt x="1048" y="2071"/>
                    </a:lnTo>
                    <a:lnTo>
                      <a:pt x="1316" y="2095"/>
                    </a:lnTo>
                    <a:lnTo>
                      <a:pt x="1584" y="2071"/>
                    </a:lnTo>
                    <a:lnTo>
                      <a:pt x="1827" y="1973"/>
                    </a:lnTo>
                    <a:lnTo>
                      <a:pt x="2046" y="1852"/>
                    </a:lnTo>
                    <a:lnTo>
                      <a:pt x="2241" y="1705"/>
                    </a:lnTo>
                    <a:lnTo>
                      <a:pt x="2387" y="1511"/>
                    </a:lnTo>
                    <a:lnTo>
                      <a:pt x="2509" y="1291"/>
                    </a:lnTo>
                    <a:lnTo>
                      <a:pt x="2607" y="1048"/>
                    </a:lnTo>
                    <a:lnTo>
                      <a:pt x="2631" y="780"/>
                    </a:lnTo>
                    <a:lnTo>
                      <a:pt x="2631" y="1"/>
                    </a:lnTo>
                  </a:path>
                </a:pathLst>
              </a:custGeom>
              <a:noFill/>
              <a:ln cap="rnd" w="12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-23040" bIns="-23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  <p:sp>
            <p:nvSpPr>
              <p:cNvPr id="837" name="Google Shape;735;p43"/>
              <p:cNvSpPr/>
              <p:nvPr/>
            </p:nvSpPr>
            <p:spPr>
              <a:xfrm>
                <a:off x="5464080" y="1296360"/>
                <a:ext cx="609480" cy="432720"/>
              </a:xfrm>
              <a:custGeom>
                <a:avLst/>
                <a:gdLst/>
                <a:ahLst/>
                <a:rect l="l" t="t" r="r" b="b"/>
                <a:pathLst>
                  <a:path fill="none" w="18754" h="13323">
                    <a:moveTo>
                      <a:pt x="18754" y="5553"/>
                    </a:moveTo>
                    <a:lnTo>
                      <a:pt x="18754" y="5553"/>
                    </a:lnTo>
                    <a:lnTo>
                      <a:pt x="18730" y="5334"/>
                    </a:lnTo>
                    <a:lnTo>
                      <a:pt x="18681" y="5091"/>
                    </a:lnTo>
                    <a:lnTo>
                      <a:pt x="18583" y="4847"/>
                    </a:lnTo>
                    <a:lnTo>
                      <a:pt x="18462" y="4628"/>
                    </a:lnTo>
                    <a:lnTo>
                      <a:pt x="18291" y="4433"/>
                    </a:lnTo>
                    <a:lnTo>
                      <a:pt x="18121" y="4287"/>
                    </a:lnTo>
                    <a:lnTo>
                      <a:pt x="18023" y="4214"/>
                    </a:lnTo>
                    <a:lnTo>
                      <a:pt x="17926" y="4165"/>
                    </a:lnTo>
                    <a:lnTo>
                      <a:pt x="17828" y="4141"/>
                    </a:lnTo>
                    <a:lnTo>
                      <a:pt x="17731" y="4141"/>
                    </a:lnTo>
                    <a:lnTo>
                      <a:pt x="16489" y="4141"/>
                    </a:lnTo>
                    <a:lnTo>
                      <a:pt x="15588" y="1803"/>
                    </a:lnTo>
                    <a:lnTo>
                      <a:pt x="15490" y="1583"/>
                    </a:lnTo>
                    <a:lnTo>
                      <a:pt x="15344" y="1364"/>
                    </a:lnTo>
                    <a:lnTo>
                      <a:pt x="15174" y="1169"/>
                    </a:lnTo>
                    <a:lnTo>
                      <a:pt x="15003" y="975"/>
                    </a:lnTo>
                    <a:lnTo>
                      <a:pt x="14784" y="804"/>
                    </a:lnTo>
                    <a:lnTo>
                      <a:pt x="14565" y="658"/>
                    </a:lnTo>
                    <a:lnTo>
                      <a:pt x="14346" y="536"/>
                    </a:lnTo>
                    <a:lnTo>
                      <a:pt x="14102" y="439"/>
                    </a:lnTo>
                    <a:lnTo>
                      <a:pt x="13810" y="390"/>
                    </a:lnTo>
                    <a:lnTo>
                      <a:pt x="13444" y="317"/>
                    </a:lnTo>
                    <a:lnTo>
                      <a:pt x="12933" y="220"/>
                    </a:lnTo>
                    <a:lnTo>
                      <a:pt x="12275" y="147"/>
                    </a:lnTo>
                    <a:lnTo>
                      <a:pt x="11472" y="73"/>
                    </a:lnTo>
                    <a:lnTo>
                      <a:pt x="10498" y="25"/>
                    </a:lnTo>
                    <a:lnTo>
                      <a:pt x="9377" y="0"/>
                    </a:lnTo>
                    <a:lnTo>
                      <a:pt x="8257" y="25"/>
                    </a:lnTo>
                    <a:lnTo>
                      <a:pt x="7283" y="73"/>
                    </a:lnTo>
                    <a:lnTo>
                      <a:pt x="6479" y="147"/>
                    </a:lnTo>
                    <a:lnTo>
                      <a:pt x="5821" y="220"/>
                    </a:lnTo>
                    <a:lnTo>
                      <a:pt x="5310" y="317"/>
                    </a:lnTo>
                    <a:lnTo>
                      <a:pt x="4945" y="390"/>
                    </a:lnTo>
                    <a:lnTo>
                      <a:pt x="4652" y="439"/>
                    </a:lnTo>
                    <a:lnTo>
                      <a:pt x="4409" y="536"/>
                    </a:lnTo>
                    <a:lnTo>
                      <a:pt x="4190" y="658"/>
                    </a:lnTo>
                    <a:lnTo>
                      <a:pt x="3970" y="804"/>
                    </a:lnTo>
                    <a:lnTo>
                      <a:pt x="3751" y="975"/>
                    </a:lnTo>
                    <a:lnTo>
                      <a:pt x="3581" y="1169"/>
                    </a:lnTo>
                    <a:lnTo>
                      <a:pt x="3410" y="1364"/>
                    </a:lnTo>
                    <a:lnTo>
                      <a:pt x="3264" y="1583"/>
                    </a:lnTo>
                    <a:lnTo>
                      <a:pt x="3167" y="1803"/>
                    </a:lnTo>
                    <a:lnTo>
                      <a:pt x="2266" y="4141"/>
                    </a:lnTo>
                    <a:lnTo>
                      <a:pt x="1023" y="4141"/>
                    </a:lnTo>
                    <a:lnTo>
                      <a:pt x="926" y="4141"/>
                    </a:lnTo>
                    <a:lnTo>
                      <a:pt x="829" y="4165"/>
                    </a:lnTo>
                    <a:lnTo>
                      <a:pt x="731" y="4214"/>
                    </a:lnTo>
                    <a:lnTo>
                      <a:pt x="634" y="4287"/>
                    </a:lnTo>
                    <a:lnTo>
                      <a:pt x="463" y="4433"/>
                    </a:lnTo>
                    <a:lnTo>
                      <a:pt x="293" y="4628"/>
                    </a:lnTo>
                    <a:lnTo>
                      <a:pt x="171" y="4847"/>
                    </a:lnTo>
                    <a:lnTo>
                      <a:pt x="74" y="5091"/>
                    </a:lnTo>
                    <a:lnTo>
                      <a:pt x="25" y="5334"/>
                    </a:lnTo>
                    <a:lnTo>
                      <a:pt x="1" y="5553"/>
                    </a:lnTo>
                    <a:lnTo>
                      <a:pt x="25" y="5748"/>
                    </a:lnTo>
                    <a:lnTo>
                      <a:pt x="74" y="5894"/>
                    </a:lnTo>
                    <a:lnTo>
                      <a:pt x="171" y="6016"/>
                    </a:lnTo>
                    <a:lnTo>
                      <a:pt x="293" y="6089"/>
                    </a:lnTo>
                    <a:lnTo>
                      <a:pt x="463" y="6138"/>
                    </a:lnTo>
                    <a:lnTo>
                      <a:pt x="634" y="6187"/>
                    </a:lnTo>
                    <a:lnTo>
                      <a:pt x="1023" y="6187"/>
                    </a:lnTo>
                    <a:lnTo>
                      <a:pt x="1462" y="6187"/>
                    </a:lnTo>
                    <a:lnTo>
                      <a:pt x="1145" y="7015"/>
                    </a:lnTo>
                    <a:lnTo>
                      <a:pt x="999" y="7526"/>
                    </a:lnTo>
                    <a:lnTo>
                      <a:pt x="877" y="8086"/>
                    </a:lnTo>
                    <a:lnTo>
                      <a:pt x="780" y="8671"/>
                    </a:lnTo>
                    <a:lnTo>
                      <a:pt x="756" y="9207"/>
                    </a:lnTo>
                    <a:lnTo>
                      <a:pt x="756" y="13323"/>
                    </a:lnTo>
                    <a:lnTo>
                      <a:pt x="17999" y="13323"/>
                    </a:lnTo>
                    <a:lnTo>
                      <a:pt x="17999" y="9207"/>
                    </a:lnTo>
                    <a:lnTo>
                      <a:pt x="17975" y="8671"/>
                    </a:lnTo>
                    <a:lnTo>
                      <a:pt x="17877" y="8086"/>
                    </a:lnTo>
                    <a:lnTo>
                      <a:pt x="17755" y="7526"/>
                    </a:lnTo>
                    <a:lnTo>
                      <a:pt x="17609" y="7015"/>
                    </a:lnTo>
                    <a:lnTo>
                      <a:pt x="17293" y="6187"/>
                    </a:lnTo>
                    <a:lnTo>
                      <a:pt x="17731" y="6187"/>
                    </a:lnTo>
                    <a:lnTo>
                      <a:pt x="18121" y="6187"/>
                    </a:lnTo>
                    <a:lnTo>
                      <a:pt x="18291" y="6138"/>
                    </a:lnTo>
                    <a:lnTo>
                      <a:pt x="18462" y="6089"/>
                    </a:lnTo>
                    <a:lnTo>
                      <a:pt x="18583" y="6016"/>
                    </a:lnTo>
                    <a:lnTo>
                      <a:pt x="18681" y="5894"/>
                    </a:lnTo>
                    <a:lnTo>
                      <a:pt x="18730" y="5748"/>
                    </a:lnTo>
                    <a:lnTo>
                      <a:pt x="18754" y="5553"/>
                    </a:lnTo>
                  </a:path>
                </a:pathLst>
              </a:custGeom>
              <a:noFill/>
              <a:ln cap="rnd" w="12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91080" bIns="91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  <p:sp>
            <p:nvSpPr>
              <p:cNvPr id="838" name="Google Shape;736;p43"/>
              <p:cNvSpPr/>
              <p:nvPr/>
            </p:nvSpPr>
            <p:spPr>
              <a:xfrm>
                <a:off x="5571720" y="1339560"/>
                <a:ext cx="394200" cy="194400"/>
              </a:xfrm>
              <a:custGeom>
                <a:avLst/>
                <a:gdLst/>
                <a:ahLst/>
                <a:rect l="l" t="t" r="r" b="b"/>
                <a:pathLst>
                  <a:path fill="none" w="12130" h="5993">
                    <a:moveTo>
                      <a:pt x="1" y="4628"/>
                    </a:moveTo>
                    <a:lnTo>
                      <a:pt x="1" y="4628"/>
                    </a:lnTo>
                    <a:lnTo>
                      <a:pt x="171" y="4019"/>
                    </a:lnTo>
                    <a:lnTo>
                      <a:pt x="585" y="2656"/>
                    </a:lnTo>
                    <a:lnTo>
                      <a:pt x="805" y="1925"/>
                    </a:lnTo>
                    <a:lnTo>
                      <a:pt x="1024" y="1292"/>
                    </a:lnTo>
                    <a:lnTo>
                      <a:pt x="1194" y="829"/>
                    </a:lnTo>
                    <a:lnTo>
                      <a:pt x="1267" y="707"/>
                    </a:lnTo>
                    <a:lnTo>
                      <a:pt x="1316" y="658"/>
                    </a:lnTo>
                    <a:lnTo>
                      <a:pt x="1535" y="561"/>
                    </a:lnTo>
                    <a:lnTo>
                      <a:pt x="1852" y="464"/>
                    </a:lnTo>
                    <a:lnTo>
                      <a:pt x="2315" y="342"/>
                    </a:lnTo>
                    <a:lnTo>
                      <a:pt x="2948" y="220"/>
                    </a:lnTo>
                    <a:lnTo>
                      <a:pt x="3776" y="98"/>
                    </a:lnTo>
                    <a:lnTo>
                      <a:pt x="4799" y="25"/>
                    </a:lnTo>
                    <a:lnTo>
                      <a:pt x="5408" y="1"/>
                    </a:lnTo>
                    <a:lnTo>
                      <a:pt x="6065" y="1"/>
                    </a:lnTo>
                    <a:lnTo>
                      <a:pt x="6723" y="1"/>
                    </a:lnTo>
                    <a:lnTo>
                      <a:pt x="7332" y="25"/>
                    </a:lnTo>
                    <a:lnTo>
                      <a:pt x="8355" y="98"/>
                    </a:lnTo>
                    <a:lnTo>
                      <a:pt x="9183" y="220"/>
                    </a:lnTo>
                    <a:lnTo>
                      <a:pt x="9816" y="342"/>
                    </a:lnTo>
                    <a:lnTo>
                      <a:pt x="10279" y="464"/>
                    </a:lnTo>
                    <a:lnTo>
                      <a:pt x="10595" y="561"/>
                    </a:lnTo>
                    <a:lnTo>
                      <a:pt x="10814" y="658"/>
                    </a:lnTo>
                    <a:lnTo>
                      <a:pt x="10863" y="707"/>
                    </a:lnTo>
                    <a:lnTo>
                      <a:pt x="10936" y="829"/>
                    </a:lnTo>
                    <a:lnTo>
                      <a:pt x="11107" y="1292"/>
                    </a:lnTo>
                    <a:lnTo>
                      <a:pt x="11326" y="1925"/>
                    </a:lnTo>
                    <a:lnTo>
                      <a:pt x="11545" y="2656"/>
                    </a:lnTo>
                    <a:lnTo>
                      <a:pt x="11959" y="4019"/>
                    </a:lnTo>
                    <a:lnTo>
                      <a:pt x="12130" y="4628"/>
                    </a:lnTo>
                    <a:lnTo>
                      <a:pt x="12105" y="4677"/>
                    </a:lnTo>
                    <a:lnTo>
                      <a:pt x="12057" y="4750"/>
                    </a:lnTo>
                    <a:lnTo>
                      <a:pt x="11959" y="4823"/>
                    </a:lnTo>
                    <a:lnTo>
                      <a:pt x="11813" y="4921"/>
                    </a:lnTo>
                    <a:lnTo>
                      <a:pt x="11618" y="5042"/>
                    </a:lnTo>
                    <a:lnTo>
                      <a:pt x="11375" y="5164"/>
                    </a:lnTo>
                    <a:lnTo>
                      <a:pt x="11058" y="5262"/>
                    </a:lnTo>
                    <a:lnTo>
                      <a:pt x="10717" y="5383"/>
                    </a:lnTo>
                    <a:lnTo>
                      <a:pt x="10327" y="5505"/>
                    </a:lnTo>
                    <a:lnTo>
                      <a:pt x="9865" y="5627"/>
                    </a:lnTo>
                    <a:lnTo>
                      <a:pt x="9377" y="5724"/>
                    </a:lnTo>
                    <a:lnTo>
                      <a:pt x="8817" y="5822"/>
                    </a:lnTo>
                    <a:lnTo>
                      <a:pt x="8208" y="5895"/>
                    </a:lnTo>
                    <a:lnTo>
                      <a:pt x="7551" y="5944"/>
                    </a:lnTo>
                    <a:lnTo>
                      <a:pt x="6845" y="5992"/>
                    </a:lnTo>
                    <a:lnTo>
                      <a:pt x="6065" y="5992"/>
                    </a:lnTo>
                    <a:lnTo>
                      <a:pt x="5286" y="5992"/>
                    </a:lnTo>
                    <a:lnTo>
                      <a:pt x="4580" y="5944"/>
                    </a:lnTo>
                    <a:lnTo>
                      <a:pt x="3922" y="5895"/>
                    </a:lnTo>
                    <a:lnTo>
                      <a:pt x="3313" y="5822"/>
                    </a:lnTo>
                    <a:lnTo>
                      <a:pt x="2753" y="5724"/>
                    </a:lnTo>
                    <a:lnTo>
                      <a:pt x="2266" y="5627"/>
                    </a:lnTo>
                    <a:lnTo>
                      <a:pt x="1803" y="5505"/>
                    </a:lnTo>
                    <a:lnTo>
                      <a:pt x="1413" y="5383"/>
                    </a:lnTo>
                    <a:lnTo>
                      <a:pt x="1072" y="5262"/>
                    </a:lnTo>
                    <a:lnTo>
                      <a:pt x="756" y="5164"/>
                    </a:lnTo>
                    <a:lnTo>
                      <a:pt x="512" y="5042"/>
                    </a:lnTo>
                    <a:lnTo>
                      <a:pt x="317" y="4921"/>
                    </a:lnTo>
                    <a:lnTo>
                      <a:pt x="171" y="4823"/>
                    </a:lnTo>
                    <a:lnTo>
                      <a:pt x="74" y="4750"/>
                    </a:lnTo>
                    <a:lnTo>
                      <a:pt x="25" y="4677"/>
                    </a:lnTo>
                    <a:lnTo>
                      <a:pt x="1" y="4628"/>
                    </a:lnTo>
                  </a:path>
                </a:pathLst>
              </a:custGeom>
              <a:noFill/>
              <a:ln cap="rnd" w="12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91080" bIns="91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  <p:sp>
            <p:nvSpPr>
              <p:cNvPr id="839" name="Google Shape;737;p43"/>
              <p:cNvSpPr/>
              <p:nvPr/>
            </p:nvSpPr>
            <p:spPr>
              <a:xfrm>
                <a:off x="5540040" y="1591200"/>
                <a:ext cx="105120" cy="84600"/>
              </a:xfrm>
              <a:custGeom>
                <a:avLst/>
                <a:gdLst/>
                <a:ahLst/>
                <a:rect l="l" t="t" r="r" b="b"/>
                <a:pathLst>
                  <a:path fill="none" w="3240" h="2607">
                    <a:moveTo>
                      <a:pt x="1632" y="2607"/>
                    </a:moveTo>
                    <a:lnTo>
                      <a:pt x="1632" y="2607"/>
                    </a:lnTo>
                    <a:lnTo>
                      <a:pt x="1291" y="2582"/>
                    </a:lnTo>
                    <a:lnTo>
                      <a:pt x="999" y="2509"/>
                    </a:lnTo>
                    <a:lnTo>
                      <a:pt x="731" y="2388"/>
                    </a:lnTo>
                    <a:lnTo>
                      <a:pt x="488" y="2217"/>
                    </a:lnTo>
                    <a:lnTo>
                      <a:pt x="293" y="2047"/>
                    </a:lnTo>
                    <a:lnTo>
                      <a:pt x="122" y="1803"/>
                    </a:lnTo>
                    <a:lnTo>
                      <a:pt x="74" y="1706"/>
                    </a:lnTo>
                    <a:lnTo>
                      <a:pt x="49" y="1559"/>
                    </a:lnTo>
                    <a:lnTo>
                      <a:pt x="25" y="1438"/>
                    </a:lnTo>
                    <a:lnTo>
                      <a:pt x="1" y="1316"/>
                    </a:lnTo>
                    <a:lnTo>
                      <a:pt x="25" y="1170"/>
                    </a:lnTo>
                    <a:lnTo>
                      <a:pt x="49" y="1048"/>
                    </a:lnTo>
                    <a:lnTo>
                      <a:pt x="74" y="926"/>
                    </a:lnTo>
                    <a:lnTo>
                      <a:pt x="122" y="804"/>
                    </a:lnTo>
                    <a:lnTo>
                      <a:pt x="293" y="585"/>
                    </a:lnTo>
                    <a:lnTo>
                      <a:pt x="488" y="390"/>
                    </a:lnTo>
                    <a:lnTo>
                      <a:pt x="731" y="220"/>
                    </a:lnTo>
                    <a:lnTo>
                      <a:pt x="999" y="98"/>
                    </a:lnTo>
                    <a:lnTo>
                      <a:pt x="1291" y="25"/>
                    </a:lnTo>
                    <a:lnTo>
                      <a:pt x="1632" y="1"/>
                    </a:lnTo>
                    <a:lnTo>
                      <a:pt x="1803" y="1"/>
                    </a:lnTo>
                    <a:lnTo>
                      <a:pt x="1949" y="49"/>
                    </a:lnTo>
                    <a:lnTo>
                      <a:pt x="2120" y="98"/>
                    </a:lnTo>
                    <a:lnTo>
                      <a:pt x="2266" y="171"/>
                    </a:lnTo>
                    <a:lnTo>
                      <a:pt x="2412" y="269"/>
                    </a:lnTo>
                    <a:lnTo>
                      <a:pt x="2534" y="390"/>
                    </a:lnTo>
                    <a:lnTo>
                      <a:pt x="2777" y="634"/>
                    </a:lnTo>
                    <a:lnTo>
                      <a:pt x="2972" y="926"/>
                    </a:lnTo>
                    <a:lnTo>
                      <a:pt x="3118" y="1219"/>
                    </a:lnTo>
                    <a:lnTo>
                      <a:pt x="3215" y="1535"/>
                    </a:lnTo>
                    <a:lnTo>
                      <a:pt x="3240" y="1681"/>
                    </a:lnTo>
                    <a:lnTo>
                      <a:pt x="3240" y="1803"/>
                    </a:lnTo>
                    <a:lnTo>
                      <a:pt x="3240" y="1949"/>
                    </a:lnTo>
                    <a:lnTo>
                      <a:pt x="3215" y="2047"/>
                    </a:lnTo>
                    <a:lnTo>
                      <a:pt x="3167" y="2144"/>
                    </a:lnTo>
                    <a:lnTo>
                      <a:pt x="3118" y="2241"/>
                    </a:lnTo>
                    <a:lnTo>
                      <a:pt x="3045" y="2314"/>
                    </a:lnTo>
                    <a:lnTo>
                      <a:pt x="2972" y="2388"/>
                    </a:lnTo>
                    <a:lnTo>
                      <a:pt x="2777" y="2485"/>
                    </a:lnTo>
                    <a:lnTo>
                      <a:pt x="2534" y="2558"/>
                    </a:lnTo>
                    <a:lnTo>
                      <a:pt x="2266" y="2582"/>
                    </a:lnTo>
                    <a:lnTo>
                      <a:pt x="1949" y="2607"/>
                    </a:lnTo>
                    <a:lnTo>
                      <a:pt x="1632" y="2607"/>
                    </a:lnTo>
                  </a:path>
                </a:pathLst>
              </a:custGeom>
              <a:noFill/>
              <a:ln cap="rnd" w="12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-6480" bIns="-6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  <p:sp>
            <p:nvSpPr>
              <p:cNvPr id="840" name="Google Shape;738;p43"/>
              <p:cNvSpPr/>
              <p:nvPr/>
            </p:nvSpPr>
            <p:spPr>
              <a:xfrm>
                <a:off x="5696640" y="1652400"/>
                <a:ext cx="144000" cy="360"/>
              </a:xfrm>
              <a:custGeom>
                <a:avLst/>
                <a:gdLst/>
                <a:ahLst/>
                <a:rect l="l" t="t" r="r" b="b"/>
                <a:pathLst>
                  <a:path fill="none" w="4434" h="1">
                    <a:moveTo>
                      <a:pt x="1" y="0"/>
                    </a:moveTo>
                    <a:lnTo>
                      <a:pt x="4434" y="0"/>
                    </a:lnTo>
                  </a:path>
                </a:pathLst>
              </a:custGeom>
              <a:noFill/>
              <a:ln cap="rnd" w="12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-90720" bIns="-90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  <p:sp>
            <p:nvSpPr>
              <p:cNvPr id="841" name="Google Shape;739;p43"/>
              <p:cNvSpPr/>
              <p:nvPr/>
            </p:nvSpPr>
            <p:spPr>
              <a:xfrm>
                <a:off x="5687280" y="1617480"/>
                <a:ext cx="163080" cy="360"/>
              </a:xfrm>
              <a:custGeom>
                <a:avLst/>
                <a:gdLst/>
                <a:ahLst/>
                <a:rect l="l" t="t" r="r" b="b"/>
                <a:pathLst>
                  <a:path fill="none" w="5018" h="1">
                    <a:moveTo>
                      <a:pt x="1" y="0"/>
                    </a:moveTo>
                    <a:lnTo>
                      <a:pt x="5018" y="0"/>
                    </a:lnTo>
                  </a:path>
                </a:pathLst>
              </a:custGeom>
              <a:noFill/>
              <a:ln cap="rnd" w="12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-90720" bIns="-90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  <p:sp>
            <p:nvSpPr>
              <p:cNvPr id="842" name="Google Shape;740;p43"/>
              <p:cNvSpPr/>
              <p:nvPr/>
            </p:nvSpPr>
            <p:spPr>
              <a:xfrm>
                <a:off x="5892480" y="1591200"/>
                <a:ext cx="105120" cy="84600"/>
              </a:xfrm>
              <a:custGeom>
                <a:avLst/>
                <a:gdLst/>
                <a:ahLst/>
                <a:rect l="l" t="t" r="r" b="b"/>
                <a:pathLst>
                  <a:path fill="none" w="3240" h="2607">
                    <a:moveTo>
                      <a:pt x="1608" y="2607"/>
                    </a:moveTo>
                    <a:lnTo>
                      <a:pt x="1608" y="2607"/>
                    </a:lnTo>
                    <a:lnTo>
                      <a:pt x="1291" y="2607"/>
                    </a:lnTo>
                    <a:lnTo>
                      <a:pt x="975" y="2582"/>
                    </a:lnTo>
                    <a:lnTo>
                      <a:pt x="707" y="2558"/>
                    </a:lnTo>
                    <a:lnTo>
                      <a:pt x="463" y="2485"/>
                    </a:lnTo>
                    <a:lnTo>
                      <a:pt x="268" y="2388"/>
                    </a:lnTo>
                    <a:lnTo>
                      <a:pt x="195" y="2314"/>
                    </a:lnTo>
                    <a:lnTo>
                      <a:pt x="122" y="2241"/>
                    </a:lnTo>
                    <a:lnTo>
                      <a:pt x="74" y="2144"/>
                    </a:lnTo>
                    <a:lnTo>
                      <a:pt x="25" y="2047"/>
                    </a:lnTo>
                    <a:lnTo>
                      <a:pt x="1" y="1949"/>
                    </a:lnTo>
                    <a:lnTo>
                      <a:pt x="1" y="1803"/>
                    </a:lnTo>
                    <a:lnTo>
                      <a:pt x="1" y="1681"/>
                    </a:lnTo>
                    <a:lnTo>
                      <a:pt x="25" y="1535"/>
                    </a:lnTo>
                    <a:lnTo>
                      <a:pt x="122" y="1219"/>
                    </a:lnTo>
                    <a:lnTo>
                      <a:pt x="268" y="926"/>
                    </a:lnTo>
                    <a:lnTo>
                      <a:pt x="463" y="634"/>
                    </a:lnTo>
                    <a:lnTo>
                      <a:pt x="707" y="390"/>
                    </a:lnTo>
                    <a:lnTo>
                      <a:pt x="829" y="269"/>
                    </a:lnTo>
                    <a:lnTo>
                      <a:pt x="975" y="171"/>
                    </a:lnTo>
                    <a:lnTo>
                      <a:pt x="1121" y="98"/>
                    </a:lnTo>
                    <a:lnTo>
                      <a:pt x="1291" y="49"/>
                    </a:lnTo>
                    <a:lnTo>
                      <a:pt x="1438" y="1"/>
                    </a:lnTo>
                    <a:lnTo>
                      <a:pt x="1608" y="1"/>
                    </a:lnTo>
                    <a:lnTo>
                      <a:pt x="1949" y="25"/>
                    </a:lnTo>
                    <a:lnTo>
                      <a:pt x="2241" y="98"/>
                    </a:lnTo>
                    <a:lnTo>
                      <a:pt x="2509" y="220"/>
                    </a:lnTo>
                    <a:lnTo>
                      <a:pt x="2753" y="390"/>
                    </a:lnTo>
                    <a:lnTo>
                      <a:pt x="2948" y="585"/>
                    </a:lnTo>
                    <a:lnTo>
                      <a:pt x="3118" y="804"/>
                    </a:lnTo>
                    <a:lnTo>
                      <a:pt x="3167" y="926"/>
                    </a:lnTo>
                    <a:lnTo>
                      <a:pt x="3191" y="1048"/>
                    </a:lnTo>
                    <a:lnTo>
                      <a:pt x="3215" y="1170"/>
                    </a:lnTo>
                    <a:lnTo>
                      <a:pt x="3240" y="1316"/>
                    </a:lnTo>
                    <a:lnTo>
                      <a:pt x="3215" y="1438"/>
                    </a:lnTo>
                    <a:lnTo>
                      <a:pt x="3191" y="1559"/>
                    </a:lnTo>
                    <a:lnTo>
                      <a:pt x="3167" y="1706"/>
                    </a:lnTo>
                    <a:lnTo>
                      <a:pt x="3118" y="1803"/>
                    </a:lnTo>
                    <a:lnTo>
                      <a:pt x="2948" y="2047"/>
                    </a:lnTo>
                    <a:lnTo>
                      <a:pt x="2753" y="2217"/>
                    </a:lnTo>
                    <a:lnTo>
                      <a:pt x="2509" y="2388"/>
                    </a:lnTo>
                    <a:lnTo>
                      <a:pt x="2241" y="2509"/>
                    </a:lnTo>
                    <a:lnTo>
                      <a:pt x="1949" y="2582"/>
                    </a:lnTo>
                    <a:lnTo>
                      <a:pt x="1608" y="2607"/>
                    </a:lnTo>
                  </a:path>
                </a:pathLst>
              </a:custGeom>
              <a:noFill/>
              <a:ln cap="rnd" w="12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-6480" bIns="-6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843" name="TextBox 40"/>
          <p:cNvSpPr/>
          <p:nvPr/>
        </p:nvSpPr>
        <p:spPr>
          <a:xfrm>
            <a:off x="3247920" y="4349880"/>
            <a:ext cx="27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info@chiro74.ru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4" name="TextBox 41"/>
          <p:cNvSpPr/>
          <p:nvPr/>
        </p:nvSpPr>
        <p:spPr>
          <a:xfrm>
            <a:off x="5226120" y="4356000"/>
            <a:ext cx="314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8 (351) 217 30 89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5" name="TextBox 43"/>
          <p:cNvSpPr/>
          <p:nvPr/>
        </p:nvSpPr>
        <p:spPr>
          <a:xfrm>
            <a:off x="2774880" y="2052720"/>
            <a:ext cx="6112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454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111, г. Челябинск, ул. Комсомольская, д. 20А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454087, г. Челябинск, ул. Блюхера, д. 9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454091, г. Челябинск, ул. Красноармейская, д. 88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454048, г. Челябинск, ул. Худякова, д. 20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6" name="Google Shape;59;g142ea23b5d2_0_0"/>
          <p:cNvSpPr/>
          <p:nvPr/>
        </p:nvSpPr>
        <p:spPr>
          <a:xfrm>
            <a:off x="3944880" y="4637160"/>
            <a:ext cx="36594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121680" bIns="121680" anchor="t">
            <a:spAutoFit/>
          </a:bodyPr>
          <a:p>
            <a:pPr marL="15840" algn="ctr">
              <a:lnSpc>
                <a:spcPct val="150000"/>
              </a:lnSpc>
              <a:spcBef>
                <a:spcPts val="1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03864"/>
                </a:solidFill>
                <a:latin typeface="Calibri"/>
                <a:ea typeface="Jost"/>
              </a:rPr>
              <a:t>МЫ В СОЦИАЛЬНЫХ СЕТЯХ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847" name="Группа 5"/>
          <p:cNvGrpSpPr/>
          <p:nvPr/>
        </p:nvGrpSpPr>
        <p:grpSpPr>
          <a:xfrm>
            <a:off x="6307200" y="3443400"/>
            <a:ext cx="984240" cy="903240"/>
            <a:chOff x="6307200" y="3443400"/>
            <a:chExt cx="984240" cy="903240"/>
          </a:xfrm>
        </p:grpSpPr>
        <p:sp>
          <p:nvSpPr>
            <p:cNvPr id="848" name="Прямоугольник 53"/>
            <p:cNvSpPr/>
            <p:nvPr/>
          </p:nvSpPr>
          <p:spPr>
            <a:xfrm>
              <a:off x="6307200" y="3443400"/>
              <a:ext cx="984240" cy="903240"/>
            </a:xfrm>
            <a:prstGeom prst="rect">
              <a:avLst/>
            </a:prstGeom>
            <a:solidFill>
              <a:srgbClr val="264796"/>
            </a:solidFill>
            <a:ln w="6480">
              <a:solidFill>
                <a:srgbClr val="4472c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849" name="Google Shape;653;p43"/>
            <p:cNvSpPr/>
            <p:nvPr/>
          </p:nvSpPr>
          <p:spPr>
            <a:xfrm>
              <a:off x="6585480" y="3562920"/>
              <a:ext cx="427320" cy="679320"/>
            </a:xfrm>
            <a:custGeom>
              <a:avLst/>
              <a:gdLst/>
              <a:ahLst/>
              <a:rect l="l" t="t" r="r" b="b"/>
              <a:pathLst>
                <a:path fill="none" w="11838" h="20508">
                  <a:moveTo>
                    <a:pt x="10547" y="1"/>
                  </a:moveTo>
                  <a:lnTo>
                    <a:pt x="1292" y="1"/>
                  </a:lnTo>
                  <a:lnTo>
                    <a:pt x="1024" y="25"/>
                  </a:lnTo>
                  <a:lnTo>
                    <a:pt x="780" y="98"/>
                  </a:lnTo>
                  <a:lnTo>
                    <a:pt x="561" y="220"/>
                  </a:lnTo>
                  <a:lnTo>
                    <a:pt x="366" y="366"/>
                  </a:lnTo>
                  <a:lnTo>
                    <a:pt x="220" y="561"/>
                  </a:lnTo>
                  <a:lnTo>
                    <a:pt x="98" y="780"/>
                  </a:lnTo>
                  <a:lnTo>
                    <a:pt x="25" y="1024"/>
                  </a:lnTo>
                  <a:lnTo>
                    <a:pt x="1" y="1292"/>
                  </a:lnTo>
                  <a:lnTo>
                    <a:pt x="1" y="19217"/>
                  </a:lnTo>
                  <a:lnTo>
                    <a:pt x="25" y="19485"/>
                  </a:lnTo>
                  <a:lnTo>
                    <a:pt x="98" y="19728"/>
                  </a:lnTo>
                  <a:lnTo>
                    <a:pt x="220" y="19948"/>
                  </a:lnTo>
                  <a:lnTo>
                    <a:pt x="366" y="20142"/>
                  </a:lnTo>
                  <a:lnTo>
                    <a:pt x="561" y="20289"/>
                  </a:lnTo>
                  <a:lnTo>
                    <a:pt x="780" y="20410"/>
                  </a:lnTo>
                  <a:lnTo>
                    <a:pt x="1024" y="20483"/>
                  </a:lnTo>
                  <a:lnTo>
                    <a:pt x="1292" y="20508"/>
                  </a:lnTo>
                  <a:lnTo>
                    <a:pt x="10547" y="20508"/>
                  </a:lnTo>
                  <a:lnTo>
                    <a:pt x="10814" y="20483"/>
                  </a:lnTo>
                  <a:lnTo>
                    <a:pt x="11058" y="20410"/>
                  </a:lnTo>
                  <a:lnTo>
                    <a:pt x="11277" y="20289"/>
                  </a:lnTo>
                  <a:lnTo>
                    <a:pt x="11472" y="20142"/>
                  </a:lnTo>
                  <a:lnTo>
                    <a:pt x="11618" y="19948"/>
                  </a:lnTo>
                  <a:lnTo>
                    <a:pt x="11740" y="19728"/>
                  </a:lnTo>
                  <a:lnTo>
                    <a:pt x="11813" y="19485"/>
                  </a:lnTo>
                  <a:lnTo>
                    <a:pt x="11837" y="19217"/>
                  </a:lnTo>
                  <a:lnTo>
                    <a:pt x="11837" y="1292"/>
                  </a:lnTo>
                  <a:lnTo>
                    <a:pt x="11813" y="1024"/>
                  </a:lnTo>
                  <a:lnTo>
                    <a:pt x="11740" y="780"/>
                  </a:lnTo>
                  <a:lnTo>
                    <a:pt x="11618" y="561"/>
                  </a:lnTo>
                  <a:lnTo>
                    <a:pt x="11472" y="366"/>
                  </a:lnTo>
                  <a:lnTo>
                    <a:pt x="11277" y="220"/>
                  </a:lnTo>
                  <a:lnTo>
                    <a:pt x="11058" y="98"/>
                  </a:lnTo>
                  <a:lnTo>
                    <a:pt x="10814" y="25"/>
                  </a:lnTo>
                  <a:lnTo>
                    <a:pt x="10547" y="1"/>
                  </a:lnTo>
                  <a:close/>
                  <a:moveTo>
                    <a:pt x="5554" y="975"/>
                  </a:moveTo>
                  <a:lnTo>
                    <a:pt x="6284" y="975"/>
                  </a:lnTo>
                  <a:lnTo>
                    <a:pt x="6406" y="999"/>
                  </a:lnTo>
                  <a:lnTo>
                    <a:pt x="6479" y="1073"/>
                  </a:lnTo>
                  <a:lnTo>
                    <a:pt x="6552" y="1146"/>
                  </a:lnTo>
                  <a:lnTo>
                    <a:pt x="6577" y="1267"/>
                  </a:lnTo>
                  <a:lnTo>
                    <a:pt x="6552" y="1365"/>
                  </a:lnTo>
                  <a:lnTo>
                    <a:pt x="6479" y="1462"/>
                  </a:lnTo>
                  <a:lnTo>
                    <a:pt x="6406" y="1511"/>
                  </a:lnTo>
                  <a:lnTo>
                    <a:pt x="6284" y="1535"/>
                  </a:lnTo>
                  <a:lnTo>
                    <a:pt x="5554" y="1535"/>
                  </a:lnTo>
                  <a:lnTo>
                    <a:pt x="5432" y="1511"/>
                  </a:lnTo>
                  <a:lnTo>
                    <a:pt x="5359" y="1462"/>
                  </a:lnTo>
                  <a:lnTo>
                    <a:pt x="5286" y="1365"/>
                  </a:lnTo>
                  <a:lnTo>
                    <a:pt x="5262" y="1267"/>
                  </a:lnTo>
                  <a:lnTo>
                    <a:pt x="5286" y="1146"/>
                  </a:lnTo>
                  <a:lnTo>
                    <a:pt x="5359" y="1073"/>
                  </a:lnTo>
                  <a:lnTo>
                    <a:pt x="5432" y="999"/>
                  </a:lnTo>
                  <a:lnTo>
                    <a:pt x="5554" y="975"/>
                  </a:lnTo>
                  <a:close/>
                  <a:moveTo>
                    <a:pt x="5919" y="19436"/>
                  </a:moveTo>
                  <a:lnTo>
                    <a:pt x="5919" y="19436"/>
                  </a:lnTo>
                  <a:lnTo>
                    <a:pt x="5749" y="19412"/>
                  </a:lnTo>
                  <a:lnTo>
                    <a:pt x="5578" y="19363"/>
                  </a:lnTo>
                  <a:lnTo>
                    <a:pt x="5432" y="19290"/>
                  </a:lnTo>
                  <a:lnTo>
                    <a:pt x="5310" y="19193"/>
                  </a:lnTo>
                  <a:lnTo>
                    <a:pt x="5213" y="19071"/>
                  </a:lnTo>
                  <a:lnTo>
                    <a:pt x="5140" y="18925"/>
                  </a:lnTo>
                  <a:lnTo>
                    <a:pt x="5091" y="18754"/>
                  </a:lnTo>
                  <a:lnTo>
                    <a:pt x="5067" y="18584"/>
                  </a:lnTo>
                  <a:lnTo>
                    <a:pt x="5091" y="18413"/>
                  </a:lnTo>
                  <a:lnTo>
                    <a:pt x="5140" y="18243"/>
                  </a:lnTo>
                  <a:lnTo>
                    <a:pt x="5213" y="18097"/>
                  </a:lnTo>
                  <a:lnTo>
                    <a:pt x="5310" y="17975"/>
                  </a:lnTo>
                  <a:lnTo>
                    <a:pt x="5432" y="17877"/>
                  </a:lnTo>
                  <a:lnTo>
                    <a:pt x="5578" y="17804"/>
                  </a:lnTo>
                  <a:lnTo>
                    <a:pt x="5749" y="17756"/>
                  </a:lnTo>
                  <a:lnTo>
                    <a:pt x="5919" y="17731"/>
                  </a:lnTo>
                  <a:lnTo>
                    <a:pt x="6090" y="17756"/>
                  </a:lnTo>
                  <a:lnTo>
                    <a:pt x="6260" y="17804"/>
                  </a:lnTo>
                  <a:lnTo>
                    <a:pt x="6406" y="17877"/>
                  </a:lnTo>
                  <a:lnTo>
                    <a:pt x="6528" y="17975"/>
                  </a:lnTo>
                  <a:lnTo>
                    <a:pt x="6625" y="18097"/>
                  </a:lnTo>
                  <a:lnTo>
                    <a:pt x="6699" y="18243"/>
                  </a:lnTo>
                  <a:lnTo>
                    <a:pt x="6747" y="18413"/>
                  </a:lnTo>
                  <a:lnTo>
                    <a:pt x="6772" y="18584"/>
                  </a:lnTo>
                  <a:lnTo>
                    <a:pt x="6747" y="18754"/>
                  </a:lnTo>
                  <a:lnTo>
                    <a:pt x="6699" y="18925"/>
                  </a:lnTo>
                  <a:lnTo>
                    <a:pt x="6625" y="19071"/>
                  </a:lnTo>
                  <a:lnTo>
                    <a:pt x="6528" y="19193"/>
                  </a:lnTo>
                  <a:lnTo>
                    <a:pt x="6406" y="19290"/>
                  </a:lnTo>
                  <a:lnTo>
                    <a:pt x="6260" y="19363"/>
                  </a:lnTo>
                  <a:lnTo>
                    <a:pt x="6090" y="19412"/>
                  </a:lnTo>
                  <a:lnTo>
                    <a:pt x="5919" y="19436"/>
                  </a:lnTo>
                  <a:close/>
                  <a:moveTo>
                    <a:pt x="10547" y="16660"/>
                  </a:moveTo>
                  <a:lnTo>
                    <a:pt x="1292" y="16660"/>
                  </a:lnTo>
                  <a:lnTo>
                    <a:pt x="1292" y="2558"/>
                  </a:lnTo>
                  <a:lnTo>
                    <a:pt x="10547" y="2558"/>
                  </a:lnTo>
                  <a:lnTo>
                    <a:pt x="10547" y="16660"/>
                  </a:lnTo>
                  <a:close/>
                </a:path>
              </a:pathLst>
            </a:custGeom>
            <a:noFill/>
            <a:ln cap="rnd" w="12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91080" bIns="91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grpSp>
        <p:nvGrpSpPr>
          <p:cNvPr id="850" name="Группа 6"/>
          <p:cNvGrpSpPr/>
          <p:nvPr/>
        </p:nvGrpSpPr>
        <p:grpSpPr>
          <a:xfrm>
            <a:off x="2048760" y="5133960"/>
            <a:ext cx="8094960" cy="1638720"/>
            <a:chOff x="2048760" y="5133960"/>
            <a:chExt cx="8094960" cy="1638720"/>
          </a:xfrm>
        </p:grpSpPr>
        <p:pic>
          <p:nvPicPr>
            <p:cNvPr id="851" name="Picture 2" descr="http://qrcoder.ru/code/?https%3A%2F%2Frcokio.ru%2F&amp;4&amp;0"/>
            <p:cNvPicPr/>
            <p:nvPr/>
          </p:nvPicPr>
          <p:blipFill>
            <a:blip r:embed="rId2"/>
            <a:stretch/>
          </p:blipFill>
          <p:spPr>
            <a:xfrm>
              <a:off x="2153160" y="5217480"/>
              <a:ext cx="1267200" cy="126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2" name="TextBox 1"/>
            <p:cNvSpPr/>
            <p:nvPr/>
          </p:nvSpPr>
          <p:spPr>
            <a:xfrm>
              <a:off x="2048760" y="6483240"/>
              <a:ext cx="1476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Calibri"/>
                </a:rPr>
                <a:t>сайт ГБУ ДПО ЧИРО</a:t>
              </a:r>
              <a:endParaRPr b="0" lang="en-US" sz="12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853" name="TextBox 49"/>
            <p:cNvSpPr/>
            <p:nvPr/>
          </p:nvSpPr>
          <p:spPr>
            <a:xfrm>
              <a:off x="4250520" y="6483240"/>
              <a:ext cx="1244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Calibri"/>
                </a:rPr>
                <a:t>Телеграм-канал</a:t>
              </a:r>
              <a:endParaRPr b="0" lang="en-US" sz="12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854" name="TextBox 50"/>
            <p:cNvSpPr/>
            <p:nvPr/>
          </p:nvSpPr>
          <p:spPr>
            <a:xfrm>
              <a:off x="6061320" y="6483240"/>
              <a:ext cx="1809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Calibri"/>
                </a:rPr>
                <a:t>Сообщество в ВКонтакте</a:t>
              </a:r>
              <a:endParaRPr b="0" lang="en-US" sz="12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pic>
          <p:nvPicPr>
            <p:cNvPr id="855" name="Рисунок 2" descr=""/>
            <p:cNvPicPr/>
            <p:nvPr/>
          </p:nvPicPr>
          <p:blipFill>
            <a:blip r:embed="rId3">
              <a:biLevel thresh="50000"/>
            </a:blip>
            <a:stretch/>
          </p:blipFill>
          <p:spPr>
            <a:xfrm>
              <a:off x="6279480" y="5133960"/>
              <a:ext cx="1374480" cy="1374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6" name="Рисунок 3" descr=""/>
            <p:cNvPicPr/>
            <p:nvPr/>
          </p:nvPicPr>
          <p:blipFill>
            <a:blip r:embed="rId4"/>
            <a:srcRect l="17901" t="3970" r="16637" b="5413"/>
            <a:stretch/>
          </p:blipFill>
          <p:spPr>
            <a:xfrm>
              <a:off x="4239720" y="5231520"/>
              <a:ext cx="1267200" cy="117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7" name="Рисунок 4" descr=""/>
            <p:cNvPicPr/>
            <p:nvPr/>
          </p:nvPicPr>
          <p:blipFill>
            <a:blip r:embed="rId5"/>
            <a:stretch/>
          </p:blipFill>
          <p:spPr>
            <a:xfrm>
              <a:off x="8339760" y="5133960"/>
              <a:ext cx="1375200" cy="137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TextBox 42"/>
            <p:cNvSpPr/>
            <p:nvPr/>
          </p:nvSpPr>
          <p:spPr>
            <a:xfrm>
              <a:off x="7910280" y="6496200"/>
              <a:ext cx="2233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Calibri"/>
                </a:rPr>
                <a:t>Сообщество в Одноклассниках</a:t>
              </a:r>
              <a:endParaRPr b="0" lang="en-US" sz="12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pic>
        <p:nvPicPr>
          <p:cNvPr id="859" name="Рисунок 12" descr=""/>
          <p:cNvPicPr/>
          <p:nvPr/>
        </p:nvPicPr>
        <p:blipFill>
          <a:blip r:embed="rId6"/>
          <a:stretch/>
        </p:blipFill>
        <p:spPr>
          <a:xfrm>
            <a:off x="9028080" y="157320"/>
            <a:ext cx="2594160" cy="1118880"/>
          </a:xfrm>
          <a:prstGeom prst="rect">
            <a:avLst/>
          </a:prstGeom>
          <a:ln w="0">
            <a:noFill/>
          </a:ln>
        </p:spPr>
      </p:pic>
      <p:sp>
        <p:nvSpPr>
          <p:cNvPr id="860" name="PlaceHolder 1"/>
          <p:cNvSpPr>
            <a:spLocks noGrp="1"/>
          </p:cNvSpPr>
          <p:nvPr>
            <p:ph type="dt" idx="43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 type="ftr" idx="4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 type="sldNum" idx="45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E60B8-F7FB-4424-B9AA-4CF60CD7FE09}" type="slidenum">
              <a:rPr b="0" lang="ru-RU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7"/>
    <p:sldLayoutId id="2147483858" r:id="rId8"/>
    <p:sldLayoutId id="2147483859" r:id="rId9"/>
    <p:sldLayoutId id="2147483860" r:id="rId10"/>
    <p:sldLayoutId id="2147483861" r:id="rId11"/>
    <p:sldLayoutId id="2147483862" r:id="rId12"/>
    <p:sldLayoutId id="2147483863" r:id="rId13"/>
    <p:sldLayoutId id="2147483864" r:id="rId14"/>
    <p:sldLayoutId id="2147483865" r:id="rId15"/>
    <p:sldLayoutId id="2147483866" r:id="rId16"/>
    <p:sldLayoutId id="2147483867" r:id="rId17"/>
    <p:sldLayoutId id="2147483868" r:id="rId18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Блок-схема: данные 4"/>
          <p:cNvSpPr/>
          <p:nvPr/>
        </p:nvSpPr>
        <p:spPr>
          <a:xfrm>
            <a:off x="0" y="0"/>
            <a:ext cx="8861400" cy="83988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0" y="10000"/>
                </a:moveTo>
                <a:cubicBezTo>
                  <a:pt x="12" y="6637"/>
                  <a:pt x="-4" y="3363"/>
                  <a:pt x="8" y="0"/>
                </a:cubicBezTo>
                <a:lnTo>
                  <a:pt x="10000" y="0"/>
                </a:lnTo>
                <a:lnTo>
                  <a:pt x="8563" y="10000"/>
                </a:lnTo>
                <a:lnTo>
                  <a:pt x="0" y="10000"/>
                </a:lnTo>
                <a:close/>
              </a:path>
            </a:pathLst>
          </a:custGeom>
          <a:solidFill>
            <a:srgbClr val="e31e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0" name="Блок-схема: данные 4"/>
          <p:cNvSpPr/>
          <p:nvPr/>
        </p:nvSpPr>
        <p:spPr>
          <a:xfrm>
            <a:off x="0" y="0"/>
            <a:ext cx="8791560" cy="80640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0" y="10000"/>
                </a:moveTo>
                <a:cubicBezTo>
                  <a:pt x="12" y="6637"/>
                  <a:pt x="-4" y="3363"/>
                  <a:pt x="8" y="0"/>
                </a:cubicBezTo>
                <a:lnTo>
                  <a:pt x="10000" y="0"/>
                </a:lnTo>
                <a:lnTo>
                  <a:pt x="8563" y="10000"/>
                </a:lnTo>
                <a:lnTo>
                  <a:pt x="0" y="10000"/>
                </a:lnTo>
                <a:close/>
              </a:path>
            </a:pathLst>
          </a:custGeom>
          <a:solidFill>
            <a:srgbClr val="2647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1" name="TextBox 10"/>
          <p:cNvSpPr/>
          <p:nvPr/>
        </p:nvSpPr>
        <p:spPr>
          <a:xfrm>
            <a:off x="-525600" y="157320"/>
            <a:ext cx="80582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Государственное бюджетное учреждение дополнительного профессионального образования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«Челябинский институт развития образования»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2" name="Прямоугольник 11"/>
          <p:cNvSpPr/>
          <p:nvPr/>
        </p:nvSpPr>
        <p:spPr>
          <a:xfrm>
            <a:off x="4119480" y="3444840"/>
            <a:ext cx="946080" cy="905040"/>
          </a:xfrm>
          <a:prstGeom prst="rect">
            <a:avLst/>
          </a:prstGeom>
          <a:solidFill>
            <a:srgbClr val="264796"/>
          </a:solidFill>
          <a:ln w="6480">
            <a:solidFill>
              <a:srgbClr val="4472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903" name="Google Shape;559;p43"/>
          <p:cNvGrpSpPr/>
          <p:nvPr/>
        </p:nvGrpSpPr>
        <p:grpSpPr>
          <a:xfrm>
            <a:off x="4321080" y="3598920"/>
            <a:ext cx="573120" cy="552240"/>
            <a:chOff x="4321080" y="3598920"/>
            <a:chExt cx="573120" cy="552240"/>
          </a:xfrm>
        </p:grpSpPr>
        <p:sp>
          <p:nvSpPr>
            <p:cNvPr id="904" name="Google Shape;560;p43"/>
            <p:cNvSpPr/>
            <p:nvPr/>
          </p:nvSpPr>
          <p:spPr>
            <a:xfrm>
              <a:off x="4321080" y="3598920"/>
              <a:ext cx="573120" cy="540000"/>
            </a:xfrm>
            <a:custGeom>
              <a:avLst/>
              <a:gdLst/>
              <a:ahLst/>
              <a:rect l="l" t="t" r="r" b="b"/>
              <a:pathLst>
                <a:path fill="none" w="18608" h="17805">
                  <a:moveTo>
                    <a:pt x="13493" y="14127"/>
                  </a:moveTo>
                  <a:lnTo>
                    <a:pt x="18608" y="17804"/>
                  </a:lnTo>
                  <a:lnTo>
                    <a:pt x="18608" y="17731"/>
                  </a:lnTo>
                  <a:lnTo>
                    <a:pt x="18608" y="6723"/>
                  </a:lnTo>
                  <a:lnTo>
                    <a:pt x="9304" y="1"/>
                  </a:lnTo>
                  <a:lnTo>
                    <a:pt x="1" y="6723"/>
                  </a:lnTo>
                  <a:lnTo>
                    <a:pt x="1" y="17731"/>
                  </a:lnTo>
                  <a:lnTo>
                    <a:pt x="1" y="17804"/>
                  </a:lnTo>
                  <a:lnTo>
                    <a:pt x="5115" y="14127"/>
                  </a:lnTo>
                </a:path>
              </a:pathLst>
            </a:custGeom>
            <a:noFill/>
            <a:ln cap="rnd" w="12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91080" bIns="91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905" name="Google Shape;561;p43"/>
            <p:cNvSpPr/>
            <p:nvPr/>
          </p:nvSpPr>
          <p:spPr>
            <a:xfrm>
              <a:off x="4330800" y="4150440"/>
              <a:ext cx="553680" cy="720"/>
            </a:xfrm>
            <a:custGeom>
              <a:avLst/>
              <a:gdLst/>
              <a:ahLst/>
              <a:rect l="l" t="t" r="r" b="b"/>
              <a:pathLst>
                <a:path fill="none" w="17975" h="25">
                  <a:moveTo>
                    <a:pt x="0" y="0"/>
                  </a:moveTo>
                  <a:lnTo>
                    <a:pt x="0" y="0"/>
                  </a:lnTo>
                  <a:lnTo>
                    <a:pt x="98" y="0"/>
                  </a:lnTo>
                  <a:lnTo>
                    <a:pt x="171" y="24"/>
                  </a:lnTo>
                  <a:lnTo>
                    <a:pt x="17804" y="24"/>
                  </a:lnTo>
                  <a:lnTo>
                    <a:pt x="17877" y="0"/>
                  </a:lnTo>
                  <a:lnTo>
                    <a:pt x="17974" y="0"/>
                  </a:lnTo>
                </a:path>
              </a:pathLst>
            </a:custGeom>
            <a:noFill/>
            <a:ln cap="rnd" w="12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90360" bIns="-90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906" name="Google Shape;562;p43"/>
            <p:cNvSpPr/>
            <p:nvPr/>
          </p:nvSpPr>
          <p:spPr>
            <a:xfrm>
              <a:off x="4321080" y="3802680"/>
              <a:ext cx="573120" cy="208080"/>
            </a:xfrm>
            <a:custGeom>
              <a:avLst/>
              <a:gdLst/>
              <a:ahLst/>
              <a:rect l="l" t="t" r="r" b="b"/>
              <a:pathLst>
                <a:path fill="none" w="18608" h="6869">
                  <a:moveTo>
                    <a:pt x="18608" y="1"/>
                  </a:moveTo>
                  <a:lnTo>
                    <a:pt x="9450" y="6820"/>
                  </a:lnTo>
                  <a:lnTo>
                    <a:pt x="9377" y="6845"/>
                  </a:lnTo>
                  <a:lnTo>
                    <a:pt x="9304" y="6869"/>
                  </a:lnTo>
                  <a:lnTo>
                    <a:pt x="9231" y="6845"/>
                  </a:lnTo>
                  <a:lnTo>
                    <a:pt x="9158" y="6820"/>
                  </a:lnTo>
                  <a:lnTo>
                    <a:pt x="1" y="1"/>
                  </a:lnTo>
                </a:path>
              </a:pathLst>
            </a:custGeom>
            <a:noFill/>
            <a:ln cap="rnd" w="12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91080" bIns="91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907" name="Google Shape;563;p43"/>
            <p:cNvSpPr/>
            <p:nvPr/>
          </p:nvSpPr>
          <p:spPr>
            <a:xfrm>
              <a:off x="4435560" y="3752280"/>
              <a:ext cx="343800" cy="134280"/>
            </a:xfrm>
            <a:custGeom>
              <a:avLst/>
              <a:gdLst/>
              <a:ahLst/>
              <a:rect l="l" t="t" r="r" b="b"/>
              <a:pathLst>
                <a:path fill="none" w="11156" h="4434">
                  <a:moveTo>
                    <a:pt x="1" y="4433"/>
                  </a:moveTo>
                  <a:lnTo>
                    <a:pt x="1" y="1"/>
                  </a:lnTo>
                  <a:lnTo>
                    <a:pt x="11155" y="1"/>
                  </a:lnTo>
                  <a:lnTo>
                    <a:pt x="11155" y="4433"/>
                  </a:lnTo>
                </a:path>
              </a:pathLst>
            </a:custGeom>
            <a:noFill/>
            <a:ln cap="rnd" w="12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3200" bIns="43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908" name="Google Shape;564;p43"/>
            <p:cNvSpPr/>
            <p:nvPr/>
          </p:nvSpPr>
          <p:spPr>
            <a:xfrm>
              <a:off x="4525200" y="3824640"/>
              <a:ext cx="164880" cy="360"/>
            </a:xfrm>
            <a:custGeom>
              <a:avLst/>
              <a:gdLst/>
              <a:ahLst/>
              <a:rect l="l" t="t" r="r" b="b"/>
              <a:pathLst>
                <a:path fill="none" w="5359" h="1">
                  <a:moveTo>
                    <a:pt x="0" y="0"/>
                  </a:moveTo>
                  <a:lnTo>
                    <a:pt x="5358" y="0"/>
                  </a:lnTo>
                </a:path>
              </a:pathLst>
            </a:custGeom>
            <a:noFill/>
            <a:ln cap="rnd" w="12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90720" bIns="-90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909" name="Google Shape;565;p43"/>
            <p:cNvSpPr/>
            <p:nvPr/>
          </p:nvSpPr>
          <p:spPr>
            <a:xfrm>
              <a:off x="4525200" y="3866040"/>
              <a:ext cx="164880" cy="360"/>
            </a:xfrm>
            <a:custGeom>
              <a:avLst/>
              <a:gdLst/>
              <a:ahLst/>
              <a:rect l="l" t="t" r="r" b="b"/>
              <a:pathLst>
                <a:path fill="none" w="5359" h="1">
                  <a:moveTo>
                    <a:pt x="0" y="0"/>
                  </a:moveTo>
                  <a:lnTo>
                    <a:pt x="5358" y="0"/>
                  </a:lnTo>
                </a:path>
              </a:pathLst>
            </a:custGeom>
            <a:noFill/>
            <a:ln cap="rnd" w="12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90720" bIns="-90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910" name="Google Shape;566;p43"/>
            <p:cNvSpPr/>
            <p:nvPr/>
          </p:nvSpPr>
          <p:spPr>
            <a:xfrm>
              <a:off x="4525200" y="3907440"/>
              <a:ext cx="104760" cy="360"/>
            </a:xfrm>
            <a:custGeom>
              <a:avLst/>
              <a:gdLst/>
              <a:ahLst/>
              <a:rect l="l" t="t" r="r" b="b"/>
              <a:pathLst>
                <a:path fill="none" w="3410" h="1">
                  <a:moveTo>
                    <a:pt x="0" y="0"/>
                  </a:moveTo>
                  <a:lnTo>
                    <a:pt x="3410" y="0"/>
                  </a:lnTo>
                </a:path>
              </a:pathLst>
            </a:custGeom>
            <a:noFill/>
            <a:ln cap="rnd" w="12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90720" bIns="-90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grpSp>
        <p:nvGrpSpPr>
          <p:cNvPr id="911" name="Группа 65"/>
          <p:cNvGrpSpPr/>
          <p:nvPr/>
        </p:nvGrpSpPr>
        <p:grpSpPr>
          <a:xfrm>
            <a:off x="5305320" y="1104840"/>
            <a:ext cx="916200" cy="835200"/>
            <a:chOff x="5305320" y="1104840"/>
            <a:chExt cx="916200" cy="835200"/>
          </a:xfrm>
        </p:grpSpPr>
        <p:sp>
          <p:nvSpPr>
            <p:cNvPr id="912" name="Прямоугольник 23"/>
            <p:cNvSpPr/>
            <p:nvPr/>
          </p:nvSpPr>
          <p:spPr>
            <a:xfrm>
              <a:off x="5305320" y="1104840"/>
              <a:ext cx="916200" cy="835200"/>
            </a:xfrm>
            <a:prstGeom prst="rect">
              <a:avLst/>
            </a:prstGeom>
            <a:solidFill>
              <a:srgbClr val="264796"/>
            </a:solidFill>
            <a:ln w="0">
              <a:noFill/>
            </a:ln>
            <a:effectLst>
              <a:outerShdw dist="19080" dir="5400000" blurRad="0" rotWithShape="0">
                <a:srgbClr val="000000">
                  <a:alpha val="6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grpSp>
          <p:nvGrpSpPr>
            <p:cNvPr id="913" name="Google Shape;732;p43"/>
            <p:cNvGrpSpPr/>
            <p:nvPr/>
          </p:nvGrpSpPr>
          <p:grpSpPr>
            <a:xfrm>
              <a:off x="5464080" y="1296360"/>
              <a:ext cx="609480" cy="502920"/>
              <a:chOff x="5464080" y="1296360"/>
              <a:chExt cx="609480" cy="502920"/>
            </a:xfrm>
          </p:grpSpPr>
          <p:sp>
            <p:nvSpPr>
              <p:cNvPr id="914" name="Google Shape;733;p43"/>
              <p:cNvSpPr/>
              <p:nvPr/>
            </p:nvSpPr>
            <p:spPr>
              <a:xfrm>
                <a:off x="5963760" y="1731240"/>
                <a:ext cx="85320" cy="68040"/>
              </a:xfrm>
              <a:custGeom>
                <a:avLst/>
                <a:gdLst/>
                <a:ahLst/>
                <a:rect l="l" t="t" r="r" b="b"/>
                <a:pathLst>
                  <a:path fill="none" w="2631" h="2096">
                    <a:moveTo>
                      <a:pt x="1" y="1"/>
                    </a:moveTo>
                    <a:lnTo>
                      <a:pt x="1" y="780"/>
                    </a:lnTo>
                    <a:lnTo>
                      <a:pt x="25" y="1048"/>
                    </a:lnTo>
                    <a:lnTo>
                      <a:pt x="122" y="1291"/>
                    </a:lnTo>
                    <a:lnTo>
                      <a:pt x="244" y="1511"/>
                    </a:lnTo>
                    <a:lnTo>
                      <a:pt x="390" y="1705"/>
                    </a:lnTo>
                    <a:lnTo>
                      <a:pt x="585" y="1852"/>
                    </a:lnTo>
                    <a:lnTo>
                      <a:pt x="804" y="1973"/>
                    </a:lnTo>
                    <a:lnTo>
                      <a:pt x="1048" y="2071"/>
                    </a:lnTo>
                    <a:lnTo>
                      <a:pt x="1316" y="2095"/>
                    </a:lnTo>
                    <a:lnTo>
                      <a:pt x="1584" y="2071"/>
                    </a:lnTo>
                    <a:lnTo>
                      <a:pt x="1827" y="1973"/>
                    </a:lnTo>
                    <a:lnTo>
                      <a:pt x="2046" y="1852"/>
                    </a:lnTo>
                    <a:lnTo>
                      <a:pt x="2241" y="1705"/>
                    </a:lnTo>
                    <a:lnTo>
                      <a:pt x="2412" y="1511"/>
                    </a:lnTo>
                    <a:lnTo>
                      <a:pt x="2533" y="1291"/>
                    </a:lnTo>
                    <a:lnTo>
                      <a:pt x="2607" y="1048"/>
                    </a:lnTo>
                    <a:lnTo>
                      <a:pt x="2631" y="780"/>
                    </a:lnTo>
                    <a:lnTo>
                      <a:pt x="2631" y="1"/>
                    </a:lnTo>
                  </a:path>
                </a:pathLst>
              </a:custGeom>
              <a:noFill/>
              <a:ln cap="rnd" w="12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-23040" bIns="-23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  <p:sp>
            <p:nvSpPr>
              <p:cNvPr id="915" name="Google Shape;734;p43"/>
              <p:cNvSpPr/>
              <p:nvPr/>
            </p:nvSpPr>
            <p:spPr>
              <a:xfrm>
                <a:off x="5488560" y="1731240"/>
                <a:ext cx="85320" cy="68040"/>
              </a:xfrm>
              <a:custGeom>
                <a:avLst/>
                <a:gdLst/>
                <a:ahLst/>
                <a:rect l="l" t="t" r="r" b="b"/>
                <a:pathLst>
                  <a:path fill="none" w="2631" h="2096">
                    <a:moveTo>
                      <a:pt x="1" y="1"/>
                    </a:moveTo>
                    <a:lnTo>
                      <a:pt x="1" y="780"/>
                    </a:lnTo>
                    <a:lnTo>
                      <a:pt x="25" y="1048"/>
                    </a:lnTo>
                    <a:lnTo>
                      <a:pt x="98" y="1291"/>
                    </a:lnTo>
                    <a:lnTo>
                      <a:pt x="220" y="1511"/>
                    </a:lnTo>
                    <a:lnTo>
                      <a:pt x="390" y="1705"/>
                    </a:lnTo>
                    <a:lnTo>
                      <a:pt x="585" y="1852"/>
                    </a:lnTo>
                    <a:lnTo>
                      <a:pt x="804" y="1973"/>
                    </a:lnTo>
                    <a:lnTo>
                      <a:pt x="1048" y="2071"/>
                    </a:lnTo>
                    <a:lnTo>
                      <a:pt x="1316" y="2095"/>
                    </a:lnTo>
                    <a:lnTo>
                      <a:pt x="1584" y="2071"/>
                    </a:lnTo>
                    <a:lnTo>
                      <a:pt x="1827" y="1973"/>
                    </a:lnTo>
                    <a:lnTo>
                      <a:pt x="2046" y="1852"/>
                    </a:lnTo>
                    <a:lnTo>
                      <a:pt x="2241" y="1705"/>
                    </a:lnTo>
                    <a:lnTo>
                      <a:pt x="2387" y="1511"/>
                    </a:lnTo>
                    <a:lnTo>
                      <a:pt x="2509" y="1291"/>
                    </a:lnTo>
                    <a:lnTo>
                      <a:pt x="2607" y="1048"/>
                    </a:lnTo>
                    <a:lnTo>
                      <a:pt x="2631" y="780"/>
                    </a:lnTo>
                    <a:lnTo>
                      <a:pt x="2631" y="1"/>
                    </a:lnTo>
                  </a:path>
                </a:pathLst>
              </a:custGeom>
              <a:noFill/>
              <a:ln cap="rnd" w="12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-23040" bIns="-23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  <p:sp>
            <p:nvSpPr>
              <p:cNvPr id="916" name="Google Shape;735;p43"/>
              <p:cNvSpPr/>
              <p:nvPr/>
            </p:nvSpPr>
            <p:spPr>
              <a:xfrm>
                <a:off x="5464080" y="1296360"/>
                <a:ext cx="609480" cy="432720"/>
              </a:xfrm>
              <a:custGeom>
                <a:avLst/>
                <a:gdLst/>
                <a:ahLst/>
                <a:rect l="l" t="t" r="r" b="b"/>
                <a:pathLst>
                  <a:path fill="none" w="18754" h="13323">
                    <a:moveTo>
                      <a:pt x="18754" y="5553"/>
                    </a:moveTo>
                    <a:lnTo>
                      <a:pt x="18754" y="5553"/>
                    </a:lnTo>
                    <a:lnTo>
                      <a:pt x="18730" y="5334"/>
                    </a:lnTo>
                    <a:lnTo>
                      <a:pt x="18681" y="5091"/>
                    </a:lnTo>
                    <a:lnTo>
                      <a:pt x="18583" y="4847"/>
                    </a:lnTo>
                    <a:lnTo>
                      <a:pt x="18462" y="4628"/>
                    </a:lnTo>
                    <a:lnTo>
                      <a:pt x="18291" y="4433"/>
                    </a:lnTo>
                    <a:lnTo>
                      <a:pt x="18121" y="4287"/>
                    </a:lnTo>
                    <a:lnTo>
                      <a:pt x="18023" y="4214"/>
                    </a:lnTo>
                    <a:lnTo>
                      <a:pt x="17926" y="4165"/>
                    </a:lnTo>
                    <a:lnTo>
                      <a:pt x="17828" y="4141"/>
                    </a:lnTo>
                    <a:lnTo>
                      <a:pt x="17731" y="4141"/>
                    </a:lnTo>
                    <a:lnTo>
                      <a:pt x="16489" y="4141"/>
                    </a:lnTo>
                    <a:lnTo>
                      <a:pt x="15588" y="1803"/>
                    </a:lnTo>
                    <a:lnTo>
                      <a:pt x="15490" y="1583"/>
                    </a:lnTo>
                    <a:lnTo>
                      <a:pt x="15344" y="1364"/>
                    </a:lnTo>
                    <a:lnTo>
                      <a:pt x="15174" y="1169"/>
                    </a:lnTo>
                    <a:lnTo>
                      <a:pt x="15003" y="975"/>
                    </a:lnTo>
                    <a:lnTo>
                      <a:pt x="14784" y="804"/>
                    </a:lnTo>
                    <a:lnTo>
                      <a:pt x="14565" y="658"/>
                    </a:lnTo>
                    <a:lnTo>
                      <a:pt x="14346" y="536"/>
                    </a:lnTo>
                    <a:lnTo>
                      <a:pt x="14102" y="439"/>
                    </a:lnTo>
                    <a:lnTo>
                      <a:pt x="13810" y="390"/>
                    </a:lnTo>
                    <a:lnTo>
                      <a:pt x="13444" y="317"/>
                    </a:lnTo>
                    <a:lnTo>
                      <a:pt x="12933" y="220"/>
                    </a:lnTo>
                    <a:lnTo>
                      <a:pt x="12275" y="147"/>
                    </a:lnTo>
                    <a:lnTo>
                      <a:pt x="11472" y="73"/>
                    </a:lnTo>
                    <a:lnTo>
                      <a:pt x="10498" y="25"/>
                    </a:lnTo>
                    <a:lnTo>
                      <a:pt x="9377" y="0"/>
                    </a:lnTo>
                    <a:lnTo>
                      <a:pt x="8257" y="25"/>
                    </a:lnTo>
                    <a:lnTo>
                      <a:pt x="7283" y="73"/>
                    </a:lnTo>
                    <a:lnTo>
                      <a:pt x="6479" y="147"/>
                    </a:lnTo>
                    <a:lnTo>
                      <a:pt x="5821" y="220"/>
                    </a:lnTo>
                    <a:lnTo>
                      <a:pt x="5310" y="317"/>
                    </a:lnTo>
                    <a:lnTo>
                      <a:pt x="4945" y="390"/>
                    </a:lnTo>
                    <a:lnTo>
                      <a:pt x="4652" y="439"/>
                    </a:lnTo>
                    <a:lnTo>
                      <a:pt x="4409" y="536"/>
                    </a:lnTo>
                    <a:lnTo>
                      <a:pt x="4190" y="658"/>
                    </a:lnTo>
                    <a:lnTo>
                      <a:pt x="3970" y="804"/>
                    </a:lnTo>
                    <a:lnTo>
                      <a:pt x="3751" y="975"/>
                    </a:lnTo>
                    <a:lnTo>
                      <a:pt x="3581" y="1169"/>
                    </a:lnTo>
                    <a:lnTo>
                      <a:pt x="3410" y="1364"/>
                    </a:lnTo>
                    <a:lnTo>
                      <a:pt x="3264" y="1583"/>
                    </a:lnTo>
                    <a:lnTo>
                      <a:pt x="3167" y="1803"/>
                    </a:lnTo>
                    <a:lnTo>
                      <a:pt x="2266" y="4141"/>
                    </a:lnTo>
                    <a:lnTo>
                      <a:pt x="1023" y="4141"/>
                    </a:lnTo>
                    <a:lnTo>
                      <a:pt x="926" y="4141"/>
                    </a:lnTo>
                    <a:lnTo>
                      <a:pt x="829" y="4165"/>
                    </a:lnTo>
                    <a:lnTo>
                      <a:pt x="731" y="4214"/>
                    </a:lnTo>
                    <a:lnTo>
                      <a:pt x="634" y="4287"/>
                    </a:lnTo>
                    <a:lnTo>
                      <a:pt x="463" y="4433"/>
                    </a:lnTo>
                    <a:lnTo>
                      <a:pt x="293" y="4628"/>
                    </a:lnTo>
                    <a:lnTo>
                      <a:pt x="171" y="4847"/>
                    </a:lnTo>
                    <a:lnTo>
                      <a:pt x="74" y="5091"/>
                    </a:lnTo>
                    <a:lnTo>
                      <a:pt x="25" y="5334"/>
                    </a:lnTo>
                    <a:lnTo>
                      <a:pt x="1" y="5553"/>
                    </a:lnTo>
                    <a:lnTo>
                      <a:pt x="25" y="5748"/>
                    </a:lnTo>
                    <a:lnTo>
                      <a:pt x="74" y="5894"/>
                    </a:lnTo>
                    <a:lnTo>
                      <a:pt x="171" y="6016"/>
                    </a:lnTo>
                    <a:lnTo>
                      <a:pt x="293" y="6089"/>
                    </a:lnTo>
                    <a:lnTo>
                      <a:pt x="463" y="6138"/>
                    </a:lnTo>
                    <a:lnTo>
                      <a:pt x="634" y="6187"/>
                    </a:lnTo>
                    <a:lnTo>
                      <a:pt x="1023" y="6187"/>
                    </a:lnTo>
                    <a:lnTo>
                      <a:pt x="1462" y="6187"/>
                    </a:lnTo>
                    <a:lnTo>
                      <a:pt x="1145" y="7015"/>
                    </a:lnTo>
                    <a:lnTo>
                      <a:pt x="999" y="7526"/>
                    </a:lnTo>
                    <a:lnTo>
                      <a:pt x="877" y="8086"/>
                    </a:lnTo>
                    <a:lnTo>
                      <a:pt x="780" y="8671"/>
                    </a:lnTo>
                    <a:lnTo>
                      <a:pt x="756" y="9207"/>
                    </a:lnTo>
                    <a:lnTo>
                      <a:pt x="756" y="13323"/>
                    </a:lnTo>
                    <a:lnTo>
                      <a:pt x="17999" y="13323"/>
                    </a:lnTo>
                    <a:lnTo>
                      <a:pt x="17999" y="9207"/>
                    </a:lnTo>
                    <a:lnTo>
                      <a:pt x="17975" y="8671"/>
                    </a:lnTo>
                    <a:lnTo>
                      <a:pt x="17877" y="8086"/>
                    </a:lnTo>
                    <a:lnTo>
                      <a:pt x="17755" y="7526"/>
                    </a:lnTo>
                    <a:lnTo>
                      <a:pt x="17609" y="7015"/>
                    </a:lnTo>
                    <a:lnTo>
                      <a:pt x="17293" y="6187"/>
                    </a:lnTo>
                    <a:lnTo>
                      <a:pt x="17731" y="6187"/>
                    </a:lnTo>
                    <a:lnTo>
                      <a:pt x="18121" y="6187"/>
                    </a:lnTo>
                    <a:lnTo>
                      <a:pt x="18291" y="6138"/>
                    </a:lnTo>
                    <a:lnTo>
                      <a:pt x="18462" y="6089"/>
                    </a:lnTo>
                    <a:lnTo>
                      <a:pt x="18583" y="6016"/>
                    </a:lnTo>
                    <a:lnTo>
                      <a:pt x="18681" y="5894"/>
                    </a:lnTo>
                    <a:lnTo>
                      <a:pt x="18730" y="5748"/>
                    </a:lnTo>
                    <a:lnTo>
                      <a:pt x="18754" y="5553"/>
                    </a:lnTo>
                  </a:path>
                </a:pathLst>
              </a:custGeom>
              <a:noFill/>
              <a:ln cap="rnd" w="12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91080" bIns="91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  <p:sp>
            <p:nvSpPr>
              <p:cNvPr id="917" name="Google Shape;736;p43"/>
              <p:cNvSpPr/>
              <p:nvPr/>
            </p:nvSpPr>
            <p:spPr>
              <a:xfrm>
                <a:off x="5571720" y="1339560"/>
                <a:ext cx="394200" cy="194400"/>
              </a:xfrm>
              <a:custGeom>
                <a:avLst/>
                <a:gdLst/>
                <a:ahLst/>
                <a:rect l="l" t="t" r="r" b="b"/>
                <a:pathLst>
                  <a:path fill="none" w="12130" h="5993">
                    <a:moveTo>
                      <a:pt x="1" y="4628"/>
                    </a:moveTo>
                    <a:lnTo>
                      <a:pt x="1" y="4628"/>
                    </a:lnTo>
                    <a:lnTo>
                      <a:pt x="171" y="4019"/>
                    </a:lnTo>
                    <a:lnTo>
                      <a:pt x="585" y="2656"/>
                    </a:lnTo>
                    <a:lnTo>
                      <a:pt x="805" y="1925"/>
                    </a:lnTo>
                    <a:lnTo>
                      <a:pt x="1024" y="1292"/>
                    </a:lnTo>
                    <a:lnTo>
                      <a:pt x="1194" y="829"/>
                    </a:lnTo>
                    <a:lnTo>
                      <a:pt x="1267" y="707"/>
                    </a:lnTo>
                    <a:lnTo>
                      <a:pt x="1316" y="658"/>
                    </a:lnTo>
                    <a:lnTo>
                      <a:pt x="1535" y="561"/>
                    </a:lnTo>
                    <a:lnTo>
                      <a:pt x="1852" y="464"/>
                    </a:lnTo>
                    <a:lnTo>
                      <a:pt x="2315" y="342"/>
                    </a:lnTo>
                    <a:lnTo>
                      <a:pt x="2948" y="220"/>
                    </a:lnTo>
                    <a:lnTo>
                      <a:pt x="3776" y="98"/>
                    </a:lnTo>
                    <a:lnTo>
                      <a:pt x="4799" y="25"/>
                    </a:lnTo>
                    <a:lnTo>
                      <a:pt x="5408" y="1"/>
                    </a:lnTo>
                    <a:lnTo>
                      <a:pt x="6065" y="1"/>
                    </a:lnTo>
                    <a:lnTo>
                      <a:pt x="6723" y="1"/>
                    </a:lnTo>
                    <a:lnTo>
                      <a:pt x="7332" y="25"/>
                    </a:lnTo>
                    <a:lnTo>
                      <a:pt x="8355" y="98"/>
                    </a:lnTo>
                    <a:lnTo>
                      <a:pt x="9183" y="220"/>
                    </a:lnTo>
                    <a:lnTo>
                      <a:pt x="9816" y="342"/>
                    </a:lnTo>
                    <a:lnTo>
                      <a:pt x="10279" y="464"/>
                    </a:lnTo>
                    <a:lnTo>
                      <a:pt x="10595" y="561"/>
                    </a:lnTo>
                    <a:lnTo>
                      <a:pt x="10814" y="658"/>
                    </a:lnTo>
                    <a:lnTo>
                      <a:pt x="10863" y="707"/>
                    </a:lnTo>
                    <a:lnTo>
                      <a:pt x="10936" y="829"/>
                    </a:lnTo>
                    <a:lnTo>
                      <a:pt x="11107" y="1292"/>
                    </a:lnTo>
                    <a:lnTo>
                      <a:pt x="11326" y="1925"/>
                    </a:lnTo>
                    <a:lnTo>
                      <a:pt x="11545" y="2656"/>
                    </a:lnTo>
                    <a:lnTo>
                      <a:pt x="11959" y="4019"/>
                    </a:lnTo>
                    <a:lnTo>
                      <a:pt x="12130" y="4628"/>
                    </a:lnTo>
                    <a:lnTo>
                      <a:pt x="12105" y="4677"/>
                    </a:lnTo>
                    <a:lnTo>
                      <a:pt x="12057" y="4750"/>
                    </a:lnTo>
                    <a:lnTo>
                      <a:pt x="11959" y="4823"/>
                    </a:lnTo>
                    <a:lnTo>
                      <a:pt x="11813" y="4921"/>
                    </a:lnTo>
                    <a:lnTo>
                      <a:pt x="11618" y="5042"/>
                    </a:lnTo>
                    <a:lnTo>
                      <a:pt x="11375" y="5164"/>
                    </a:lnTo>
                    <a:lnTo>
                      <a:pt x="11058" y="5262"/>
                    </a:lnTo>
                    <a:lnTo>
                      <a:pt x="10717" y="5383"/>
                    </a:lnTo>
                    <a:lnTo>
                      <a:pt x="10327" y="5505"/>
                    </a:lnTo>
                    <a:lnTo>
                      <a:pt x="9865" y="5627"/>
                    </a:lnTo>
                    <a:lnTo>
                      <a:pt x="9377" y="5724"/>
                    </a:lnTo>
                    <a:lnTo>
                      <a:pt x="8817" y="5822"/>
                    </a:lnTo>
                    <a:lnTo>
                      <a:pt x="8208" y="5895"/>
                    </a:lnTo>
                    <a:lnTo>
                      <a:pt x="7551" y="5944"/>
                    </a:lnTo>
                    <a:lnTo>
                      <a:pt x="6845" y="5992"/>
                    </a:lnTo>
                    <a:lnTo>
                      <a:pt x="6065" y="5992"/>
                    </a:lnTo>
                    <a:lnTo>
                      <a:pt x="5286" y="5992"/>
                    </a:lnTo>
                    <a:lnTo>
                      <a:pt x="4580" y="5944"/>
                    </a:lnTo>
                    <a:lnTo>
                      <a:pt x="3922" y="5895"/>
                    </a:lnTo>
                    <a:lnTo>
                      <a:pt x="3313" y="5822"/>
                    </a:lnTo>
                    <a:lnTo>
                      <a:pt x="2753" y="5724"/>
                    </a:lnTo>
                    <a:lnTo>
                      <a:pt x="2266" y="5627"/>
                    </a:lnTo>
                    <a:lnTo>
                      <a:pt x="1803" y="5505"/>
                    </a:lnTo>
                    <a:lnTo>
                      <a:pt x="1413" y="5383"/>
                    </a:lnTo>
                    <a:lnTo>
                      <a:pt x="1072" y="5262"/>
                    </a:lnTo>
                    <a:lnTo>
                      <a:pt x="756" y="5164"/>
                    </a:lnTo>
                    <a:lnTo>
                      <a:pt x="512" y="5042"/>
                    </a:lnTo>
                    <a:lnTo>
                      <a:pt x="317" y="4921"/>
                    </a:lnTo>
                    <a:lnTo>
                      <a:pt x="171" y="4823"/>
                    </a:lnTo>
                    <a:lnTo>
                      <a:pt x="74" y="4750"/>
                    </a:lnTo>
                    <a:lnTo>
                      <a:pt x="25" y="4677"/>
                    </a:lnTo>
                    <a:lnTo>
                      <a:pt x="1" y="4628"/>
                    </a:lnTo>
                  </a:path>
                </a:pathLst>
              </a:custGeom>
              <a:noFill/>
              <a:ln cap="rnd" w="12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91080" bIns="91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  <p:sp>
            <p:nvSpPr>
              <p:cNvPr id="918" name="Google Shape;737;p43"/>
              <p:cNvSpPr/>
              <p:nvPr/>
            </p:nvSpPr>
            <p:spPr>
              <a:xfrm>
                <a:off x="5540040" y="1591200"/>
                <a:ext cx="105120" cy="84600"/>
              </a:xfrm>
              <a:custGeom>
                <a:avLst/>
                <a:gdLst/>
                <a:ahLst/>
                <a:rect l="l" t="t" r="r" b="b"/>
                <a:pathLst>
                  <a:path fill="none" w="3240" h="2607">
                    <a:moveTo>
                      <a:pt x="1632" y="2607"/>
                    </a:moveTo>
                    <a:lnTo>
                      <a:pt x="1632" y="2607"/>
                    </a:lnTo>
                    <a:lnTo>
                      <a:pt x="1291" y="2582"/>
                    </a:lnTo>
                    <a:lnTo>
                      <a:pt x="999" y="2509"/>
                    </a:lnTo>
                    <a:lnTo>
                      <a:pt x="731" y="2388"/>
                    </a:lnTo>
                    <a:lnTo>
                      <a:pt x="488" y="2217"/>
                    </a:lnTo>
                    <a:lnTo>
                      <a:pt x="293" y="2047"/>
                    </a:lnTo>
                    <a:lnTo>
                      <a:pt x="122" y="1803"/>
                    </a:lnTo>
                    <a:lnTo>
                      <a:pt x="74" y="1706"/>
                    </a:lnTo>
                    <a:lnTo>
                      <a:pt x="49" y="1559"/>
                    </a:lnTo>
                    <a:lnTo>
                      <a:pt x="25" y="1438"/>
                    </a:lnTo>
                    <a:lnTo>
                      <a:pt x="1" y="1316"/>
                    </a:lnTo>
                    <a:lnTo>
                      <a:pt x="25" y="1170"/>
                    </a:lnTo>
                    <a:lnTo>
                      <a:pt x="49" y="1048"/>
                    </a:lnTo>
                    <a:lnTo>
                      <a:pt x="74" y="926"/>
                    </a:lnTo>
                    <a:lnTo>
                      <a:pt x="122" y="804"/>
                    </a:lnTo>
                    <a:lnTo>
                      <a:pt x="293" y="585"/>
                    </a:lnTo>
                    <a:lnTo>
                      <a:pt x="488" y="390"/>
                    </a:lnTo>
                    <a:lnTo>
                      <a:pt x="731" y="220"/>
                    </a:lnTo>
                    <a:lnTo>
                      <a:pt x="999" y="98"/>
                    </a:lnTo>
                    <a:lnTo>
                      <a:pt x="1291" y="25"/>
                    </a:lnTo>
                    <a:lnTo>
                      <a:pt x="1632" y="1"/>
                    </a:lnTo>
                    <a:lnTo>
                      <a:pt x="1803" y="1"/>
                    </a:lnTo>
                    <a:lnTo>
                      <a:pt x="1949" y="49"/>
                    </a:lnTo>
                    <a:lnTo>
                      <a:pt x="2120" y="98"/>
                    </a:lnTo>
                    <a:lnTo>
                      <a:pt x="2266" y="171"/>
                    </a:lnTo>
                    <a:lnTo>
                      <a:pt x="2412" y="269"/>
                    </a:lnTo>
                    <a:lnTo>
                      <a:pt x="2534" y="390"/>
                    </a:lnTo>
                    <a:lnTo>
                      <a:pt x="2777" y="634"/>
                    </a:lnTo>
                    <a:lnTo>
                      <a:pt x="2972" y="926"/>
                    </a:lnTo>
                    <a:lnTo>
                      <a:pt x="3118" y="1219"/>
                    </a:lnTo>
                    <a:lnTo>
                      <a:pt x="3215" y="1535"/>
                    </a:lnTo>
                    <a:lnTo>
                      <a:pt x="3240" y="1681"/>
                    </a:lnTo>
                    <a:lnTo>
                      <a:pt x="3240" y="1803"/>
                    </a:lnTo>
                    <a:lnTo>
                      <a:pt x="3240" y="1949"/>
                    </a:lnTo>
                    <a:lnTo>
                      <a:pt x="3215" y="2047"/>
                    </a:lnTo>
                    <a:lnTo>
                      <a:pt x="3167" y="2144"/>
                    </a:lnTo>
                    <a:lnTo>
                      <a:pt x="3118" y="2241"/>
                    </a:lnTo>
                    <a:lnTo>
                      <a:pt x="3045" y="2314"/>
                    </a:lnTo>
                    <a:lnTo>
                      <a:pt x="2972" y="2388"/>
                    </a:lnTo>
                    <a:lnTo>
                      <a:pt x="2777" y="2485"/>
                    </a:lnTo>
                    <a:lnTo>
                      <a:pt x="2534" y="2558"/>
                    </a:lnTo>
                    <a:lnTo>
                      <a:pt x="2266" y="2582"/>
                    </a:lnTo>
                    <a:lnTo>
                      <a:pt x="1949" y="2607"/>
                    </a:lnTo>
                    <a:lnTo>
                      <a:pt x="1632" y="2607"/>
                    </a:lnTo>
                  </a:path>
                </a:pathLst>
              </a:custGeom>
              <a:noFill/>
              <a:ln cap="rnd" w="12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-6480" bIns="-6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  <p:sp>
            <p:nvSpPr>
              <p:cNvPr id="919" name="Google Shape;738;p43"/>
              <p:cNvSpPr/>
              <p:nvPr/>
            </p:nvSpPr>
            <p:spPr>
              <a:xfrm>
                <a:off x="5696640" y="1652400"/>
                <a:ext cx="144000" cy="360"/>
              </a:xfrm>
              <a:custGeom>
                <a:avLst/>
                <a:gdLst/>
                <a:ahLst/>
                <a:rect l="l" t="t" r="r" b="b"/>
                <a:pathLst>
                  <a:path fill="none" w="4434" h="1">
                    <a:moveTo>
                      <a:pt x="1" y="0"/>
                    </a:moveTo>
                    <a:lnTo>
                      <a:pt x="4434" y="0"/>
                    </a:lnTo>
                  </a:path>
                </a:pathLst>
              </a:custGeom>
              <a:noFill/>
              <a:ln cap="rnd" w="12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-90720" bIns="-90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  <p:sp>
            <p:nvSpPr>
              <p:cNvPr id="920" name="Google Shape;739;p43"/>
              <p:cNvSpPr/>
              <p:nvPr/>
            </p:nvSpPr>
            <p:spPr>
              <a:xfrm>
                <a:off x="5687280" y="1617480"/>
                <a:ext cx="163080" cy="360"/>
              </a:xfrm>
              <a:custGeom>
                <a:avLst/>
                <a:gdLst/>
                <a:ahLst/>
                <a:rect l="l" t="t" r="r" b="b"/>
                <a:pathLst>
                  <a:path fill="none" w="5018" h="1">
                    <a:moveTo>
                      <a:pt x="1" y="0"/>
                    </a:moveTo>
                    <a:lnTo>
                      <a:pt x="5018" y="0"/>
                    </a:lnTo>
                  </a:path>
                </a:pathLst>
              </a:custGeom>
              <a:noFill/>
              <a:ln cap="rnd" w="12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-90720" bIns="-90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  <p:sp>
            <p:nvSpPr>
              <p:cNvPr id="921" name="Google Shape;740;p43"/>
              <p:cNvSpPr/>
              <p:nvPr/>
            </p:nvSpPr>
            <p:spPr>
              <a:xfrm>
                <a:off x="5892480" y="1591200"/>
                <a:ext cx="105120" cy="84600"/>
              </a:xfrm>
              <a:custGeom>
                <a:avLst/>
                <a:gdLst/>
                <a:ahLst/>
                <a:rect l="l" t="t" r="r" b="b"/>
                <a:pathLst>
                  <a:path fill="none" w="3240" h="2607">
                    <a:moveTo>
                      <a:pt x="1608" y="2607"/>
                    </a:moveTo>
                    <a:lnTo>
                      <a:pt x="1608" y="2607"/>
                    </a:lnTo>
                    <a:lnTo>
                      <a:pt x="1291" y="2607"/>
                    </a:lnTo>
                    <a:lnTo>
                      <a:pt x="975" y="2582"/>
                    </a:lnTo>
                    <a:lnTo>
                      <a:pt x="707" y="2558"/>
                    </a:lnTo>
                    <a:lnTo>
                      <a:pt x="463" y="2485"/>
                    </a:lnTo>
                    <a:lnTo>
                      <a:pt x="268" y="2388"/>
                    </a:lnTo>
                    <a:lnTo>
                      <a:pt x="195" y="2314"/>
                    </a:lnTo>
                    <a:lnTo>
                      <a:pt x="122" y="2241"/>
                    </a:lnTo>
                    <a:lnTo>
                      <a:pt x="74" y="2144"/>
                    </a:lnTo>
                    <a:lnTo>
                      <a:pt x="25" y="2047"/>
                    </a:lnTo>
                    <a:lnTo>
                      <a:pt x="1" y="1949"/>
                    </a:lnTo>
                    <a:lnTo>
                      <a:pt x="1" y="1803"/>
                    </a:lnTo>
                    <a:lnTo>
                      <a:pt x="1" y="1681"/>
                    </a:lnTo>
                    <a:lnTo>
                      <a:pt x="25" y="1535"/>
                    </a:lnTo>
                    <a:lnTo>
                      <a:pt x="122" y="1219"/>
                    </a:lnTo>
                    <a:lnTo>
                      <a:pt x="268" y="926"/>
                    </a:lnTo>
                    <a:lnTo>
                      <a:pt x="463" y="634"/>
                    </a:lnTo>
                    <a:lnTo>
                      <a:pt x="707" y="390"/>
                    </a:lnTo>
                    <a:lnTo>
                      <a:pt x="829" y="269"/>
                    </a:lnTo>
                    <a:lnTo>
                      <a:pt x="975" y="171"/>
                    </a:lnTo>
                    <a:lnTo>
                      <a:pt x="1121" y="98"/>
                    </a:lnTo>
                    <a:lnTo>
                      <a:pt x="1291" y="49"/>
                    </a:lnTo>
                    <a:lnTo>
                      <a:pt x="1438" y="1"/>
                    </a:lnTo>
                    <a:lnTo>
                      <a:pt x="1608" y="1"/>
                    </a:lnTo>
                    <a:lnTo>
                      <a:pt x="1949" y="25"/>
                    </a:lnTo>
                    <a:lnTo>
                      <a:pt x="2241" y="98"/>
                    </a:lnTo>
                    <a:lnTo>
                      <a:pt x="2509" y="220"/>
                    </a:lnTo>
                    <a:lnTo>
                      <a:pt x="2753" y="390"/>
                    </a:lnTo>
                    <a:lnTo>
                      <a:pt x="2948" y="585"/>
                    </a:lnTo>
                    <a:lnTo>
                      <a:pt x="3118" y="804"/>
                    </a:lnTo>
                    <a:lnTo>
                      <a:pt x="3167" y="926"/>
                    </a:lnTo>
                    <a:lnTo>
                      <a:pt x="3191" y="1048"/>
                    </a:lnTo>
                    <a:lnTo>
                      <a:pt x="3215" y="1170"/>
                    </a:lnTo>
                    <a:lnTo>
                      <a:pt x="3240" y="1316"/>
                    </a:lnTo>
                    <a:lnTo>
                      <a:pt x="3215" y="1438"/>
                    </a:lnTo>
                    <a:lnTo>
                      <a:pt x="3191" y="1559"/>
                    </a:lnTo>
                    <a:lnTo>
                      <a:pt x="3167" y="1706"/>
                    </a:lnTo>
                    <a:lnTo>
                      <a:pt x="3118" y="1803"/>
                    </a:lnTo>
                    <a:lnTo>
                      <a:pt x="2948" y="2047"/>
                    </a:lnTo>
                    <a:lnTo>
                      <a:pt x="2753" y="2217"/>
                    </a:lnTo>
                    <a:lnTo>
                      <a:pt x="2509" y="2388"/>
                    </a:lnTo>
                    <a:lnTo>
                      <a:pt x="2241" y="2509"/>
                    </a:lnTo>
                    <a:lnTo>
                      <a:pt x="1949" y="2582"/>
                    </a:lnTo>
                    <a:lnTo>
                      <a:pt x="1608" y="2607"/>
                    </a:lnTo>
                  </a:path>
                </a:pathLst>
              </a:custGeom>
              <a:noFill/>
              <a:ln cap="rnd" w="12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-6480" bIns="-6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922" name="TextBox 40"/>
          <p:cNvSpPr/>
          <p:nvPr/>
        </p:nvSpPr>
        <p:spPr>
          <a:xfrm>
            <a:off x="3247920" y="4349880"/>
            <a:ext cx="27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info@chiro74.ru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3" name="TextBox 41"/>
          <p:cNvSpPr/>
          <p:nvPr/>
        </p:nvSpPr>
        <p:spPr>
          <a:xfrm>
            <a:off x="5226120" y="4356000"/>
            <a:ext cx="314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8 (351) 217 30 89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4" name="TextBox 43"/>
          <p:cNvSpPr/>
          <p:nvPr/>
        </p:nvSpPr>
        <p:spPr>
          <a:xfrm>
            <a:off x="2774880" y="2052720"/>
            <a:ext cx="6112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454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111, г. Челябинск, ул. Комсомольская, д. 20А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454087, г. Челябинск, ул. Блюхера, д. 9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454091, г. Челябинск, ул. Красноармейская, д. 88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454048, г. Челябинск, ул. Худякова, д. 20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5" name="Google Shape;59;g142ea23b5d2_0_0"/>
          <p:cNvSpPr/>
          <p:nvPr/>
        </p:nvSpPr>
        <p:spPr>
          <a:xfrm>
            <a:off x="3944880" y="4637160"/>
            <a:ext cx="36594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121680" bIns="121680" anchor="t">
            <a:spAutoFit/>
          </a:bodyPr>
          <a:p>
            <a:pPr marL="15840" algn="ctr">
              <a:lnSpc>
                <a:spcPct val="150000"/>
              </a:lnSpc>
              <a:spcBef>
                <a:spcPts val="1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03864"/>
                </a:solidFill>
                <a:latin typeface="Calibri"/>
                <a:ea typeface="Jost"/>
              </a:rPr>
              <a:t>МЫ В СОЦИАЛЬНЫХ СЕТЯХ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926" name="Группа 5"/>
          <p:cNvGrpSpPr/>
          <p:nvPr/>
        </p:nvGrpSpPr>
        <p:grpSpPr>
          <a:xfrm>
            <a:off x="6307200" y="3443400"/>
            <a:ext cx="984240" cy="903240"/>
            <a:chOff x="6307200" y="3443400"/>
            <a:chExt cx="984240" cy="903240"/>
          </a:xfrm>
        </p:grpSpPr>
        <p:sp>
          <p:nvSpPr>
            <p:cNvPr id="927" name="Прямоугольник 53"/>
            <p:cNvSpPr/>
            <p:nvPr/>
          </p:nvSpPr>
          <p:spPr>
            <a:xfrm>
              <a:off x="6307200" y="3443400"/>
              <a:ext cx="984240" cy="903240"/>
            </a:xfrm>
            <a:prstGeom prst="rect">
              <a:avLst/>
            </a:prstGeom>
            <a:solidFill>
              <a:srgbClr val="264796"/>
            </a:solidFill>
            <a:ln w="6480">
              <a:solidFill>
                <a:srgbClr val="4472c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928" name="Google Shape;653;p43"/>
            <p:cNvSpPr/>
            <p:nvPr/>
          </p:nvSpPr>
          <p:spPr>
            <a:xfrm>
              <a:off x="6585480" y="3562920"/>
              <a:ext cx="427320" cy="679320"/>
            </a:xfrm>
            <a:custGeom>
              <a:avLst/>
              <a:gdLst/>
              <a:ahLst/>
              <a:rect l="l" t="t" r="r" b="b"/>
              <a:pathLst>
                <a:path fill="none" w="11838" h="20508">
                  <a:moveTo>
                    <a:pt x="10547" y="1"/>
                  </a:moveTo>
                  <a:lnTo>
                    <a:pt x="1292" y="1"/>
                  </a:lnTo>
                  <a:lnTo>
                    <a:pt x="1024" y="25"/>
                  </a:lnTo>
                  <a:lnTo>
                    <a:pt x="780" y="98"/>
                  </a:lnTo>
                  <a:lnTo>
                    <a:pt x="561" y="220"/>
                  </a:lnTo>
                  <a:lnTo>
                    <a:pt x="366" y="366"/>
                  </a:lnTo>
                  <a:lnTo>
                    <a:pt x="220" y="561"/>
                  </a:lnTo>
                  <a:lnTo>
                    <a:pt x="98" y="780"/>
                  </a:lnTo>
                  <a:lnTo>
                    <a:pt x="25" y="1024"/>
                  </a:lnTo>
                  <a:lnTo>
                    <a:pt x="1" y="1292"/>
                  </a:lnTo>
                  <a:lnTo>
                    <a:pt x="1" y="19217"/>
                  </a:lnTo>
                  <a:lnTo>
                    <a:pt x="25" y="19485"/>
                  </a:lnTo>
                  <a:lnTo>
                    <a:pt x="98" y="19728"/>
                  </a:lnTo>
                  <a:lnTo>
                    <a:pt x="220" y="19948"/>
                  </a:lnTo>
                  <a:lnTo>
                    <a:pt x="366" y="20142"/>
                  </a:lnTo>
                  <a:lnTo>
                    <a:pt x="561" y="20289"/>
                  </a:lnTo>
                  <a:lnTo>
                    <a:pt x="780" y="20410"/>
                  </a:lnTo>
                  <a:lnTo>
                    <a:pt x="1024" y="20483"/>
                  </a:lnTo>
                  <a:lnTo>
                    <a:pt x="1292" y="20508"/>
                  </a:lnTo>
                  <a:lnTo>
                    <a:pt x="10547" y="20508"/>
                  </a:lnTo>
                  <a:lnTo>
                    <a:pt x="10814" y="20483"/>
                  </a:lnTo>
                  <a:lnTo>
                    <a:pt x="11058" y="20410"/>
                  </a:lnTo>
                  <a:lnTo>
                    <a:pt x="11277" y="20289"/>
                  </a:lnTo>
                  <a:lnTo>
                    <a:pt x="11472" y="20142"/>
                  </a:lnTo>
                  <a:lnTo>
                    <a:pt x="11618" y="19948"/>
                  </a:lnTo>
                  <a:lnTo>
                    <a:pt x="11740" y="19728"/>
                  </a:lnTo>
                  <a:lnTo>
                    <a:pt x="11813" y="19485"/>
                  </a:lnTo>
                  <a:lnTo>
                    <a:pt x="11837" y="19217"/>
                  </a:lnTo>
                  <a:lnTo>
                    <a:pt x="11837" y="1292"/>
                  </a:lnTo>
                  <a:lnTo>
                    <a:pt x="11813" y="1024"/>
                  </a:lnTo>
                  <a:lnTo>
                    <a:pt x="11740" y="780"/>
                  </a:lnTo>
                  <a:lnTo>
                    <a:pt x="11618" y="561"/>
                  </a:lnTo>
                  <a:lnTo>
                    <a:pt x="11472" y="366"/>
                  </a:lnTo>
                  <a:lnTo>
                    <a:pt x="11277" y="220"/>
                  </a:lnTo>
                  <a:lnTo>
                    <a:pt x="11058" y="98"/>
                  </a:lnTo>
                  <a:lnTo>
                    <a:pt x="10814" y="25"/>
                  </a:lnTo>
                  <a:lnTo>
                    <a:pt x="10547" y="1"/>
                  </a:lnTo>
                  <a:close/>
                  <a:moveTo>
                    <a:pt x="5554" y="975"/>
                  </a:moveTo>
                  <a:lnTo>
                    <a:pt x="6284" y="975"/>
                  </a:lnTo>
                  <a:lnTo>
                    <a:pt x="6406" y="999"/>
                  </a:lnTo>
                  <a:lnTo>
                    <a:pt x="6479" y="1073"/>
                  </a:lnTo>
                  <a:lnTo>
                    <a:pt x="6552" y="1146"/>
                  </a:lnTo>
                  <a:lnTo>
                    <a:pt x="6577" y="1267"/>
                  </a:lnTo>
                  <a:lnTo>
                    <a:pt x="6552" y="1365"/>
                  </a:lnTo>
                  <a:lnTo>
                    <a:pt x="6479" y="1462"/>
                  </a:lnTo>
                  <a:lnTo>
                    <a:pt x="6406" y="1511"/>
                  </a:lnTo>
                  <a:lnTo>
                    <a:pt x="6284" y="1535"/>
                  </a:lnTo>
                  <a:lnTo>
                    <a:pt x="5554" y="1535"/>
                  </a:lnTo>
                  <a:lnTo>
                    <a:pt x="5432" y="1511"/>
                  </a:lnTo>
                  <a:lnTo>
                    <a:pt x="5359" y="1462"/>
                  </a:lnTo>
                  <a:lnTo>
                    <a:pt x="5286" y="1365"/>
                  </a:lnTo>
                  <a:lnTo>
                    <a:pt x="5262" y="1267"/>
                  </a:lnTo>
                  <a:lnTo>
                    <a:pt x="5286" y="1146"/>
                  </a:lnTo>
                  <a:lnTo>
                    <a:pt x="5359" y="1073"/>
                  </a:lnTo>
                  <a:lnTo>
                    <a:pt x="5432" y="999"/>
                  </a:lnTo>
                  <a:lnTo>
                    <a:pt x="5554" y="975"/>
                  </a:lnTo>
                  <a:close/>
                  <a:moveTo>
                    <a:pt x="5919" y="19436"/>
                  </a:moveTo>
                  <a:lnTo>
                    <a:pt x="5919" y="19436"/>
                  </a:lnTo>
                  <a:lnTo>
                    <a:pt x="5749" y="19412"/>
                  </a:lnTo>
                  <a:lnTo>
                    <a:pt x="5578" y="19363"/>
                  </a:lnTo>
                  <a:lnTo>
                    <a:pt x="5432" y="19290"/>
                  </a:lnTo>
                  <a:lnTo>
                    <a:pt x="5310" y="19193"/>
                  </a:lnTo>
                  <a:lnTo>
                    <a:pt x="5213" y="19071"/>
                  </a:lnTo>
                  <a:lnTo>
                    <a:pt x="5140" y="18925"/>
                  </a:lnTo>
                  <a:lnTo>
                    <a:pt x="5091" y="18754"/>
                  </a:lnTo>
                  <a:lnTo>
                    <a:pt x="5067" y="18584"/>
                  </a:lnTo>
                  <a:lnTo>
                    <a:pt x="5091" y="18413"/>
                  </a:lnTo>
                  <a:lnTo>
                    <a:pt x="5140" y="18243"/>
                  </a:lnTo>
                  <a:lnTo>
                    <a:pt x="5213" y="18097"/>
                  </a:lnTo>
                  <a:lnTo>
                    <a:pt x="5310" y="17975"/>
                  </a:lnTo>
                  <a:lnTo>
                    <a:pt x="5432" y="17877"/>
                  </a:lnTo>
                  <a:lnTo>
                    <a:pt x="5578" y="17804"/>
                  </a:lnTo>
                  <a:lnTo>
                    <a:pt x="5749" y="17756"/>
                  </a:lnTo>
                  <a:lnTo>
                    <a:pt x="5919" y="17731"/>
                  </a:lnTo>
                  <a:lnTo>
                    <a:pt x="6090" y="17756"/>
                  </a:lnTo>
                  <a:lnTo>
                    <a:pt x="6260" y="17804"/>
                  </a:lnTo>
                  <a:lnTo>
                    <a:pt x="6406" y="17877"/>
                  </a:lnTo>
                  <a:lnTo>
                    <a:pt x="6528" y="17975"/>
                  </a:lnTo>
                  <a:lnTo>
                    <a:pt x="6625" y="18097"/>
                  </a:lnTo>
                  <a:lnTo>
                    <a:pt x="6699" y="18243"/>
                  </a:lnTo>
                  <a:lnTo>
                    <a:pt x="6747" y="18413"/>
                  </a:lnTo>
                  <a:lnTo>
                    <a:pt x="6772" y="18584"/>
                  </a:lnTo>
                  <a:lnTo>
                    <a:pt x="6747" y="18754"/>
                  </a:lnTo>
                  <a:lnTo>
                    <a:pt x="6699" y="18925"/>
                  </a:lnTo>
                  <a:lnTo>
                    <a:pt x="6625" y="19071"/>
                  </a:lnTo>
                  <a:lnTo>
                    <a:pt x="6528" y="19193"/>
                  </a:lnTo>
                  <a:lnTo>
                    <a:pt x="6406" y="19290"/>
                  </a:lnTo>
                  <a:lnTo>
                    <a:pt x="6260" y="19363"/>
                  </a:lnTo>
                  <a:lnTo>
                    <a:pt x="6090" y="19412"/>
                  </a:lnTo>
                  <a:lnTo>
                    <a:pt x="5919" y="19436"/>
                  </a:lnTo>
                  <a:close/>
                  <a:moveTo>
                    <a:pt x="10547" y="16660"/>
                  </a:moveTo>
                  <a:lnTo>
                    <a:pt x="1292" y="16660"/>
                  </a:lnTo>
                  <a:lnTo>
                    <a:pt x="1292" y="2558"/>
                  </a:lnTo>
                  <a:lnTo>
                    <a:pt x="10547" y="2558"/>
                  </a:lnTo>
                  <a:lnTo>
                    <a:pt x="10547" y="16660"/>
                  </a:lnTo>
                  <a:close/>
                </a:path>
              </a:pathLst>
            </a:custGeom>
            <a:noFill/>
            <a:ln cap="rnd" w="12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91080" bIns="91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grpSp>
        <p:nvGrpSpPr>
          <p:cNvPr id="929" name="Группа 6"/>
          <p:cNvGrpSpPr/>
          <p:nvPr/>
        </p:nvGrpSpPr>
        <p:grpSpPr>
          <a:xfrm>
            <a:off x="2048760" y="5133960"/>
            <a:ext cx="8094960" cy="1638720"/>
            <a:chOff x="2048760" y="5133960"/>
            <a:chExt cx="8094960" cy="1638720"/>
          </a:xfrm>
        </p:grpSpPr>
        <p:pic>
          <p:nvPicPr>
            <p:cNvPr id="930" name="Picture 2" descr="http://qrcoder.ru/code/?https%3A%2F%2Frcokio.ru%2F&amp;4&amp;0"/>
            <p:cNvPicPr/>
            <p:nvPr/>
          </p:nvPicPr>
          <p:blipFill>
            <a:blip r:embed="rId2"/>
            <a:stretch/>
          </p:blipFill>
          <p:spPr>
            <a:xfrm>
              <a:off x="2153160" y="5217480"/>
              <a:ext cx="1267200" cy="126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1" name="TextBox 1"/>
            <p:cNvSpPr/>
            <p:nvPr/>
          </p:nvSpPr>
          <p:spPr>
            <a:xfrm>
              <a:off x="2048760" y="6483240"/>
              <a:ext cx="1476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Calibri"/>
                </a:rPr>
                <a:t>сайт ГБУ ДПО ЧИРО</a:t>
              </a:r>
              <a:endParaRPr b="0" lang="en-US" sz="12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932" name="TextBox 49"/>
            <p:cNvSpPr/>
            <p:nvPr/>
          </p:nvSpPr>
          <p:spPr>
            <a:xfrm>
              <a:off x="4250520" y="6483240"/>
              <a:ext cx="1244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Calibri"/>
                </a:rPr>
                <a:t>Телеграм-канал</a:t>
              </a:r>
              <a:endParaRPr b="0" lang="en-US" sz="12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933" name="TextBox 50"/>
            <p:cNvSpPr/>
            <p:nvPr/>
          </p:nvSpPr>
          <p:spPr>
            <a:xfrm>
              <a:off x="6061320" y="6483240"/>
              <a:ext cx="1809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Calibri"/>
                </a:rPr>
                <a:t>Сообщество в ВКонтакте</a:t>
              </a:r>
              <a:endParaRPr b="0" lang="en-US" sz="12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pic>
          <p:nvPicPr>
            <p:cNvPr id="934" name="Рисунок 2" descr=""/>
            <p:cNvPicPr/>
            <p:nvPr/>
          </p:nvPicPr>
          <p:blipFill>
            <a:blip r:embed="rId3">
              <a:biLevel thresh="50000"/>
            </a:blip>
            <a:stretch/>
          </p:blipFill>
          <p:spPr>
            <a:xfrm>
              <a:off x="6279480" y="5133960"/>
              <a:ext cx="1374480" cy="1374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5" name="Рисунок 3" descr=""/>
            <p:cNvPicPr/>
            <p:nvPr/>
          </p:nvPicPr>
          <p:blipFill>
            <a:blip r:embed="rId4"/>
            <a:srcRect l="17901" t="3970" r="16637" b="5413"/>
            <a:stretch/>
          </p:blipFill>
          <p:spPr>
            <a:xfrm>
              <a:off x="4239720" y="5231520"/>
              <a:ext cx="1267200" cy="117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6" name="Рисунок 4" descr=""/>
            <p:cNvPicPr/>
            <p:nvPr/>
          </p:nvPicPr>
          <p:blipFill>
            <a:blip r:embed="rId5"/>
            <a:stretch/>
          </p:blipFill>
          <p:spPr>
            <a:xfrm>
              <a:off x="8339760" y="5133960"/>
              <a:ext cx="1375200" cy="137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7" name="TextBox 42"/>
            <p:cNvSpPr/>
            <p:nvPr/>
          </p:nvSpPr>
          <p:spPr>
            <a:xfrm>
              <a:off x="7910280" y="6496200"/>
              <a:ext cx="2233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Calibri"/>
                </a:rPr>
                <a:t>Сообщество в Одноклассниках</a:t>
              </a:r>
              <a:endParaRPr b="0" lang="en-US" sz="12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pic>
        <p:nvPicPr>
          <p:cNvPr id="938" name="Рисунок 12" descr=""/>
          <p:cNvPicPr/>
          <p:nvPr/>
        </p:nvPicPr>
        <p:blipFill>
          <a:blip r:embed="rId6"/>
          <a:stretch/>
        </p:blipFill>
        <p:spPr>
          <a:xfrm>
            <a:off x="9028080" y="157320"/>
            <a:ext cx="2594160" cy="1118880"/>
          </a:xfrm>
          <a:prstGeom prst="rect">
            <a:avLst/>
          </a:prstGeom>
          <a:ln w="0">
            <a:noFill/>
          </a:ln>
        </p:spPr>
      </p:pic>
      <p:sp>
        <p:nvSpPr>
          <p:cNvPr id="939" name="PlaceHolder 1"/>
          <p:cNvSpPr>
            <a:spLocks noGrp="1"/>
          </p:cNvSpPr>
          <p:nvPr>
            <p:ph type="dt" idx="46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 type="ftr" idx="4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 type="sldNum" idx="48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7EE3E-6194-4178-B276-EA8ADC967045}" type="slidenum">
              <a:rPr b="0" lang="ru-RU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7"/>
    <p:sldLayoutId id="2147483871" r:id="rId8"/>
    <p:sldLayoutId id="2147483872" r:id="rId9"/>
    <p:sldLayoutId id="2147483873" r:id="rId10"/>
    <p:sldLayoutId id="2147483874" r:id="rId11"/>
    <p:sldLayoutId id="2147483875" r:id="rId12"/>
    <p:sldLayoutId id="2147483876" r:id="rId13"/>
    <p:sldLayoutId id="2147483877" r:id="rId14"/>
    <p:sldLayoutId id="2147483878" r:id="rId15"/>
    <p:sldLayoutId id="2147483879" r:id="rId16"/>
    <p:sldLayoutId id="2147483880" r:id="rId17"/>
    <p:sldLayoutId id="2147483881" r:id="rId18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Блок-схема: данные 4"/>
          <p:cNvSpPr/>
          <p:nvPr/>
        </p:nvSpPr>
        <p:spPr>
          <a:xfrm>
            <a:off x="0" y="0"/>
            <a:ext cx="8861400" cy="83988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0" y="10000"/>
                </a:moveTo>
                <a:cubicBezTo>
                  <a:pt x="12" y="6637"/>
                  <a:pt x="-4" y="3363"/>
                  <a:pt x="8" y="0"/>
                </a:cubicBezTo>
                <a:lnTo>
                  <a:pt x="10000" y="0"/>
                </a:lnTo>
                <a:lnTo>
                  <a:pt x="8563" y="10000"/>
                </a:lnTo>
                <a:lnTo>
                  <a:pt x="0" y="10000"/>
                </a:lnTo>
                <a:close/>
              </a:path>
            </a:pathLst>
          </a:custGeom>
          <a:solidFill>
            <a:srgbClr val="e31e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9" name="Блок-схема: данные 4"/>
          <p:cNvSpPr/>
          <p:nvPr/>
        </p:nvSpPr>
        <p:spPr>
          <a:xfrm>
            <a:off x="0" y="0"/>
            <a:ext cx="8791560" cy="80640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0" y="10000"/>
                </a:moveTo>
                <a:cubicBezTo>
                  <a:pt x="12" y="6637"/>
                  <a:pt x="-4" y="3363"/>
                  <a:pt x="8" y="0"/>
                </a:cubicBezTo>
                <a:lnTo>
                  <a:pt x="10000" y="0"/>
                </a:lnTo>
                <a:lnTo>
                  <a:pt x="8563" y="10000"/>
                </a:lnTo>
                <a:lnTo>
                  <a:pt x="0" y="10000"/>
                </a:lnTo>
                <a:close/>
              </a:path>
            </a:pathLst>
          </a:custGeom>
          <a:solidFill>
            <a:srgbClr val="2647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0" name="TextBox 10"/>
          <p:cNvSpPr/>
          <p:nvPr/>
        </p:nvSpPr>
        <p:spPr>
          <a:xfrm>
            <a:off x="-525600" y="157320"/>
            <a:ext cx="80582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Государственное бюджетное учреждение дополнительного профессионального образования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«Челябинский институт развития образования»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1" name="Прямоугольник 11"/>
          <p:cNvSpPr/>
          <p:nvPr/>
        </p:nvSpPr>
        <p:spPr>
          <a:xfrm>
            <a:off x="4119480" y="3444840"/>
            <a:ext cx="946080" cy="905040"/>
          </a:xfrm>
          <a:prstGeom prst="rect">
            <a:avLst/>
          </a:prstGeom>
          <a:solidFill>
            <a:srgbClr val="264796"/>
          </a:solidFill>
          <a:ln w="6480">
            <a:solidFill>
              <a:srgbClr val="4472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982" name="Google Shape;559;p43"/>
          <p:cNvGrpSpPr/>
          <p:nvPr/>
        </p:nvGrpSpPr>
        <p:grpSpPr>
          <a:xfrm>
            <a:off x="4321080" y="3598920"/>
            <a:ext cx="573120" cy="552240"/>
            <a:chOff x="4321080" y="3598920"/>
            <a:chExt cx="573120" cy="552240"/>
          </a:xfrm>
        </p:grpSpPr>
        <p:sp>
          <p:nvSpPr>
            <p:cNvPr id="983" name="Google Shape;560;p43"/>
            <p:cNvSpPr/>
            <p:nvPr/>
          </p:nvSpPr>
          <p:spPr>
            <a:xfrm>
              <a:off x="4321080" y="3598920"/>
              <a:ext cx="573120" cy="540000"/>
            </a:xfrm>
            <a:custGeom>
              <a:avLst/>
              <a:gdLst/>
              <a:ahLst/>
              <a:rect l="l" t="t" r="r" b="b"/>
              <a:pathLst>
                <a:path fill="none" w="18608" h="17805">
                  <a:moveTo>
                    <a:pt x="13493" y="14127"/>
                  </a:moveTo>
                  <a:lnTo>
                    <a:pt x="18608" y="17804"/>
                  </a:lnTo>
                  <a:lnTo>
                    <a:pt x="18608" y="17731"/>
                  </a:lnTo>
                  <a:lnTo>
                    <a:pt x="18608" y="6723"/>
                  </a:lnTo>
                  <a:lnTo>
                    <a:pt x="9304" y="1"/>
                  </a:lnTo>
                  <a:lnTo>
                    <a:pt x="1" y="6723"/>
                  </a:lnTo>
                  <a:lnTo>
                    <a:pt x="1" y="17731"/>
                  </a:lnTo>
                  <a:lnTo>
                    <a:pt x="1" y="17804"/>
                  </a:lnTo>
                  <a:lnTo>
                    <a:pt x="5115" y="14127"/>
                  </a:lnTo>
                </a:path>
              </a:pathLst>
            </a:custGeom>
            <a:noFill/>
            <a:ln cap="rnd" w="12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91080" bIns="91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984" name="Google Shape;561;p43"/>
            <p:cNvSpPr/>
            <p:nvPr/>
          </p:nvSpPr>
          <p:spPr>
            <a:xfrm>
              <a:off x="4330800" y="4150440"/>
              <a:ext cx="553680" cy="720"/>
            </a:xfrm>
            <a:custGeom>
              <a:avLst/>
              <a:gdLst/>
              <a:ahLst/>
              <a:rect l="l" t="t" r="r" b="b"/>
              <a:pathLst>
                <a:path fill="none" w="17975" h="25">
                  <a:moveTo>
                    <a:pt x="0" y="0"/>
                  </a:moveTo>
                  <a:lnTo>
                    <a:pt x="0" y="0"/>
                  </a:lnTo>
                  <a:lnTo>
                    <a:pt x="98" y="0"/>
                  </a:lnTo>
                  <a:lnTo>
                    <a:pt x="171" y="24"/>
                  </a:lnTo>
                  <a:lnTo>
                    <a:pt x="17804" y="24"/>
                  </a:lnTo>
                  <a:lnTo>
                    <a:pt x="17877" y="0"/>
                  </a:lnTo>
                  <a:lnTo>
                    <a:pt x="17974" y="0"/>
                  </a:lnTo>
                </a:path>
              </a:pathLst>
            </a:custGeom>
            <a:noFill/>
            <a:ln cap="rnd" w="12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90360" bIns="-90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985" name="Google Shape;562;p43"/>
            <p:cNvSpPr/>
            <p:nvPr/>
          </p:nvSpPr>
          <p:spPr>
            <a:xfrm>
              <a:off x="4321080" y="3802680"/>
              <a:ext cx="573120" cy="208080"/>
            </a:xfrm>
            <a:custGeom>
              <a:avLst/>
              <a:gdLst/>
              <a:ahLst/>
              <a:rect l="l" t="t" r="r" b="b"/>
              <a:pathLst>
                <a:path fill="none" w="18608" h="6869">
                  <a:moveTo>
                    <a:pt x="18608" y="1"/>
                  </a:moveTo>
                  <a:lnTo>
                    <a:pt x="9450" y="6820"/>
                  </a:lnTo>
                  <a:lnTo>
                    <a:pt x="9377" y="6845"/>
                  </a:lnTo>
                  <a:lnTo>
                    <a:pt x="9304" y="6869"/>
                  </a:lnTo>
                  <a:lnTo>
                    <a:pt x="9231" y="6845"/>
                  </a:lnTo>
                  <a:lnTo>
                    <a:pt x="9158" y="6820"/>
                  </a:lnTo>
                  <a:lnTo>
                    <a:pt x="1" y="1"/>
                  </a:lnTo>
                </a:path>
              </a:pathLst>
            </a:custGeom>
            <a:noFill/>
            <a:ln cap="rnd" w="12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91080" bIns="91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986" name="Google Shape;563;p43"/>
            <p:cNvSpPr/>
            <p:nvPr/>
          </p:nvSpPr>
          <p:spPr>
            <a:xfrm>
              <a:off x="4435560" y="3752280"/>
              <a:ext cx="343800" cy="134280"/>
            </a:xfrm>
            <a:custGeom>
              <a:avLst/>
              <a:gdLst/>
              <a:ahLst/>
              <a:rect l="l" t="t" r="r" b="b"/>
              <a:pathLst>
                <a:path fill="none" w="11156" h="4434">
                  <a:moveTo>
                    <a:pt x="1" y="4433"/>
                  </a:moveTo>
                  <a:lnTo>
                    <a:pt x="1" y="1"/>
                  </a:lnTo>
                  <a:lnTo>
                    <a:pt x="11155" y="1"/>
                  </a:lnTo>
                  <a:lnTo>
                    <a:pt x="11155" y="4433"/>
                  </a:lnTo>
                </a:path>
              </a:pathLst>
            </a:custGeom>
            <a:noFill/>
            <a:ln cap="rnd" w="12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3200" bIns="43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987" name="Google Shape;564;p43"/>
            <p:cNvSpPr/>
            <p:nvPr/>
          </p:nvSpPr>
          <p:spPr>
            <a:xfrm>
              <a:off x="4525200" y="3824640"/>
              <a:ext cx="164880" cy="360"/>
            </a:xfrm>
            <a:custGeom>
              <a:avLst/>
              <a:gdLst/>
              <a:ahLst/>
              <a:rect l="l" t="t" r="r" b="b"/>
              <a:pathLst>
                <a:path fill="none" w="5359" h="1">
                  <a:moveTo>
                    <a:pt x="0" y="0"/>
                  </a:moveTo>
                  <a:lnTo>
                    <a:pt x="5358" y="0"/>
                  </a:lnTo>
                </a:path>
              </a:pathLst>
            </a:custGeom>
            <a:noFill/>
            <a:ln cap="rnd" w="12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90720" bIns="-90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988" name="Google Shape;565;p43"/>
            <p:cNvSpPr/>
            <p:nvPr/>
          </p:nvSpPr>
          <p:spPr>
            <a:xfrm>
              <a:off x="4525200" y="3866040"/>
              <a:ext cx="164880" cy="360"/>
            </a:xfrm>
            <a:custGeom>
              <a:avLst/>
              <a:gdLst/>
              <a:ahLst/>
              <a:rect l="l" t="t" r="r" b="b"/>
              <a:pathLst>
                <a:path fill="none" w="5359" h="1">
                  <a:moveTo>
                    <a:pt x="0" y="0"/>
                  </a:moveTo>
                  <a:lnTo>
                    <a:pt x="5358" y="0"/>
                  </a:lnTo>
                </a:path>
              </a:pathLst>
            </a:custGeom>
            <a:noFill/>
            <a:ln cap="rnd" w="12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90720" bIns="-90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989" name="Google Shape;566;p43"/>
            <p:cNvSpPr/>
            <p:nvPr/>
          </p:nvSpPr>
          <p:spPr>
            <a:xfrm>
              <a:off x="4525200" y="3907440"/>
              <a:ext cx="104760" cy="360"/>
            </a:xfrm>
            <a:custGeom>
              <a:avLst/>
              <a:gdLst/>
              <a:ahLst/>
              <a:rect l="l" t="t" r="r" b="b"/>
              <a:pathLst>
                <a:path fill="none" w="3410" h="1">
                  <a:moveTo>
                    <a:pt x="0" y="0"/>
                  </a:moveTo>
                  <a:lnTo>
                    <a:pt x="3410" y="0"/>
                  </a:lnTo>
                </a:path>
              </a:pathLst>
            </a:custGeom>
            <a:noFill/>
            <a:ln cap="rnd" w="12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90720" bIns="-90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grpSp>
        <p:nvGrpSpPr>
          <p:cNvPr id="990" name="Группа 65"/>
          <p:cNvGrpSpPr/>
          <p:nvPr/>
        </p:nvGrpSpPr>
        <p:grpSpPr>
          <a:xfrm>
            <a:off x="5305320" y="1104840"/>
            <a:ext cx="916200" cy="835200"/>
            <a:chOff x="5305320" y="1104840"/>
            <a:chExt cx="916200" cy="835200"/>
          </a:xfrm>
        </p:grpSpPr>
        <p:sp>
          <p:nvSpPr>
            <p:cNvPr id="991" name="Прямоугольник 23"/>
            <p:cNvSpPr/>
            <p:nvPr/>
          </p:nvSpPr>
          <p:spPr>
            <a:xfrm>
              <a:off x="5305320" y="1104840"/>
              <a:ext cx="916200" cy="835200"/>
            </a:xfrm>
            <a:prstGeom prst="rect">
              <a:avLst/>
            </a:prstGeom>
            <a:solidFill>
              <a:srgbClr val="264796"/>
            </a:solidFill>
            <a:ln w="0">
              <a:noFill/>
            </a:ln>
            <a:effectLst>
              <a:outerShdw dist="19080" dir="5400000" blurRad="0" rotWithShape="0">
                <a:srgbClr val="000000">
                  <a:alpha val="6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grpSp>
          <p:nvGrpSpPr>
            <p:cNvPr id="992" name="Google Shape;732;p43"/>
            <p:cNvGrpSpPr/>
            <p:nvPr/>
          </p:nvGrpSpPr>
          <p:grpSpPr>
            <a:xfrm>
              <a:off x="5464080" y="1296360"/>
              <a:ext cx="609480" cy="502920"/>
              <a:chOff x="5464080" y="1296360"/>
              <a:chExt cx="609480" cy="502920"/>
            </a:xfrm>
          </p:grpSpPr>
          <p:sp>
            <p:nvSpPr>
              <p:cNvPr id="993" name="Google Shape;733;p43"/>
              <p:cNvSpPr/>
              <p:nvPr/>
            </p:nvSpPr>
            <p:spPr>
              <a:xfrm>
                <a:off x="5963760" y="1731240"/>
                <a:ext cx="85320" cy="68040"/>
              </a:xfrm>
              <a:custGeom>
                <a:avLst/>
                <a:gdLst/>
                <a:ahLst/>
                <a:rect l="l" t="t" r="r" b="b"/>
                <a:pathLst>
                  <a:path fill="none" w="2631" h="2096">
                    <a:moveTo>
                      <a:pt x="1" y="1"/>
                    </a:moveTo>
                    <a:lnTo>
                      <a:pt x="1" y="780"/>
                    </a:lnTo>
                    <a:lnTo>
                      <a:pt x="25" y="1048"/>
                    </a:lnTo>
                    <a:lnTo>
                      <a:pt x="122" y="1291"/>
                    </a:lnTo>
                    <a:lnTo>
                      <a:pt x="244" y="1511"/>
                    </a:lnTo>
                    <a:lnTo>
                      <a:pt x="390" y="1705"/>
                    </a:lnTo>
                    <a:lnTo>
                      <a:pt x="585" y="1852"/>
                    </a:lnTo>
                    <a:lnTo>
                      <a:pt x="804" y="1973"/>
                    </a:lnTo>
                    <a:lnTo>
                      <a:pt x="1048" y="2071"/>
                    </a:lnTo>
                    <a:lnTo>
                      <a:pt x="1316" y="2095"/>
                    </a:lnTo>
                    <a:lnTo>
                      <a:pt x="1584" y="2071"/>
                    </a:lnTo>
                    <a:lnTo>
                      <a:pt x="1827" y="1973"/>
                    </a:lnTo>
                    <a:lnTo>
                      <a:pt x="2046" y="1852"/>
                    </a:lnTo>
                    <a:lnTo>
                      <a:pt x="2241" y="1705"/>
                    </a:lnTo>
                    <a:lnTo>
                      <a:pt x="2412" y="1511"/>
                    </a:lnTo>
                    <a:lnTo>
                      <a:pt x="2533" y="1291"/>
                    </a:lnTo>
                    <a:lnTo>
                      <a:pt x="2607" y="1048"/>
                    </a:lnTo>
                    <a:lnTo>
                      <a:pt x="2631" y="780"/>
                    </a:lnTo>
                    <a:lnTo>
                      <a:pt x="2631" y="1"/>
                    </a:lnTo>
                  </a:path>
                </a:pathLst>
              </a:custGeom>
              <a:noFill/>
              <a:ln cap="rnd" w="12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-23040" bIns="-23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  <p:sp>
            <p:nvSpPr>
              <p:cNvPr id="994" name="Google Shape;734;p43"/>
              <p:cNvSpPr/>
              <p:nvPr/>
            </p:nvSpPr>
            <p:spPr>
              <a:xfrm>
                <a:off x="5488560" y="1731240"/>
                <a:ext cx="85320" cy="68040"/>
              </a:xfrm>
              <a:custGeom>
                <a:avLst/>
                <a:gdLst/>
                <a:ahLst/>
                <a:rect l="l" t="t" r="r" b="b"/>
                <a:pathLst>
                  <a:path fill="none" w="2631" h="2096">
                    <a:moveTo>
                      <a:pt x="1" y="1"/>
                    </a:moveTo>
                    <a:lnTo>
                      <a:pt x="1" y="780"/>
                    </a:lnTo>
                    <a:lnTo>
                      <a:pt x="25" y="1048"/>
                    </a:lnTo>
                    <a:lnTo>
                      <a:pt x="98" y="1291"/>
                    </a:lnTo>
                    <a:lnTo>
                      <a:pt x="220" y="1511"/>
                    </a:lnTo>
                    <a:lnTo>
                      <a:pt x="390" y="1705"/>
                    </a:lnTo>
                    <a:lnTo>
                      <a:pt x="585" y="1852"/>
                    </a:lnTo>
                    <a:lnTo>
                      <a:pt x="804" y="1973"/>
                    </a:lnTo>
                    <a:lnTo>
                      <a:pt x="1048" y="2071"/>
                    </a:lnTo>
                    <a:lnTo>
                      <a:pt x="1316" y="2095"/>
                    </a:lnTo>
                    <a:lnTo>
                      <a:pt x="1584" y="2071"/>
                    </a:lnTo>
                    <a:lnTo>
                      <a:pt x="1827" y="1973"/>
                    </a:lnTo>
                    <a:lnTo>
                      <a:pt x="2046" y="1852"/>
                    </a:lnTo>
                    <a:lnTo>
                      <a:pt x="2241" y="1705"/>
                    </a:lnTo>
                    <a:lnTo>
                      <a:pt x="2387" y="1511"/>
                    </a:lnTo>
                    <a:lnTo>
                      <a:pt x="2509" y="1291"/>
                    </a:lnTo>
                    <a:lnTo>
                      <a:pt x="2607" y="1048"/>
                    </a:lnTo>
                    <a:lnTo>
                      <a:pt x="2631" y="780"/>
                    </a:lnTo>
                    <a:lnTo>
                      <a:pt x="2631" y="1"/>
                    </a:lnTo>
                  </a:path>
                </a:pathLst>
              </a:custGeom>
              <a:noFill/>
              <a:ln cap="rnd" w="12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-23040" bIns="-23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  <p:sp>
            <p:nvSpPr>
              <p:cNvPr id="995" name="Google Shape;735;p43"/>
              <p:cNvSpPr/>
              <p:nvPr/>
            </p:nvSpPr>
            <p:spPr>
              <a:xfrm>
                <a:off x="5464080" y="1296360"/>
                <a:ext cx="609480" cy="432720"/>
              </a:xfrm>
              <a:custGeom>
                <a:avLst/>
                <a:gdLst/>
                <a:ahLst/>
                <a:rect l="l" t="t" r="r" b="b"/>
                <a:pathLst>
                  <a:path fill="none" w="18754" h="13323">
                    <a:moveTo>
                      <a:pt x="18754" y="5553"/>
                    </a:moveTo>
                    <a:lnTo>
                      <a:pt x="18754" y="5553"/>
                    </a:lnTo>
                    <a:lnTo>
                      <a:pt x="18730" y="5334"/>
                    </a:lnTo>
                    <a:lnTo>
                      <a:pt x="18681" y="5091"/>
                    </a:lnTo>
                    <a:lnTo>
                      <a:pt x="18583" y="4847"/>
                    </a:lnTo>
                    <a:lnTo>
                      <a:pt x="18462" y="4628"/>
                    </a:lnTo>
                    <a:lnTo>
                      <a:pt x="18291" y="4433"/>
                    </a:lnTo>
                    <a:lnTo>
                      <a:pt x="18121" y="4287"/>
                    </a:lnTo>
                    <a:lnTo>
                      <a:pt x="18023" y="4214"/>
                    </a:lnTo>
                    <a:lnTo>
                      <a:pt x="17926" y="4165"/>
                    </a:lnTo>
                    <a:lnTo>
                      <a:pt x="17828" y="4141"/>
                    </a:lnTo>
                    <a:lnTo>
                      <a:pt x="17731" y="4141"/>
                    </a:lnTo>
                    <a:lnTo>
                      <a:pt x="16489" y="4141"/>
                    </a:lnTo>
                    <a:lnTo>
                      <a:pt x="15588" y="1803"/>
                    </a:lnTo>
                    <a:lnTo>
                      <a:pt x="15490" y="1583"/>
                    </a:lnTo>
                    <a:lnTo>
                      <a:pt x="15344" y="1364"/>
                    </a:lnTo>
                    <a:lnTo>
                      <a:pt x="15174" y="1169"/>
                    </a:lnTo>
                    <a:lnTo>
                      <a:pt x="15003" y="975"/>
                    </a:lnTo>
                    <a:lnTo>
                      <a:pt x="14784" y="804"/>
                    </a:lnTo>
                    <a:lnTo>
                      <a:pt x="14565" y="658"/>
                    </a:lnTo>
                    <a:lnTo>
                      <a:pt x="14346" y="536"/>
                    </a:lnTo>
                    <a:lnTo>
                      <a:pt x="14102" y="439"/>
                    </a:lnTo>
                    <a:lnTo>
                      <a:pt x="13810" y="390"/>
                    </a:lnTo>
                    <a:lnTo>
                      <a:pt x="13444" y="317"/>
                    </a:lnTo>
                    <a:lnTo>
                      <a:pt x="12933" y="220"/>
                    </a:lnTo>
                    <a:lnTo>
                      <a:pt x="12275" y="147"/>
                    </a:lnTo>
                    <a:lnTo>
                      <a:pt x="11472" y="73"/>
                    </a:lnTo>
                    <a:lnTo>
                      <a:pt x="10498" y="25"/>
                    </a:lnTo>
                    <a:lnTo>
                      <a:pt x="9377" y="0"/>
                    </a:lnTo>
                    <a:lnTo>
                      <a:pt x="8257" y="25"/>
                    </a:lnTo>
                    <a:lnTo>
                      <a:pt x="7283" y="73"/>
                    </a:lnTo>
                    <a:lnTo>
                      <a:pt x="6479" y="147"/>
                    </a:lnTo>
                    <a:lnTo>
                      <a:pt x="5821" y="220"/>
                    </a:lnTo>
                    <a:lnTo>
                      <a:pt x="5310" y="317"/>
                    </a:lnTo>
                    <a:lnTo>
                      <a:pt x="4945" y="390"/>
                    </a:lnTo>
                    <a:lnTo>
                      <a:pt x="4652" y="439"/>
                    </a:lnTo>
                    <a:lnTo>
                      <a:pt x="4409" y="536"/>
                    </a:lnTo>
                    <a:lnTo>
                      <a:pt x="4190" y="658"/>
                    </a:lnTo>
                    <a:lnTo>
                      <a:pt x="3970" y="804"/>
                    </a:lnTo>
                    <a:lnTo>
                      <a:pt x="3751" y="975"/>
                    </a:lnTo>
                    <a:lnTo>
                      <a:pt x="3581" y="1169"/>
                    </a:lnTo>
                    <a:lnTo>
                      <a:pt x="3410" y="1364"/>
                    </a:lnTo>
                    <a:lnTo>
                      <a:pt x="3264" y="1583"/>
                    </a:lnTo>
                    <a:lnTo>
                      <a:pt x="3167" y="1803"/>
                    </a:lnTo>
                    <a:lnTo>
                      <a:pt x="2266" y="4141"/>
                    </a:lnTo>
                    <a:lnTo>
                      <a:pt x="1023" y="4141"/>
                    </a:lnTo>
                    <a:lnTo>
                      <a:pt x="926" y="4141"/>
                    </a:lnTo>
                    <a:lnTo>
                      <a:pt x="829" y="4165"/>
                    </a:lnTo>
                    <a:lnTo>
                      <a:pt x="731" y="4214"/>
                    </a:lnTo>
                    <a:lnTo>
                      <a:pt x="634" y="4287"/>
                    </a:lnTo>
                    <a:lnTo>
                      <a:pt x="463" y="4433"/>
                    </a:lnTo>
                    <a:lnTo>
                      <a:pt x="293" y="4628"/>
                    </a:lnTo>
                    <a:lnTo>
                      <a:pt x="171" y="4847"/>
                    </a:lnTo>
                    <a:lnTo>
                      <a:pt x="74" y="5091"/>
                    </a:lnTo>
                    <a:lnTo>
                      <a:pt x="25" y="5334"/>
                    </a:lnTo>
                    <a:lnTo>
                      <a:pt x="1" y="5553"/>
                    </a:lnTo>
                    <a:lnTo>
                      <a:pt x="25" y="5748"/>
                    </a:lnTo>
                    <a:lnTo>
                      <a:pt x="74" y="5894"/>
                    </a:lnTo>
                    <a:lnTo>
                      <a:pt x="171" y="6016"/>
                    </a:lnTo>
                    <a:lnTo>
                      <a:pt x="293" y="6089"/>
                    </a:lnTo>
                    <a:lnTo>
                      <a:pt x="463" y="6138"/>
                    </a:lnTo>
                    <a:lnTo>
                      <a:pt x="634" y="6187"/>
                    </a:lnTo>
                    <a:lnTo>
                      <a:pt x="1023" y="6187"/>
                    </a:lnTo>
                    <a:lnTo>
                      <a:pt x="1462" y="6187"/>
                    </a:lnTo>
                    <a:lnTo>
                      <a:pt x="1145" y="7015"/>
                    </a:lnTo>
                    <a:lnTo>
                      <a:pt x="999" y="7526"/>
                    </a:lnTo>
                    <a:lnTo>
                      <a:pt x="877" y="8086"/>
                    </a:lnTo>
                    <a:lnTo>
                      <a:pt x="780" y="8671"/>
                    </a:lnTo>
                    <a:lnTo>
                      <a:pt x="756" y="9207"/>
                    </a:lnTo>
                    <a:lnTo>
                      <a:pt x="756" y="13323"/>
                    </a:lnTo>
                    <a:lnTo>
                      <a:pt x="17999" y="13323"/>
                    </a:lnTo>
                    <a:lnTo>
                      <a:pt x="17999" y="9207"/>
                    </a:lnTo>
                    <a:lnTo>
                      <a:pt x="17975" y="8671"/>
                    </a:lnTo>
                    <a:lnTo>
                      <a:pt x="17877" y="8086"/>
                    </a:lnTo>
                    <a:lnTo>
                      <a:pt x="17755" y="7526"/>
                    </a:lnTo>
                    <a:lnTo>
                      <a:pt x="17609" y="7015"/>
                    </a:lnTo>
                    <a:lnTo>
                      <a:pt x="17293" y="6187"/>
                    </a:lnTo>
                    <a:lnTo>
                      <a:pt x="17731" y="6187"/>
                    </a:lnTo>
                    <a:lnTo>
                      <a:pt x="18121" y="6187"/>
                    </a:lnTo>
                    <a:lnTo>
                      <a:pt x="18291" y="6138"/>
                    </a:lnTo>
                    <a:lnTo>
                      <a:pt x="18462" y="6089"/>
                    </a:lnTo>
                    <a:lnTo>
                      <a:pt x="18583" y="6016"/>
                    </a:lnTo>
                    <a:lnTo>
                      <a:pt x="18681" y="5894"/>
                    </a:lnTo>
                    <a:lnTo>
                      <a:pt x="18730" y="5748"/>
                    </a:lnTo>
                    <a:lnTo>
                      <a:pt x="18754" y="5553"/>
                    </a:lnTo>
                  </a:path>
                </a:pathLst>
              </a:custGeom>
              <a:noFill/>
              <a:ln cap="rnd" w="12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91080" bIns="91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  <p:sp>
            <p:nvSpPr>
              <p:cNvPr id="996" name="Google Shape;736;p43"/>
              <p:cNvSpPr/>
              <p:nvPr/>
            </p:nvSpPr>
            <p:spPr>
              <a:xfrm>
                <a:off x="5571720" y="1339560"/>
                <a:ext cx="394200" cy="194400"/>
              </a:xfrm>
              <a:custGeom>
                <a:avLst/>
                <a:gdLst/>
                <a:ahLst/>
                <a:rect l="l" t="t" r="r" b="b"/>
                <a:pathLst>
                  <a:path fill="none" w="12130" h="5993">
                    <a:moveTo>
                      <a:pt x="1" y="4628"/>
                    </a:moveTo>
                    <a:lnTo>
                      <a:pt x="1" y="4628"/>
                    </a:lnTo>
                    <a:lnTo>
                      <a:pt x="171" y="4019"/>
                    </a:lnTo>
                    <a:lnTo>
                      <a:pt x="585" y="2656"/>
                    </a:lnTo>
                    <a:lnTo>
                      <a:pt x="805" y="1925"/>
                    </a:lnTo>
                    <a:lnTo>
                      <a:pt x="1024" y="1292"/>
                    </a:lnTo>
                    <a:lnTo>
                      <a:pt x="1194" y="829"/>
                    </a:lnTo>
                    <a:lnTo>
                      <a:pt x="1267" y="707"/>
                    </a:lnTo>
                    <a:lnTo>
                      <a:pt x="1316" y="658"/>
                    </a:lnTo>
                    <a:lnTo>
                      <a:pt x="1535" y="561"/>
                    </a:lnTo>
                    <a:lnTo>
                      <a:pt x="1852" y="464"/>
                    </a:lnTo>
                    <a:lnTo>
                      <a:pt x="2315" y="342"/>
                    </a:lnTo>
                    <a:lnTo>
                      <a:pt x="2948" y="220"/>
                    </a:lnTo>
                    <a:lnTo>
                      <a:pt x="3776" y="98"/>
                    </a:lnTo>
                    <a:lnTo>
                      <a:pt x="4799" y="25"/>
                    </a:lnTo>
                    <a:lnTo>
                      <a:pt x="5408" y="1"/>
                    </a:lnTo>
                    <a:lnTo>
                      <a:pt x="6065" y="1"/>
                    </a:lnTo>
                    <a:lnTo>
                      <a:pt x="6723" y="1"/>
                    </a:lnTo>
                    <a:lnTo>
                      <a:pt x="7332" y="25"/>
                    </a:lnTo>
                    <a:lnTo>
                      <a:pt x="8355" y="98"/>
                    </a:lnTo>
                    <a:lnTo>
                      <a:pt x="9183" y="220"/>
                    </a:lnTo>
                    <a:lnTo>
                      <a:pt x="9816" y="342"/>
                    </a:lnTo>
                    <a:lnTo>
                      <a:pt x="10279" y="464"/>
                    </a:lnTo>
                    <a:lnTo>
                      <a:pt x="10595" y="561"/>
                    </a:lnTo>
                    <a:lnTo>
                      <a:pt x="10814" y="658"/>
                    </a:lnTo>
                    <a:lnTo>
                      <a:pt x="10863" y="707"/>
                    </a:lnTo>
                    <a:lnTo>
                      <a:pt x="10936" y="829"/>
                    </a:lnTo>
                    <a:lnTo>
                      <a:pt x="11107" y="1292"/>
                    </a:lnTo>
                    <a:lnTo>
                      <a:pt x="11326" y="1925"/>
                    </a:lnTo>
                    <a:lnTo>
                      <a:pt x="11545" y="2656"/>
                    </a:lnTo>
                    <a:lnTo>
                      <a:pt x="11959" y="4019"/>
                    </a:lnTo>
                    <a:lnTo>
                      <a:pt x="12130" y="4628"/>
                    </a:lnTo>
                    <a:lnTo>
                      <a:pt x="12105" y="4677"/>
                    </a:lnTo>
                    <a:lnTo>
                      <a:pt x="12057" y="4750"/>
                    </a:lnTo>
                    <a:lnTo>
                      <a:pt x="11959" y="4823"/>
                    </a:lnTo>
                    <a:lnTo>
                      <a:pt x="11813" y="4921"/>
                    </a:lnTo>
                    <a:lnTo>
                      <a:pt x="11618" y="5042"/>
                    </a:lnTo>
                    <a:lnTo>
                      <a:pt x="11375" y="5164"/>
                    </a:lnTo>
                    <a:lnTo>
                      <a:pt x="11058" y="5262"/>
                    </a:lnTo>
                    <a:lnTo>
                      <a:pt x="10717" y="5383"/>
                    </a:lnTo>
                    <a:lnTo>
                      <a:pt x="10327" y="5505"/>
                    </a:lnTo>
                    <a:lnTo>
                      <a:pt x="9865" y="5627"/>
                    </a:lnTo>
                    <a:lnTo>
                      <a:pt x="9377" y="5724"/>
                    </a:lnTo>
                    <a:lnTo>
                      <a:pt x="8817" y="5822"/>
                    </a:lnTo>
                    <a:lnTo>
                      <a:pt x="8208" y="5895"/>
                    </a:lnTo>
                    <a:lnTo>
                      <a:pt x="7551" y="5944"/>
                    </a:lnTo>
                    <a:lnTo>
                      <a:pt x="6845" y="5992"/>
                    </a:lnTo>
                    <a:lnTo>
                      <a:pt x="6065" y="5992"/>
                    </a:lnTo>
                    <a:lnTo>
                      <a:pt x="5286" y="5992"/>
                    </a:lnTo>
                    <a:lnTo>
                      <a:pt x="4580" y="5944"/>
                    </a:lnTo>
                    <a:lnTo>
                      <a:pt x="3922" y="5895"/>
                    </a:lnTo>
                    <a:lnTo>
                      <a:pt x="3313" y="5822"/>
                    </a:lnTo>
                    <a:lnTo>
                      <a:pt x="2753" y="5724"/>
                    </a:lnTo>
                    <a:lnTo>
                      <a:pt x="2266" y="5627"/>
                    </a:lnTo>
                    <a:lnTo>
                      <a:pt x="1803" y="5505"/>
                    </a:lnTo>
                    <a:lnTo>
                      <a:pt x="1413" y="5383"/>
                    </a:lnTo>
                    <a:lnTo>
                      <a:pt x="1072" y="5262"/>
                    </a:lnTo>
                    <a:lnTo>
                      <a:pt x="756" y="5164"/>
                    </a:lnTo>
                    <a:lnTo>
                      <a:pt x="512" y="5042"/>
                    </a:lnTo>
                    <a:lnTo>
                      <a:pt x="317" y="4921"/>
                    </a:lnTo>
                    <a:lnTo>
                      <a:pt x="171" y="4823"/>
                    </a:lnTo>
                    <a:lnTo>
                      <a:pt x="74" y="4750"/>
                    </a:lnTo>
                    <a:lnTo>
                      <a:pt x="25" y="4677"/>
                    </a:lnTo>
                    <a:lnTo>
                      <a:pt x="1" y="4628"/>
                    </a:lnTo>
                  </a:path>
                </a:pathLst>
              </a:custGeom>
              <a:noFill/>
              <a:ln cap="rnd" w="12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91080" bIns="91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  <p:sp>
            <p:nvSpPr>
              <p:cNvPr id="997" name="Google Shape;737;p43"/>
              <p:cNvSpPr/>
              <p:nvPr/>
            </p:nvSpPr>
            <p:spPr>
              <a:xfrm>
                <a:off x="5540040" y="1591200"/>
                <a:ext cx="105120" cy="84600"/>
              </a:xfrm>
              <a:custGeom>
                <a:avLst/>
                <a:gdLst/>
                <a:ahLst/>
                <a:rect l="l" t="t" r="r" b="b"/>
                <a:pathLst>
                  <a:path fill="none" w="3240" h="2607">
                    <a:moveTo>
                      <a:pt x="1632" y="2607"/>
                    </a:moveTo>
                    <a:lnTo>
                      <a:pt x="1632" y="2607"/>
                    </a:lnTo>
                    <a:lnTo>
                      <a:pt x="1291" y="2582"/>
                    </a:lnTo>
                    <a:lnTo>
                      <a:pt x="999" y="2509"/>
                    </a:lnTo>
                    <a:lnTo>
                      <a:pt x="731" y="2388"/>
                    </a:lnTo>
                    <a:lnTo>
                      <a:pt x="488" y="2217"/>
                    </a:lnTo>
                    <a:lnTo>
                      <a:pt x="293" y="2047"/>
                    </a:lnTo>
                    <a:lnTo>
                      <a:pt x="122" y="1803"/>
                    </a:lnTo>
                    <a:lnTo>
                      <a:pt x="74" y="1706"/>
                    </a:lnTo>
                    <a:lnTo>
                      <a:pt x="49" y="1559"/>
                    </a:lnTo>
                    <a:lnTo>
                      <a:pt x="25" y="1438"/>
                    </a:lnTo>
                    <a:lnTo>
                      <a:pt x="1" y="1316"/>
                    </a:lnTo>
                    <a:lnTo>
                      <a:pt x="25" y="1170"/>
                    </a:lnTo>
                    <a:lnTo>
                      <a:pt x="49" y="1048"/>
                    </a:lnTo>
                    <a:lnTo>
                      <a:pt x="74" y="926"/>
                    </a:lnTo>
                    <a:lnTo>
                      <a:pt x="122" y="804"/>
                    </a:lnTo>
                    <a:lnTo>
                      <a:pt x="293" y="585"/>
                    </a:lnTo>
                    <a:lnTo>
                      <a:pt x="488" y="390"/>
                    </a:lnTo>
                    <a:lnTo>
                      <a:pt x="731" y="220"/>
                    </a:lnTo>
                    <a:lnTo>
                      <a:pt x="999" y="98"/>
                    </a:lnTo>
                    <a:lnTo>
                      <a:pt x="1291" y="25"/>
                    </a:lnTo>
                    <a:lnTo>
                      <a:pt x="1632" y="1"/>
                    </a:lnTo>
                    <a:lnTo>
                      <a:pt x="1803" y="1"/>
                    </a:lnTo>
                    <a:lnTo>
                      <a:pt x="1949" y="49"/>
                    </a:lnTo>
                    <a:lnTo>
                      <a:pt x="2120" y="98"/>
                    </a:lnTo>
                    <a:lnTo>
                      <a:pt x="2266" y="171"/>
                    </a:lnTo>
                    <a:lnTo>
                      <a:pt x="2412" y="269"/>
                    </a:lnTo>
                    <a:lnTo>
                      <a:pt x="2534" y="390"/>
                    </a:lnTo>
                    <a:lnTo>
                      <a:pt x="2777" y="634"/>
                    </a:lnTo>
                    <a:lnTo>
                      <a:pt x="2972" y="926"/>
                    </a:lnTo>
                    <a:lnTo>
                      <a:pt x="3118" y="1219"/>
                    </a:lnTo>
                    <a:lnTo>
                      <a:pt x="3215" y="1535"/>
                    </a:lnTo>
                    <a:lnTo>
                      <a:pt x="3240" y="1681"/>
                    </a:lnTo>
                    <a:lnTo>
                      <a:pt x="3240" y="1803"/>
                    </a:lnTo>
                    <a:lnTo>
                      <a:pt x="3240" y="1949"/>
                    </a:lnTo>
                    <a:lnTo>
                      <a:pt x="3215" y="2047"/>
                    </a:lnTo>
                    <a:lnTo>
                      <a:pt x="3167" y="2144"/>
                    </a:lnTo>
                    <a:lnTo>
                      <a:pt x="3118" y="2241"/>
                    </a:lnTo>
                    <a:lnTo>
                      <a:pt x="3045" y="2314"/>
                    </a:lnTo>
                    <a:lnTo>
                      <a:pt x="2972" y="2388"/>
                    </a:lnTo>
                    <a:lnTo>
                      <a:pt x="2777" y="2485"/>
                    </a:lnTo>
                    <a:lnTo>
                      <a:pt x="2534" y="2558"/>
                    </a:lnTo>
                    <a:lnTo>
                      <a:pt x="2266" y="2582"/>
                    </a:lnTo>
                    <a:lnTo>
                      <a:pt x="1949" y="2607"/>
                    </a:lnTo>
                    <a:lnTo>
                      <a:pt x="1632" y="2607"/>
                    </a:lnTo>
                  </a:path>
                </a:pathLst>
              </a:custGeom>
              <a:noFill/>
              <a:ln cap="rnd" w="12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-6480" bIns="-6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  <p:sp>
            <p:nvSpPr>
              <p:cNvPr id="998" name="Google Shape;738;p43"/>
              <p:cNvSpPr/>
              <p:nvPr/>
            </p:nvSpPr>
            <p:spPr>
              <a:xfrm>
                <a:off x="5696640" y="1652400"/>
                <a:ext cx="144000" cy="360"/>
              </a:xfrm>
              <a:custGeom>
                <a:avLst/>
                <a:gdLst/>
                <a:ahLst/>
                <a:rect l="l" t="t" r="r" b="b"/>
                <a:pathLst>
                  <a:path fill="none" w="4434" h="1">
                    <a:moveTo>
                      <a:pt x="1" y="0"/>
                    </a:moveTo>
                    <a:lnTo>
                      <a:pt x="4434" y="0"/>
                    </a:lnTo>
                  </a:path>
                </a:pathLst>
              </a:custGeom>
              <a:noFill/>
              <a:ln cap="rnd" w="12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-90720" bIns="-90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  <p:sp>
            <p:nvSpPr>
              <p:cNvPr id="999" name="Google Shape;739;p43"/>
              <p:cNvSpPr/>
              <p:nvPr/>
            </p:nvSpPr>
            <p:spPr>
              <a:xfrm>
                <a:off x="5687280" y="1617480"/>
                <a:ext cx="163080" cy="360"/>
              </a:xfrm>
              <a:custGeom>
                <a:avLst/>
                <a:gdLst/>
                <a:ahLst/>
                <a:rect l="l" t="t" r="r" b="b"/>
                <a:pathLst>
                  <a:path fill="none" w="5018" h="1">
                    <a:moveTo>
                      <a:pt x="1" y="0"/>
                    </a:moveTo>
                    <a:lnTo>
                      <a:pt x="5018" y="0"/>
                    </a:lnTo>
                  </a:path>
                </a:pathLst>
              </a:custGeom>
              <a:noFill/>
              <a:ln cap="rnd" w="12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-90720" bIns="-90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  <p:sp>
            <p:nvSpPr>
              <p:cNvPr id="1000" name="Google Shape;740;p43"/>
              <p:cNvSpPr/>
              <p:nvPr/>
            </p:nvSpPr>
            <p:spPr>
              <a:xfrm>
                <a:off x="5892480" y="1591200"/>
                <a:ext cx="105120" cy="84600"/>
              </a:xfrm>
              <a:custGeom>
                <a:avLst/>
                <a:gdLst/>
                <a:ahLst/>
                <a:rect l="l" t="t" r="r" b="b"/>
                <a:pathLst>
                  <a:path fill="none" w="3240" h="2607">
                    <a:moveTo>
                      <a:pt x="1608" y="2607"/>
                    </a:moveTo>
                    <a:lnTo>
                      <a:pt x="1608" y="2607"/>
                    </a:lnTo>
                    <a:lnTo>
                      <a:pt x="1291" y="2607"/>
                    </a:lnTo>
                    <a:lnTo>
                      <a:pt x="975" y="2582"/>
                    </a:lnTo>
                    <a:lnTo>
                      <a:pt x="707" y="2558"/>
                    </a:lnTo>
                    <a:lnTo>
                      <a:pt x="463" y="2485"/>
                    </a:lnTo>
                    <a:lnTo>
                      <a:pt x="268" y="2388"/>
                    </a:lnTo>
                    <a:lnTo>
                      <a:pt x="195" y="2314"/>
                    </a:lnTo>
                    <a:lnTo>
                      <a:pt x="122" y="2241"/>
                    </a:lnTo>
                    <a:lnTo>
                      <a:pt x="74" y="2144"/>
                    </a:lnTo>
                    <a:lnTo>
                      <a:pt x="25" y="2047"/>
                    </a:lnTo>
                    <a:lnTo>
                      <a:pt x="1" y="1949"/>
                    </a:lnTo>
                    <a:lnTo>
                      <a:pt x="1" y="1803"/>
                    </a:lnTo>
                    <a:lnTo>
                      <a:pt x="1" y="1681"/>
                    </a:lnTo>
                    <a:lnTo>
                      <a:pt x="25" y="1535"/>
                    </a:lnTo>
                    <a:lnTo>
                      <a:pt x="122" y="1219"/>
                    </a:lnTo>
                    <a:lnTo>
                      <a:pt x="268" y="926"/>
                    </a:lnTo>
                    <a:lnTo>
                      <a:pt x="463" y="634"/>
                    </a:lnTo>
                    <a:lnTo>
                      <a:pt x="707" y="390"/>
                    </a:lnTo>
                    <a:lnTo>
                      <a:pt x="829" y="269"/>
                    </a:lnTo>
                    <a:lnTo>
                      <a:pt x="975" y="171"/>
                    </a:lnTo>
                    <a:lnTo>
                      <a:pt x="1121" y="98"/>
                    </a:lnTo>
                    <a:lnTo>
                      <a:pt x="1291" y="49"/>
                    </a:lnTo>
                    <a:lnTo>
                      <a:pt x="1438" y="1"/>
                    </a:lnTo>
                    <a:lnTo>
                      <a:pt x="1608" y="1"/>
                    </a:lnTo>
                    <a:lnTo>
                      <a:pt x="1949" y="25"/>
                    </a:lnTo>
                    <a:lnTo>
                      <a:pt x="2241" y="98"/>
                    </a:lnTo>
                    <a:lnTo>
                      <a:pt x="2509" y="220"/>
                    </a:lnTo>
                    <a:lnTo>
                      <a:pt x="2753" y="390"/>
                    </a:lnTo>
                    <a:lnTo>
                      <a:pt x="2948" y="585"/>
                    </a:lnTo>
                    <a:lnTo>
                      <a:pt x="3118" y="804"/>
                    </a:lnTo>
                    <a:lnTo>
                      <a:pt x="3167" y="926"/>
                    </a:lnTo>
                    <a:lnTo>
                      <a:pt x="3191" y="1048"/>
                    </a:lnTo>
                    <a:lnTo>
                      <a:pt x="3215" y="1170"/>
                    </a:lnTo>
                    <a:lnTo>
                      <a:pt x="3240" y="1316"/>
                    </a:lnTo>
                    <a:lnTo>
                      <a:pt x="3215" y="1438"/>
                    </a:lnTo>
                    <a:lnTo>
                      <a:pt x="3191" y="1559"/>
                    </a:lnTo>
                    <a:lnTo>
                      <a:pt x="3167" y="1706"/>
                    </a:lnTo>
                    <a:lnTo>
                      <a:pt x="3118" y="1803"/>
                    </a:lnTo>
                    <a:lnTo>
                      <a:pt x="2948" y="2047"/>
                    </a:lnTo>
                    <a:lnTo>
                      <a:pt x="2753" y="2217"/>
                    </a:lnTo>
                    <a:lnTo>
                      <a:pt x="2509" y="2388"/>
                    </a:lnTo>
                    <a:lnTo>
                      <a:pt x="2241" y="2509"/>
                    </a:lnTo>
                    <a:lnTo>
                      <a:pt x="1949" y="2582"/>
                    </a:lnTo>
                    <a:lnTo>
                      <a:pt x="1608" y="2607"/>
                    </a:lnTo>
                  </a:path>
                </a:pathLst>
              </a:custGeom>
              <a:noFill/>
              <a:ln cap="rnd" w="12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-6480" bIns="-6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01" name="TextBox 40"/>
          <p:cNvSpPr/>
          <p:nvPr/>
        </p:nvSpPr>
        <p:spPr>
          <a:xfrm>
            <a:off x="3247920" y="4349880"/>
            <a:ext cx="27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info@chiro74.ru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02" name="TextBox 41"/>
          <p:cNvSpPr/>
          <p:nvPr/>
        </p:nvSpPr>
        <p:spPr>
          <a:xfrm>
            <a:off x="5226120" y="4356000"/>
            <a:ext cx="314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8 (351) 217 30 89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03" name="TextBox 43"/>
          <p:cNvSpPr/>
          <p:nvPr/>
        </p:nvSpPr>
        <p:spPr>
          <a:xfrm>
            <a:off x="2774880" y="2052720"/>
            <a:ext cx="6112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454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111, г. Челябинск, ул. Комсомольская, д. 20А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454087, г. Челябинск, ул. Блюхера, д. 9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454091, г. Челябинск, ул. Красноармейская, д. 88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454048, г. Челябинск, ул. Худякова, д. 20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04" name="Google Shape;59;g142ea23b5d2_0_0"/>
          <p:cNvSpPr/>
          <p:nvPr/>
        </p:nvSpPr>
        <p:spPr>
          <a:xfrm>
            <a:off x="3944880" y="4637160"/>
            <a:ext cx="36594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121680" bIns="121680" anchor="t">
            <a:spAutoFit/>
          </a:bodyPr>
          <a:p>
            <a:pPr marL="15840" algn="ctr">
              <a:lnSpc>
                <a:spcPct val="150000"/>
              </a:lnSpc>
              <a:spcBef>
                <a:spcPts val="1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03864"/>
                </a:solidFill>
                <a:latin typeface="Calibri"/>
                <a:ea typeface="Jost"/>
              </a:rPr>
              <a:t>МЫ В СОЦИАЛЬНЫХ СЕТЯХ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05" name="Группа 5"/>
          <p:cNvGrpSpPr/>
          <p:nvPr/>
        </p:nvGrpSpPr>
        <p:grpSpPr>
          <a:xfrm>
            <a:off x="6307200" y="3443400"/>
            <a:ext cx="984240" cy="903240"/>
            <a:chOff x="6307200" y="3443400"/>
            <a:chExt cx="984240" cy="903240"/>
          </a:xfrm>
        </p:grpSpPr>
        <p:sp>
          <p:nvSpPr>
            <p:cNvPr id="1006" name="Прямоугольник 53"/>
            <p:cNvSpPr/>
            <p:nvPr/>
          </p:nvSpPr>
          <p:spPr>
            <a:xfrm>
              <a:off x="6307200" y="3443400"/>
              <a:ext cx="984240" cy="903240"/>
            </a:xfrm>
            <a:prstGeom prst="rect">
              <a:avLst/>
            </a:prstGeom>
            <a:solidFill>
              <a:srgbClr val="264796"/>
            </a:solidFill>
            <a:ln w="6480">
              <a:solidFill>
                <a:srgbClr val="4472c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1007" name="Google Shape;653;p43"/>
            <p:cNvSpPr/>
            <p:nvPr/>
          </p:nvSpPr>
          <p:spPr>
            <a:xfrm>
              <a:off x="6585480" y="3562920"/>
              <a:ext cx="427320" cy="679320"/>
            </a:xfrm>
            <a:custGeom>
              <a:avLst/>
              <a:gdLst/>
              <a:ahLst/>
              <a:rect l="l" t="t" r="r" b="b"/>
              <a:pathLst>
                <a:path fill="none" w="11838" h="20508">
                  <a:moveTo>
                    <a:pt x="10547" y="1"/>
                  </a:moveTo>
                  <a:lnTo>
                    <a:pt x="1292" y="1"/>
                  </a:lnTo>
                  <a:lnTo>
                    <a:pt x="1024" y="25"/>
                  </a:lnTo>
                  <a:lnTo>
                    <a:pt x="780" y="98"/>
                  </a:lnTo>
                  <a:lnTo>
                    <a:pt x="561" y="220"/>
                  </a:lnTo>
                  <a:lnTo>
                    <a:pt x="366" y="366"/>
                  </a:lnTo>
                  <a:lnTo>
                    <a:pt x="220" y="561"/>
                  </a:lnTo>
                  <a:lnTo>
                    <a:pt x="98" y="780"/>
                  </a:lnTo>
                  <a:lnTo>
                    <a:pt x="25" y="1024"/>
                  </a:lnTo>
                  <a:lnTo>
                    <a:pt x="1" y="1292"/>
                  </a:lnTo>
                  <a:lnTo>
                    <a:pt x="1" y="19217"/>
                  </a:lnTo>
                  <a:lnTo>
                    <a:pt x="25" y="19485"/>
                  </a:lnTo>
                  <a:lnTo>
                    <a:pt x="98" y="19728"/>
                  </a:lnTo>
                  <a:lnTo>
                    <a:pt x="220" y="19948"/>
                  </a:lnTo>
                  <a:lnTo>
                    <a:pt x="366" y="20142"/>
                  </a:lnTo>
                  <a:lnTo>
                    <a:pt x="561" y="20289"/>
                  </a:lnTo>
                  <a:lnTo>
                    <a:pt x="780" y="20410"/>
                  </a:lnTo>
                  <a:lnTo>
                    <a:pt x="1024" y="20483"/>
                  </a:lnTo>
                  <a:lnTo>
                    <a:pt x="1292" y="20508"/>
                  </a:lnTo>
                  <a:lnTo>
                    <a:pt x="10547" y="20508"/>
                  </a:lnTo>
                  <a:lnTo>
                    <a:pt x="10814" y="20483"/>
                  </a:lnTo>
                  <a:lnTo>
                    <a:pt x="11058" y="20410"/>
                  </a:lnTo>
                  <a:lnTo>
                    <a:pt x="11277" y="20289"/>
                  </a:lnTo>
                  <a:lnTo>
                    <a:pt x="11472" y="20142"/>
                  </a:lnTo>
                  <a:lnTo>
                    <a:pt x="11618" y="19948"/>
                  </a:lnTo>
                  <a:lnTo>
                    <a:pt x="11740" y="19728"/>
                  </a:lnTo>
                  <a:lnTo>
                    <a:pt x="11813" y="19485"/>
                  </a:lnTo>
                  <a:lnTo>
                    <a:pt x="11837" y="19217"/>
                  </a:lnTo>
                  <a:lnTo>
                    <a:pt x="11837" y="1292"/>
                  </a:lnTo>
                  <a:lnTo>
                    <a:pt x="11813" y="1024"/>
                  </a:lnTo>
                  <a:lnTo>
                    <a:pt x="11740" y="780"/>
                  </a:lnTo>
                  <a:lnTo>
                    <a:pt x="11618" y="561"/>
                  </a:lnTo>
                  <a:lnTo>
                    <a:pt x="11472" y="366"/>
                  </a:lnTo>
                  <a:lnTo>
                    <a:pt x="11277" y="220"/>
                  </a:lnTo>
                  <a:lnTo>
                    <a:pt x="11058" y="98"/>
                  </a:lnTo>
                  <a:lnTo>
                    <a:pt x="10814" y="25"/>
                  </a:lnTo>
                  <a:lnTo>
                    <a:pt x="10547" y="1"/>
                  </a:lnTo>
                  <a:close/>
                  <a:moveTo>
                    <a:pt x="5554" y="975"/>
                  </a:moveTo>
                  <a:lnTo>
                    <a:pt x="6284" y="975"/>
                  </a:lnTo>
                  <a:lnTo>
                    <a:pt x="6406" y="999"/>
                  </a:lnTo>
                  <a:lnTo>
                    <a:pt x="6479" y="1073"/>
                  </a:lnTo>
                  <a:lnTo>
                    <a:pt x="6552" y="1146"/>
                  </a:lnTo>
                  <a:lnTo>
                    <a:pt x="6577" y="1267"/>
                  </a:lnTo>
                  <a:lnTo>
                    <a:pt x="6552" y="1365"/>
                  </a:lnTo>
                  <a:lnTo>
                    <a:pt x="6479" y="1462"/>
                  </a:lnTo>
                  <a:lnTo>
                    <a:pt x="6406" y="1511"/>
                  </a:lnTo>
                  <a:lnTo>
                    <a:pt x="6284" y="1535"/>
                  </a:lnTo>
                  <a:lnTo>
                    <a:pt x="5554" y="1535"/>
                  </a:lnTo>
                  <a:lnTo>
                    <a:pt x="5432" y="1511"/>
                  </a:lnTo>
                  <a:lnTo>
                    <a:pt x="5359" y="1462"/>
                  </a:lnTo>
                  <a:lnTo>
                    <a:pt x="5286" y="1365"/>
                  </a:lnTo>
                  <a:lnTo>
                    <a:pt x="5262" y="1267"/>
                  </a:lnTo>
                  <a:lnTo>
                    <a:pt x="5286" y="1146"/>
                  </a:lnTo>
                  <a:lnTo>
                    <a:pt x="5359" y="1073"/>
                  </a:lnTo>
                  <a:lnTo>
                    <a:pt x="5432" y="999"/>
                  </a:lnTo>
                  <a:lnTo>
                    <a:pt x="5554" y="975"/>
                  </a:lnTo>
                  <a:close/>
                  <a:moveTo>
                    <a:pt x="5919" y="19436"/>
                  </a:moveTo>
                  <a:lnTo>
                    <a:pt x="5919" y="19436"/>
                  </a:lnTo>
                  <a:lnTo>
                    <a:pt x="5749" y="19412"/>
                  </a:lnTo>
                  <a:lnTo>
                    <a:pt x="5578" y="19363"/>
                  </a:lnTo>
                  <a:lnTo>
                    <a:pt x="5432" y="19290"/>
                  </a:lnTo>
                  <a:lnTo>
                    <a:pt x="5310" y="19193"/>
                  </a:lnTo>
                  <a:lnTo>
                    <a:pt x="5213" y="19071"/>
                  </a:lnTo>
                  <a:lnTo>
                    <a:pt x="5140" y="18925"/>
                  </a:lnTo>
                  <a:lnTo>
                    <a:pt x="5091" y="18754"/>
                  </a:lnTo>
                  <a:lnTo>
                    <a:pt x="5067" y="18584"/>
                  </a:lnTo>
                  <a:lnTo>
                    <a:pt x="5091" y="18413"/>
                  </a:lnTo>
                  <a:lnTo>
                    <a:pt x="5140" y="18243"/>
                  </a:lnTo>
                  <a:lnTo>
                    <a:pt x="5213" y="18097"/>
                  </a:lnTo>
                  <a:lnTo>
                    <a:pt x="5310" y="17975"/>
                  </a:lnTo>
                  <a:lnTo>
                    <a:pt x="5432" y="17877"/>
                  </a:lnTo>
                  <a:lnTo>
                    <a:pt x="5578" y="17804"/>
                  </a:lnTo>
                  <a:lnTo>
                    <a:pt x="5749" y="17756"/>
                  </a:lnTo>
                  <a:lnTo>
                    <a:pt x="5919" y="17731"/>
                  </a:lnTo>
                  <a:lnTo>
                    <a:pt x="6090" y="17756"/>
                  </a:lnTo>
                  <a:lnTo>
                    <a:pt x="6260" y="17804"/>
                  </a:lnTo>
                  <a:lnTo>
                    <a:pt x="6406" y="17877"/>
                  </a:lnTo>
                  <a:lnTo>
                    <a:pt x="6528" y="17975"/>
                  </a:lnTo>
                  <a:lnTo>
                    <a:pt x="6625" y="18097"/>
                  </a:lnTo>
                  <a:lnTo>
                    <a:pt x="6699" y="18243"/>
                  </a:lnTo>
                  <a:lnTo>
                    <a:pt x="6747" y="18413"/>
                  </a:lnTo>
                  <a:lnTo>
                    <a:pt x="6772" y="18584"/>
                  </a:lnTo>
                  <a:lnTo>
                    <a:pt x="6747" y="18754"/>
                  </a:lnTo>
                  <a:lnTo>
                    <a:pt x="6699" y="18925"/>
                  </a:lnTo>
                  <a:lnTo>
                    <a:pt x="6625" y="19071"/>
                  </a:lnTo>
                  <a:lnTo>
                    <a:pt x="6528" y="19193"/>
                  </a:lnTo>
                  <a:lnTo>
                    <a:pt x="6406" y="19290"/>
                  </a:lnTo>
                  <a:lnTo>
                    <a:pt x="6260" y="19363"/>
                  </a:lnTo>
                  <a:lnTo>
                    <a:pt x="6090" y="19412"/>
                  </a:lnTo>
                  <a:lnTo>
                    <a:pt x="5919" y="19436"/>
                  </a:lnTo>
                  <a:close/>
                  <a:moveTo>
                    <a:pt x="10547" y="16660"/>
                  </a:moveTo>
                  <a:lnTo>
                    <a:pt x="1292" y="16660"/>
                  </a:lnTo>
                  <a:lnTo>
                    <a:pt x="1292" y="2558"/>
                  </a:lnTo>
                  <a:lnTo>
                    <a:pt x="10547" y="2558"/>
                  </a:lnTo>
                  <a:lnTo>
                    <a:pt x="10547" y="16660"/>
                  </a:lnTo>
                  <a:close/>
                </a:path>
              </a:pathLst>
            </a:custGeom>
            <a:noFill/>
            <a:ln cap="rnd" w="12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91080" bIns="91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grpSp>
        <p:nvGrpSpPr>
          <p:cNvPr id="1008" name="Группа 6"/>
          <p:cNvGrpSpPr/>
          <p:nvPr/>
        </p:nvGrpSpPr>
        <p:grpSpPr>
          <a:xfrm>
            <a:off x="2048760" y="5133960"/>
            <a:ext cx="8094960" cy="1638720"/>
            <a:chOff x="2048760" y="5133960"/>
            <a:chExt cx="8094960" cy="1638720"/>
          </a:xfrm>
        </p:grpSpPr>
        <p:pic>
          <p:nvPicPr>
            <p:cNvPr id="1009" name="Picture 2" descr="http://qrcoder.ru/code/?https%3A%2F%2Frcokio.ru%2F&amp;4&amp;0"/>
            <p:cNvPicPr/>
            <p:nvPr/>
          </p:nvPicPr>
          <p:blipFill>
            <a:blip r:embed="rId2"/>
            <a:stretch/>
          </p:blipFill>
          <p:spPr>
            <a:xfrm>
              <a:off x="2153160" y="5217480"/>
              <a:ext cx="1267200" cy="126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0" name="TextBox 1"/>
            <p:cNvSpPr/>
            <p:nvPr/>
          </p:nvSpPr>
          <p:spPr>
            <a:xfrm>
              <a:off x="2048760" y="6483240"/>
              <a:ext cx="1476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Calibri"/>
                </a:rPr>
                <a:t>сайт ГБУ ДПО ЧИРО</a:t>
              </a:r>
              <a:endParaRPr b="0" lang="en-US" sz="12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1011" name="TextBox 49"/>
            <p:cNvSpPr/>
            <p:nvPr/>
          </p:nvSpPr>
          <p:spPr>
            <a:xfrm>
              <a:off x="4250520" y="6483240"/>
              <a:ext cx="1244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Calibri"/>
                </a:rPr>
                <a:t>Телеграм-канал</a:t>
              </a:r>
              <a:endParaRPr b="0" lang="en-US" sz="12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1012" name="TextBox 50"/>
            <p:cNvSpPr/>
            <p:nvPr/>
          </p:nvSpPr>
          <p:spPr>
            <a:xfrm>
              <a:off x="6061320" y="6483240"/>
              <a:ext cx="1809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Calibri"/>
                </a:rPr>
                <a:t>Сообщество в ВКонтакте</a:t>
              </a:r>
              <a:endParaRPr b="0" lang="en-US" sz="12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pic>
          <p:nvPicPr>
            <p:cNvPr id="1013" name="Рисунок 2" descr=""/>
            <p:cNvPicPr/>
            <p:nvPr/>
          </p:nvPicPr>
          <p:blipFill>
            <a:blip r:embed="rId3">
              <a:biLevel thresh="50000"/>
            </a:blip>
            <a:stretch/>
          </p:blipFill>
          <p:spPr>
            <a:xfrm>
              <a:off x="6279480" y="5133960"/>
              <a:ext cx="1374480" cy="1374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4" name="Рисунок 3" descr=""/>
            <p:cNvPicPr/>
            <p:nvPr/>
          </p:nvPicPr>
          <p:blipFill>
            <a:blip r:embed="rId4"/>
            <a:srcRect l="17901" t="3970" r="16637" b="5413"/>
            <a:stretch/>
          </p:blipFill>
          <p:spPr>
            <a:xfrm>
              <a:off x="4239720" y="5231520"/>
              <a:ext cx="1267200" cy="117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5" name="Рисунок 4" descr=""/>
            <p:cNvPicPr/>
            <p:nvPr/>
          </p:nvPicPr>
          <p:blipFill>
            <a:blip r:embed="rId5"/>
            <a:stretch/>
          </p:blipFill>
          <p:spPr>
            <a:xfrm>
              <a:off x="8339760" y="5133960"/>
              <a:ext cx="1375200" cy="137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6" name="TextBox 42"/>
            <p:cNvSpPr/>
            <p:nvPr/>
          </p:nvSpPr>
          <p:spPr>
            <a:xfrm>
              <a:off x="7910280" y="6496200"/>
              <a:ext cx="2233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Calibri"/>
                </a:rPr>
                <a:t>Сообщество в Одноклассниках</a:t>
              </a:r>
              <a:endParaRPr b="0" lang="en-US" sz="12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pic>
        <p:nvPicPr>
          <p:cNvPr id="1017" name="Рисунок 12" descr=""/>
          <p:cNvPicPr/>
          <p:nvPr/>
        </p:nvPicPr>
        <p:blipFill>
          <a:blip r:embed="rId6"/>
          <a:stretch/>
        </p:blipFill>
        <p:spPr>
          <a:xfrm>
            <a:off x="9028080" y="157320"/>
            <a:ext cx="2594160" cy="1118880"/>
          </a:xfrm>
          <a:prstGeom prst="rect">
            <a:avLst/>
          </a:prstGeom>
          <a:ln w="0">
            <a:noFill/>
          </a:ln>
        </p:spPr>
      </p:pic>
      <p:sp>
        <p:nvSpPr>
          <p:cNvPr id="1018" name="PlaceHolder 1"/>
          <p:cNvSpPr>
            <a:spLocks noGrp="1"/>
          </p:cNvSpPr>
          <p:nvPr>
            <p:ph type="dt" idx="49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 type="ftr" idx="5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 type="sldNum" idx="51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D2015-C140-46CE-ACC2-F879399E3AEF}" type="slidenum">
              <a:rPr b="0" lang="ru-RU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7"/>
    <p:sldLayoutId id="2147483884" r:id="rId8"/>
    <p:sldLayoutId id="2147483885" r:id="rId9"/>
    <p:sldLayoutId id="2147483886" r:id="rId10"/>
    <p:sldLayoutId id="2147483887" r:id="rId11"/>
    <p:sldLayoutId id="2147483888" r:id="rId12"/>
    <p:sldLayoutId id="2147483889" r:id="rId13"/>
    <p:sldLayoutId id="2147483890" r:id="rId14"/>
    <p:sldLayoutId id="2147483891" r:id="rId15"/>
    <p:sldLayoutId id="2147483892" r:id="rId16"/>
    <p:sldLayoutId id="2147483893" r:id="rId17"/>
    <p:sldLayoutId id="2147483894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90320" y="495360"/>
            <a:ext cx="103726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90320" y="2000160"/>
            <a:ext cx="10372680" cy="447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9" name="Группа 12"/>
          <p:cNvGrpSpPr/>
          <p:nvPr/>
        </p:nvGrpSpPr>
        <p:grpSpPr>
          <a:xfrm>
            <a:off x="0" y="6627960"/>
            <a:ext cx="4038480" cy="230040"/>
            <a:chOff x="0" y="6627960"/>
            <a:chExt cx="4038480" cy="230040"/>
          </a:xfrm>
        </p:grpSpPr>
        <p:sp>
          <p:nvSpPr>
            <p:cNvPr id="50" name="Блок-схема: данные 4"/>
            <p:cNvSpPr/>
            <p:nvPr/>
          </p:nvSpPr>
          <p:spPr>
            <a:xfrm>
              <a:off x="0" y="6627960"/>
              <a:ext cx="4038480" cy="23004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10000"/>
                  </a:moveTo>
                  <a:cubicBezTo>
                    <a:pt x="12" y="6637"/>
                    <a:pt x="-4" y="3363"/>
                    <a:pt x="8" y="0"/>
                  </a:cubicBezTo>
                  <a:lnTo>
                    <a:pt x="10000" y="0"/>
                  </a:lnTo>
                  <a:lnTo>
                    <a:pt x="8563" y="10000"/>
                  </a:lnTo>
                  <a:lnTo>
                    <a:pt x="0" y="10000"/>
                  </a:lnTo>
                  <a:close/>
                </a:path>
              </a:pathLst>
            </a:custGeom>
            <a:solidFill>
              <a:srgbClr val="e31e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51" name="Блок-схема: данные 4"/>
            <p:cNvSpPr/>
            <p:nvPr/>
          </p:nvSpPr>
          <p:spPr>
            <a:xfrm>
              <a:off x="0" y="6627960"/>
              <a:ext cx="4006800" cy="22068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10000"/>
                  </a:moveTo>
                  <a:cubicBezTo>
                    <a:pt x="12" y="6637"/>
                    <a:pt x="-4" y="3363"/>
                    <a:pt x="8" y="0"/>
                  </a:cubicBezTo>
                  <a:lnTo>
                    <a:pt x="10000" y="0"/>
                  </a:lnTo>
                  <a:lnTo>
                    <a:pt x="8563" y="10000"/>
                  </a:lnTo>
                  <a:lnTo>
                    <a:pt x="0" y="10000"/>
                  </a:lnTo>
                  <a:close/>
                </a:path>
              </a:pathLst>
            </a:custGeom>
            <a:solidFill>
              <a:srgbClr val="2647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pic>
        <p:nvPicPr>
          <p:cNvPr id="52" name="Рисунок 3" descr=""/>
          <p:cNvPicPr/>
          <p:nvPr/>
        </p:nvPicPr>
        <p:blipFill>
          <a:blip r:embed="rId2"/>
          <a:srcRect l="0" t="0" r="71336" b="30012"/>
          <a:stretch/>
        </p:blipFill>
        <p:spPr>
          <a:xfrm>
            <a:off x="11215800" y="88920"/>
            <a:ext cx="825480" cy="868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Блок-схема: данные 4"/>
          <p:cNvSpPr/>
          <p:nvPr/>
        </p:nvSpPr>
        <p:spPr>
          <a:xfrm>
            <a:off x="0" y="0"/>
            <a:ext cx="8861400" cy="83988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0" y="10000"/>
                </a:moveTo>
                <a:cubicBezTo>
                  <a:pt x="12" y="6637"/>
                  <a:pt x="-4" y="3363"/>
                  <a:pt x="8" y="0"/>
                </a:cubicBezTo>
                <a:lnTo>
                  <a:pt x="10000" y="0"/>
                </a:lnTo>
                <a:lnTo>
                  <a:pt x="8563" y="10000"/>
                </a:lnTo>
                <a:lnTo>
                  <a:pt x="0" y="10000"/>
                </a:lnTo>
                <a:close/>
              </a:path>
            </a:pathLst>
          </a:custGeom>
          <a:solidFill>
            <a:srgbClr val="e31e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58" name="Блок-схема: данные 4"/>
          <p:cNvSpPr/>
          <p:nvPr/>
        </p:nvSpPr>
        <p:spPr>
          <a:xfrm>
            <a:off x="0" y="0"/>
            <a:ext cx="8791560" cy="80640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0" y="10000"/>
                </a:moveTo>
                <a:cubicBezTo>
                  <a:pt x="12" y="6637"/>
                  <a:pt x="-4" y="3363"/>
                  <a:pt x="8" y="0"/>
                </a:cubicBezTo>
                <a:lnTo>
                  <a:pt x="10000" y="0"/>
                </a:lnTo>
                <a:lnTo>
                  <a:pt x="8563" y="10000"/>
                </a:lnTo>
                <a:lnTo>
                  <a:pt x="0" y="10000"/>
                </a:lnTo>
                <a:close/>
              </a:path>
            </a:pathLst>
          </a:custGeom>
          <a:solidFill>
            <a:srgbClr val="2647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59" name="TextBox 10"/>
          <p:cNvSpPr/>
          <p:nvPr/>
        </p:nvSpPr>
        <p:spPr>
          <a:xfrm>
            <a:off x="-525600" y="157320"/>
            <a:ext cx="80582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Государственное бюджетное учреждение дополнительного профессионального образования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«Челябинский институт развития образования»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60" name="Прямоугольник 11"/>
          <p:cNvSpPr/>
          <p:nvPr/>
        </p:nvSpPr>
        <p:spPr>
          <a:xfrm>
            <a:off x="4119480" y="3444840"/>
            <a:ext cx="946080" cy="905040"/>
          </a:xfrm>
          <a:prstGeom prst="rect">
            <a:avLst/>
          </a:prstGeom>
          <a:solidFill>
            <a:srgbClr val="264796"/>
          </a:solidFill>
          <a:ln w="6480">
            <a:solidFill>
              <a:srgbClr val="4472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61" name="Google Shape;559;p43"/>
          <p:cNvGrpSpPr/>
          <p:nvPr/>
        </p:nvGrpSpPr>
        <p:grpSpPr>
          <a:xfrm>
            <a:off x="4321080" y="3598920"/>
            <a:ext cx="573120" cy="552240"/>
            <a:chOff x="4321080" y="3598920"/>
            <a:chExt cx="573120" cy="552240"/>
          </a:xfrm>
        </p:grpSpPr>
        <p:sp>
          <p:nvSpPr>
            <p:cNvPr id="1062" name="Google Shape;560;p43"/>
            <p:cNvSpPr/>
            <p:nvPr/>
          </p:nvSpPr>
          <p:spPr>
            <a:xfrm>
              <a:off x="4321080" y="3598920"/>
              <a:ext cx="573120" cy="540000"/>
            </a:xfrm>
            <a:custGeom>
              <a:avLst/>
              <a:gdLst/>
              <a:ahLst/>
              <a:rect l="l" t="t" r="r" b="b"/>
              <a:pathLst>
                <a:path fill="none" w="18608" h="17805">
                  <a:moveTo>
                    <a:pt x="13493" y="14127"/>
                  </a:moveTo>
                  <a:lnTo>
                    <a:pt x="18608" y="17804"/>
                  </a:lnTo>
                  <a:lnTo>
                    <a:pt x="18608" y="17731"/>
                  </a:lnTo>
                  <a:lnTo>
                    <a:pt x="18608" y="6723"/>
                  </a:lnTo>
                  <a:lnTo>
                    <a:pt x="9304" y="1"/>
                  </a:lnTo>
                  <a:lnTo>
                    <a:pt x="1" y="6723"/>
                  </a:lnTo>
                  <a:lnTo>
                    <a:pt x="1" y="17731"/>
                  </a:lnTo>
                  <a:lnTo>
                    <a:pt x="1" y="17804"/>
                  </a:lnTo>
                  <a:lnTo>
                    <a:pt x="5115" y="14127"/>
                  </a:lnTo>
                </a:path>
              </a:pathLst>
            </a:custGeom>
            <a:noFill/>
            <a:ln cap="rnd" w="12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91080" bIns="91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1063" name="Google Shape;561;p43"/>
            <p:cNvSpPr/>
            <p:nvPr/>
          </p:nvSpPr>
          <p:spPr>
            <a:xfrm>
              <a:off x="4330800" y="4150440"/>
              <a:ext cx="553680" cy="720"/>
            </a:xfrm>
            <a:custGeom>
              <a:avLst/>
              <a:gdLst/>
              <a:ahLst/>
              <a:rect l="l" t="t" r="r" b="b"/>
              <a:pathLst>
                <a:path fill="none" w="17975" h="25">
                  <a:moveTo>
                    <a:pt x="0" y="0"/>
                  </a:moveTo>
                  <a:lnTo>
                    <a:pt x="0" y="0"/>
                  </a:lnTo>
                  <a:lnTo>
                    <a:pt x="98" y="0"/>
                  </a:lnTo>
                  <a:lnTo>
                    <a:pt x="171" y="24"/>
                  </a:lnTo>
                  <a:lnTo>
                    <a:pt x="17804" y="24"/>
                  </a:lnTo>
                  <a:lnTo>
                    <a:pt x="17877" y="0"/>
                  </a:lnTo>
                  <a:lnTo>
                    <a:pt x="17974" y="0"/>
                  </a:lnTo>
                </a:path>
              </a:pathLst>
            </a:custGeom>
            <a:noFill/>
            <a:ln cap="rnd" w="12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90360" bIns="-90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1064" name="Google Shape;562;p43"/>
            <p:cNvSpPr/>
            <p:nvPr/>
          </p:nvSpPr>
          <p:spPr>
            <a:xfrm>
              <a:off x="4321080" y="3802680"/>
              <a:ext cx="573120" cy="208080"/>
            </a:xfrm>
            <a:custGeom>
              <a:avLst/>
              <a:gdLst/>
              <a:ahLst/>
              <a:rect l="l" t="t" r="r" b="b"/>
              <a:pathLst>
                <a:path fill="none" w="18608" h="6869">
                  <a:moveTo>
                    <a:pt x="18608" y="1"/>
                  </a:moveTo>
                  <a:lnTo>
                    <a:pt x="9450" y="6820"/>
                  </a:lnTo>
                  <a:lnTo>
                    <a:pt x="9377" y="6845"/>
                  </a:lnTo>
                  <a:lnTo>
                    <a:pt x="9304" y="6869"/>
                  </a:lnTo>
                  <a:lnTo>
                    <a:pt x="9231" y="6845"/>
                  </a:lnTo>
                  <a:lnTo>
                    <a:pt x="9158" y="6820"/>
                  </a:lnTo>
                  <a:lnTo>
                    <a:pt x="1" y="1"/>
                  </a:lnTo>
                </a:path>
              </a:pathLst>
            </a:custGeom>
            <a:noFill/>
            <a:ln cap="rnd" w="12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91080" bIns="91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1065" name="Google Shape;563;p43"/>
            <p:cNvSpPr/>
            <p:nvPr/>
          </p:nvSpPr>
          <p:spPr>
            <a:xfrm>
              <a:off x="4435560" y="3752280"/>
              <a:ext cx="343800" cy="134280"/>
            </a:xfrm>
            <a:custGeom>
              <a:avLst/>
              <a:gdLst/>
              <a:ahLst/>
              <a:rect l="l" t="t" r="r" b="b"/>
              <a:pathLst>
                <a:path fill="none" w="11156" h="4434">
                  <a:moveTo>
                    <a:pt x="1" y="4433"/>
                  </a:moveTo>
                  <a:lnTo>
                    <a:pt x="1" y="1"/>
                  </a:lnTo>
                  <a:lnTo>
                    <a:pt x="11155" y="1"/>
                  </a:lnTo>
                  <a:lnTo>
                    <a:pt x="11155" y="4433"/>
                  </a:lnTo>
                </a:path>
              </a:pathLst>
            </a:custGeom>
            <a:noFill/>
            <a:ln cap="rnd" w="12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3200" bIns="43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1066" name="Google Shape;564;p43"/>
            <p:cNvSpPr/>
            <p:nvPr/>
          </p:nvSpPr>
          <p:spPr>
            <a:xfrm>
              <a:off x="4525200" y="3824640"/>
              <a:ext cx="164880" cy="360"/>
            </a:xfrm>
            <a:custGeom>
              <a:avLst/>
              <a:gdLst/>
              <a:ahLst/>
              <a:rect l="l" t="t" r="r" b="b"/>
              <a:pathLst>
                <a:path fill="none" w="5359" h="1">
                  <a:moveTo>
                    <a:pt x="0" y="0"/>
                  </a:moveTo>
                  <a:lnTo>
                    <a:pt x="5358" y="0"/>
                  </a:lnTo>
                </a:path>
              </a:pathLst>
            </a:custGeom>
            <a:noFill/>
            <a:ln cap="rnd" w="12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90720" bIns="-90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1067" name="Google Shape;565;p43"/>
            <p:cNvSpPr/>
            <p:nvPr/>
          </p:nvSpPr>
          <p:spPr>
            <a:xfrm>
              <a:off x="4525200" y="3866040"/>
              <a:ext cx="164880" cy="360"/>
            </a:xfrm>
            <a:custGeom>
              <a:avLst/>
              <a:gdLst/>
              <a:ahLst/>
              <a:rect l="l" t="t" r="r" b="b"/>
              <a:pathLst>
                <a:path fill="none" w="5359" h="1">
                  <a:moveTo>
                    <a:pt x="0" y="0"/>
                  </a:moveTo>
                  <a:lnTo>
                    <a:pt x="5358" y="0"/>
                  </a:lnTo>
                </a:path>
              </a:pathLst>
            </a:custGeom>
            <a:noFill/>
            <a:ln cap="rnd" w="12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90720" bIns="-90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1068" name="Google Shape;566;p43"/>
            <p:cNvSpPr/>
            <p:nvPr/>
          </p:nvSpPr>
          <p:spPr>
            <a:xfrm>
              <a:off x="4525200" y="3907440"/>
              <a:ext cx="104760" cy="360"/>
            </a:xfrm>
            <a:custGeom>
              <a:avLst/>
              <a:gdLst/>
              <a:ahLst/>
              <a:rect l="l" t="t" r="r" b="b"/>
              <a:pathLst>
                <a:path fill="none" w="3410" h="1">
                  <a:moveTo>
                    <a:pt x="0" y="0"/>
                  </a:moveTo>
                  <a:lnTo>
                    <a:pt x="3410" y="0"/>
                  </a:lnTo>
                </a:path>
              </a:pathLst>
            </a:custGeom>
            <a:noFill/>
            <a:ln cap="rnd" w="12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90720" bIns="-90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grpSp>
        <p:nvGrpSpPr>
          <p:cNvPr id="1069" name="Группа 65"/>
          <p:cNvGrpSpPr/>
          <p:nvPr/>
        </p:nvGrpSpPr>
        <p:grpSpPr>
          <a:xfrm>
            <a:off x="5305320" y="1104840"/>
            <a:ext cx="916200" cy="835200"/>
            <a:chOff x="5305320" y="1104840"/>
            <a:chExt cx="916200" cy="835200"/>
          </a:xfrm>
        </p:grpSpPr>
        <p:sp>
          <p:nvSpPr>
            <p:cNvPr id="1070" name="Прямоугольник 23"/>
            <p:cNvSpPr/>
            <p:nvPr/>
          </p:nvSpPr>
          <p:spPr>
            <a:xfrm>
              <a:off x="5305320" y="1104840"/>
              <a:ext cx="916200" cy="835200"/>
            </a:xfrm>
            <a:prstGeom prst="rect">
              <a:avLst/>
            </a:prstGeom>
            <a:solidFill>
              <a:srgbClr val="264796"/>
            </a:solidFill>
            <a:ln w="0">
              <a:noFill/>
            </a:ln>
            <a:effectLst>
              <a:outerShdw dist="19080" dir="5400000" blurRad="0" rotWithShape="0">
                <a:srgbClr val="000000">
                  <a:alpha val="6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grpSp>
          <p:nvGrpSpPr>
            <p:cNvPr id="1071" name="Google Shape;732;p43"/>
            <p:cNvGrpSpPr/>
            <p:nvPr/>
          </p:nvGrpSpPr>
          <p:grpSpPr>
            <a:xfrm>
              <a:off x="5464080" y="1296360"/>
              <a:ext cx="609480" cy="502920"/>
              <a:chOff x="5464080" y="1296360"/>
              <a:chExt cx="609480" cy="502920"/>
            </a:xfrm>
          </p:grpSpPr>
          <p:sp>
            <p:nvSpPr>
              <p:cNvPr id="1072" name="Google Shape;733;p43"/>
              <p:cNvSpPr/>
              <p:nvPr/>
            </p:nvSpPr>
            <p:spPr>
              <a:xfrm>
                <a:off x="5963760" y="1731240"/>
                <a:ext cx="85320" cy="68040"/>
              </a:xfrm>
              <a:custGeom>
                <a:avLst/>
                <a:gdLst/>
                <a:ahLst/>
                <a:rect l="l" t="t" r="r" b="b"/>
                <a:pathLst>
                  <a:path fill="none" w="2631" h="2096">
                    <a:moveTo>
                      <a:pt x="1" y="1"/>
                    </a:moveTo>
                    <a:lnTo>
                      <a:pt x="1" y="780"/>
                    </a:lnTo>
                    <a:lnTo>
                      <a:pt x="25" y="1048"/>
                    </a:lnTo>
                    <a:lnTo>
                      <a:pt x="122" y="1291"/>
                    </a:lnTo>
                    <a:lnTo>
                      <a:pt x="244" y="1511"/>
                    </a:lnTo>
                    <a:lnTo>
                      <a:pt x="390" y="1705"/>
                    </a:lnTo>
                    <a:lnTo>
                      <a:pt x="585" y="1852"/>
                    </a:lnTo>
                    <a:lnTo>
                      <a:pt x="804" y="1973"/>
                    </a:lnTo>
                    <a:lnTo>
                      <a:pt x="1048" y="2071"/>
                    </a:lnTo>
                    <a:lnTo>
                      <a:pt x="1316" y="2095"/>
                    </a:lnTo>
                    <a:lnTo>
                      <a:pt x="1584" y="2071"/>
                    </a:lnTo>
                    <a:lnTo>
                      <a:pt x="1827" y="1973"/>
                    </a:lnTo>
                    <a:lnTo>
                      <a:pt x="2046" y="1852"/>
                    </a:lnTo>
                    <a:lnTo>
                      <a:pt x="2241" y="1705"/>
                    </a:lnTo>
                    <a:lnTo>
                      <a:pt x="2412" y="1511"/>
                    </a:lnTo>
                    <a:lnTo>
                      <a:pt x="2533" y="1291"/>
                    </a:lnTo>
                    <a:lnTo>
                      <a:pt x="2607" y="1048"/>
                    </a:lnTo>
                    <a:lnTo>
                      <a:pt x="2631" y="780"/>
                    </a:lnTo>
                    <a:lnTo>
                      <a:pt x="2631" y="1"/>
                    </a:lnTo>
                  </a:path>
                </a:pathLst>
              </a:custGeom>
              <a:noFill/>
              <a:ln cap="rnd" w="12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-23040" bIns="-23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  <p:sp>
            <p:nvSpPr>
              <p:cNvPr id="1073" name="Google Shape;734;p43"/>
              <p:cNvSpPr/>
              <p:nvPr/>
            </p:nvSpPr>
            <p:spPr>
              <a:xfrm>
                <a:off x="5488560" y="1731240"/>
                <a:ext cx="85320" cy="68040"/>
              </a:xfrm>
              <a:custGeom>
                <a:avLst/>
                <a:gdLst/>
                <a:ahLst/>
                <a:rect l="l" t="t" r="r" b="b"/>
                <a:pathLst>
                  <a:path fill="none" w="2631" h="2096">
                    <a:moveTo>
                      <a:pt x="1" y="1"/>
                    </a:moveTo>
                    <a:lnTo>
                      <a:pt x="1" y="780"/>
                    </a:lnTo>
                    <a:lnTo>
                      <a:pt x="25" y="1048"/>
                    </a:lnTo>
                    <a:lnTo>
                      <a:pt x="98" y="1291"/>
                    </a:lnTo>
                    <a:lnTo>
                      <a:pt x="220" y="1511"/>
                    </a:lnTo>
                    <a:lnTo>
                      <a:pt x="390" y="1705"/>
                    </a:lnTo>
                    <a:lnTo>
                      <a:pt x="585" y="1852"/>
                    </a:lnTo>
                    <a:lnTo>
                      <a:pt x="804" y="1973"/>
                    </a:lnTo>
                    <a:lnTo>
                      <a:pt x="1048" y="2071"/>
                    </a:lnTo>
                    <a:lnTo>
                      <a:pt x="1316" y="2095"/>
                    </a:lnTo>
                    <a:lnTo>
                      <a:pt x="1584" y="2071"/>
                    </a:lnTo>
                    <a:lnTo>
                      <a:pt x="1827" y="1973"/>
                    </a:lnTo>
                    <a:lnTo>
                      <a:pt x="2046" y="1852"/>
                    </a:lnTo>
                    <a:lnTo>
                      <a:pt x="2241" y="1705"/>
                    </a:lnTo>
                    <a:lnTo>
                      <a:pt x="2387" y="1511"/>
                    </a:lnTo>
                    <a:lnTo>
                      <a:pt x="2509" y="1291"/>
                    </a:lnTo>
                    <a:lnTo>
                      <a:pt x="2607" y="1048"/>
                    </a:lnTo>
                    <a:lnTo>
                      <a:pt x="2631" y="780"/>
                    </a:lnTo>
                    <a:lnTo>
                      <a:pt x="2631" y="1"/>
                    </a:lnTo>
                  </a:path>
                </a:pathLst>
              </a:custGeom>
              <a:noFill/>
              <a:ln cap="rnd" w="12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-23040" bIns="-23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  <p:sp>
            <p:nvSpPr>
              <p:cNvPr id="1074" name="Google Shape;735;p43"/>
              <p:cNvSpPr/>
              <p:nvPr/>
            </p:nvSpPr>
            <p:spPr>
              <a:xfrm>
                <a:off x="5464080" y="1296360"/>
                <a:ext cx="609480" cy="432720"/>
              </a:xfrm>
              <a:custGeom>
                <a:avLst/>
                <a:gdLst/>
                <a:ahLst/>
                <a:rect l="l" t="t" r="r" b="b"/>
                <a:pathLst>
                  <a:path fill="none" w="18754" h="13323">
                    <a:moveTo>
                      <a:pt x="18754" y="5553"/>
                    </a:moveTo>
                    <a:lnTo>
                      <a:pt x="18754" y="5553"/>
                    </a:lnTo>
                    <a:lnTo>
                      <a:pt x="18730" y="5334"/>
                    </a:lnTo>
                    <a:lnTo>
                      <a:pt x="18681" y="5091"/>
                    </a:lnTo>
                    <a:lnTo>
                      <a:pt x="18583" y="4847"/>
                    </a:lnTo>
                    <a:lnTo>
                      <a:pt x="18462" y="4628"/>
                    </a:lnTo>
                    <a:lnTo>
                      <a:pt x="18291" y="4433"/>
                    </a:lnTo>
                    <a:lnTo>
                      <a:pt x="18121" y="4287"/>
                    </a:lnTo>
                    <a:lnTo>
                      <a:pt x="18023" y="4214"/>
                    </a:lnTo>
                    <a:lnTo>
                      <a:pt x="17926" y="4165"/>
                    </a:lnTo>
                    <a:lnTo>
                      <a:pt x="17828" y="4141"/>
                    </a:lnTo>
                    <a:lnTo>
                      <a:pt x="17731" y="4141"/>
                    </a:lnTo>
                    <a:lnTo>
                      <a:pt x="16489" y="4141"/>
                    </a:lnTo>
                    <a:lnTo>
                      <a:pt x="15588" y="1803"/>
                    </a:lnTo>
                    <a:lnTo>
                      <a:pt x="15490" y="1583"/>
                    </a:lnTo>
                    <a:lnTo>
                      <a:pt x="15344" y="1364"/>
                    </a:lnTo>
                    <a:lnTo>
                      <a:pt x="15174" y="1169"/>
                    </a:lnTo>
                    <a:lnTo>
                      <a:pt x="15003" y="975"/>
                    </a:lnTo>
                    <a:lnTo>
                      <a:pt x="14784" y="804"/>
                    </a:lnTo>
                    <a:lnTo>
                      <a:pt x="14565" y="658"/>
                    </a:lnTo>
                    <a:lnTo>
                      <a:pt x="14346" y="536"/>
                    </a:lnTo>
                    <a:lnTo>
                      <a:pt x="14102" y="439"/>
                    </a:lnTo>
                    <a:lnTo>
                      <a:pt x="13810" y="390"/>
                    </a:lnTo>
                    <a:lnTo>
                      <a:pt x="13444" y="317"/>
                    </a:lnTo>
                    <a:lnTo>
                      <a:pt x="12933" y="220"/>
                    </a:lnTo>
                    <a:lnTo>
                      <a:pt x="12275" y="147"/>
                    </a:lnTo>
                    <a:lnTo>
                      <a:pt x="11472" y="73"/>
                    </a:lnTo>
                    <a:lnTo>
                      <a:pt x="10498" y="25"/>
                    </a:lnTo>
                    <a:lnTo>
                      <a:pt x="9377" y="0"/>
                    </a:lnTo>
                    <a:lnTo>
                      <a:pt x="8257" y="25"/>
                    </a:lnTo>
                    <a:lnTo>
                      <a:pt x="7283" y="73"/>
                    </a:lnTo>
                    <a:lnTo>
                      <a:pt x="6479" y="147"/>
                    </a:lnTo>
                    <a:lnTo>
                      <a:pt x="5821" y="220"/>
                    </a:lnTo>
                    <a:lnTo>
                      <a:pt x="5310" y="317"/>
                    </a:lnTo>
                    <a:lnTo>
                      <a:pt x="4945" y="390"/>
                    </a:lnTo>
                    <a:lnTo>
                      <a:pt x="4652" y="439"/>
                    </a:lnTo>
                    <a:lnTo>
                      <a:pt x="4409" y="536"/>
                    </a:lnTo>
                    <a:lnTo>
                      <a:pt x="4190" y="658"/>
                    </a:lnTo>
                    <a:lnTo>
                      <a:pt x="3970" y="804"/>
                    </a:lnTo>
                    <a:lnTo>
                      <a:pt x="3751" y="975"/>
                    </a:lnTo>
                    <a:lnTo>
                      <a:pt x="3581" y="1169"/>
                    </a:lnTo>
                    <a:lnTo>
                      <a:pt x="3410" y="1364"/>
                    </a:lnTo>
                    <a:lnTo>
                      <a:pt x="3264" y="1583"/>
                    </a:lnTo>
                    <a:lnTo>
                      <a:pt x="3167" y="1803"/>
                    </a:lnTo>
                    <a:lnTo>
                      <a:pt x="2266" y="4141"/>
                    </a:lnTo>
                    <a:lnTo>
                      <a:pt x="1023" y="4141"/>
                    </a:lnTo>
                    <a:lnTo>
                      <a:pt x="926" y="4141"/>
                    </a:lnTo>
                    <a:lnTo>
                      <a:pt x="829" y="4165"/>
                    </a:lnTo>
                    <a:lnTo>
                      <a:pt x="731" y="4214"/>
                    </a:lnTo>
                    <a:lnTo>
                      <a:pt x="634" y="4287"/>
                    </a:lnTo>
                    <a:lnTo>
                      <a:pt x="463" y="4433"/>
                    </a:lnTo>
                    <a:lnTo>
                      <a:pt x="293" y="4628"/>
                    </a:lnTo>
                    <a:lnTo>
                      <a:pt x="171" y="4847"/>
                    </a:lnTo>
                    <a:lnTo>
                      <a:pt x="74" y="5091"/>
                    </a:lnTo>
                    <a:lnTo>
                      <a:pt x="25" y="5334"/>
                    </a:lnTo>
                    <a:lnTo>
                      <a:pt x="1" y="5553"/>
                    </a:lnTo>
                    <a:lnTo>
                      <a:pt x="25" y="5748"/>
                    </a:lnTo>
                    <a:lnTo>
                      <a:pt x="74" y="5894"/>
                    </a:lnTo>
                    <a:lnTo>
                      <a:pt x="171" y="6016"/>
                    </a:lnTo>
                    <a:lnTo>
                      <a:pt x="293" y="6089"/>
                    </a:lnTo>
                    <a:lnTo>
                      <a:pt x="463" y="6138"/>
                    </a:lnTo>
                    <a:lnTo>
                      <a:pt x="634" y="6187"/>
                    </a:lnTo>
                    <a:lnTo>
                      <a:pt x="1023" y="6187"/>
                    </a:lnTo>
                    <a:lnTo>
                      <a:pt x="1462" y="6187"/>
                    </a:lnTo>
                    <a:lnTo>
                      <a:pt x="1145" y="7015"/>
                    </a:lnTo>
                    <a:lnTo>
                      <a:pt x="999" y="7526"/>
                    </a:lnTo>
                    <a:lnTo>
                      <a:pt x="877" y="8086"/>
                    </a:lnTo>
                    <a:lnTo>
                      <a:pt x="780" y="8671"/>
                    </a:lnTo>
                    <a:lnTo>
                      <a:pt x="756" y="9207"/>
                    </a:lnTo>
                    <a:lnTo>
                      <a:pt x="756" y="13323"/>
                    </a:lnTo>
                    <a:lnTo>
                      <a:pt x="17999" y="13323"/>
                    </a:lnTo>
                    <a:lnTo>
                      <a:pt x="17999" y="9207"/>
                    </a:lnTo>
                    <a:lnTo>
                      <a:pt x="17975" y="8671"/>
                    </a:lnTo>
                    <a:lnTo>
                      <a:pt x="17877" y="8086"/>
                    </a:lnTo>
                    <a:lnTo>
                      <a:pt x="17755" y="7526"/>
                    </a:lnTo>
                    <a:lnTo>
                      <a:pt x="17609" y="7015"/>
                    </a:lnTo>
                    <a:lnTo>
                      <a:pt x="17293" y="6187"/>
                    </a:lnTo>
                    <a:lnTo>
                      <a:pt x="17731" y="6187"/>
                    </a:lnTo>
                    <a:lnTo>
                      <a:pt x="18121" y="6187"/>
                    </a:lnTo>
                    <a:lnTo>
                      <a:pt x="18291" y="6138"/>
                    </a:lnTo>
                    <a:lnTo>
                      <a:pt x="18462" y="6089"/>
                    </a:lnTo>
                    <a:lnTo>
                      <a:pt x="18583" y="6016"/>
                    </a:lnTo>
                    <a:lnTo>
                      <a:pt x="18681" y="5894"/>
                    </a:lnTo>
                    <a:lnTo>
                      <a:pt x="18730" y="5748"/>
                    </a:lnTo>
                    <a:lnTo>
                      <a:pt x="18754" y="5553"/>
                    </a:lnTo>
                  </a:path>
                </a:pathLst>
              </a:custGeom>
              <a:noFill/>
              <a:ln cap="rnd" w="12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91080" bIns="91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  <p:sp>
            <p:nvSpPr>
              <p:cNvPr id="1075" name="Google Shape;736;p43"/>
              <p:cNvSpPr/>
              <p:nvPr/>
            </p:nvSpPr>
            <p:spPr>
              <a:xfrm>
                <a:off x="5571720" y="1339560"/>
                <a:ext cx="394200" cy="194400"/>
              </a:xfrm>
              <a:custGeom>
                <a:avLst/>
                <a:gdLst/>
                <a:ahLst/>
                <a:rect l="l" t="t" r="r" b="b"/>
                <a:pathLst>
                  <a:path fill="none" w="12130" h="5993">
                    <a:moveTo>
                      <a:pt x="1" y="4628"/>
                    </a:moveTo>
                    <a:lnTo>
                      <a:pt x="1" y="4628"/>
                    </a:lnTo>
                    <a:lnTo>
                      <a:pt x="171" y="4019"/>
                    </a:lnTo>
                    <a:lnTo>
                      <a:pt x="585" y="2656"/>
                    </a:lnTo>
                    <a:lnTo>
                      <a:pt x="805" y="1925"/>
                    </a:lnTo>
                    <a:lnTo>
                      <a:pt x="1024" y="1292"/>
                    </a:lnTo>
                    <a:lnTo>
                      <a:pt x="1194" y="829"/>
                    </a:lnTo>
                    <a:lnTo>
                      <a:pt x="1267" y="707"/>
                    </a:lnTo>
                    <a:lnTo>
                      <a:pt x="1316" y="658"/>
                    </a:lnTo>
                    <a:lnTo>
                      <a:pt x="1535" y="561"/>
                    </a:lnTo>
                    <a:lnTo>
                      <a:pt x="1852" y="464"/>
                    </a:lnTo>
                    <a:lnTo>
                      <a:pt x="2315" y="342"/>
                    </a:lnTo>
                    <a:lnTo>
                      <a:pt x="2948" y="220"/>
                    </a:lnTo>
                    <a:lnTo>
                      <a:pt x="3776" y="98"/>
                    </a:lnTo>
                    <a:lnTo>
                      <a:pt x="4799" y="25"/>
                    </a:lnTo>
                    <a:lnTo>
                      <a:pt x="5408" y="1"/>
                    </a:lnTo>
                    <a:lnTo>
                      <a:pt x="6065" y="1"/>
                    </a:lnTo>
                    <a:lnTo>
                      <a:pt x="6723" y="1"/>
                    </a:lnTo>
                    <a:lnTo>
                      <a:pt x="7332" y="25"/>
                    </a:lnTo>
                    <a:lnTo>
                      <a:pt x="8355" y="98"/>
                    </a:lnTo>
                    <a:lnTo>
                      <a:pt x="9183" y="220"/>
                    </a:lnTo>
                    <a:lnTo>
                      <a:pt x="9816" y="342"/>
                    </a:lnTo>
                    <a:lnTo>
                      <a:pt x="10279" y="464"/>
                    </a:lnTo>
                    <a:lnTo>
                      <a:pt x="10595" y="561"/>
                    </a:lnTo>
                    <a:lnTo>
                      <a:pt x="10814" y="658"/>
                    </a:lnTo>
                    <a:lnTo>
                      <a:pt x="10863" y="707"/>
                    </a:lnTo>
                    <a:lnTo>
                      <a:pt x="10936" y="829"/>
                    </a:lnTo>
                    <a:lnTo>
                      <a:pt x="11107" y="1292"/>
                    </a:lnTo>
                    <a:lnTo>
                      <a:pt x="11326" y="1925"/>
                    </a:lnTo>
                    <a:lnTo>
                      <a:pt x="11545" y="2656"/>
                    </a:lnTo>
                    <a:lnTo>
                      <a:pt x="11959" y="4019"/>
                    </a:lnTo>
                    <a:lnTo>
                      <a:pt x="12130" y="4628"/>
                    </a:lnTo>
                    <a:lnTo>
                      <a:pt x="12105" y="4677"/>
                    </a:lnTo>
                    <a:lnTo>
                      <a:pt x="12057" y="4750"/>
                    </a:lnTo>
                    <a:lnTo>
                      <a:pt x="11959" y="4823"/>
                    </a:lnTo>
                    <a:lnTo>
                      <a:pt x="11813" y="4921"/>
                    </a:lnTo>
                    <a:lnTo>
                      <a:pt x="11618" y="5042"/>
                    </a:lnTo>
                    <a:lnTo>
                      <a:pt x="11375" y="5164"/>
                    </a:lnTo>
                    <a:lnTo>
                      <a:pt x="11058" y="5262"/>
                    </a:lnTo>
                    <a:lnTo>
                      <a:pt x="10717" y="5383"/>
                    </a:lnTo>
                    <a:lnTo>
                      <a:pt x="10327" y="5505"/>
                    </a:lnTo>
                    <a:lnTo>
                      <a:pt x="9865" y="5627"/>
                    </a:lnTo>
                    <a:lnTo>
                      <a:pt x="9377" y="5724"/>
                    </a:lnTo>
                    <a:lnTo>
                      <a:pt x="8817" y="5822"/>
                    </a:lnTo>
                    <a:lnTo>
                      <a:pt x="8208" y="5895"/>
                    </a:lnTo>
                    <a:lnTo>
                      <a:pt x="7551" y="5944"/>
                    </a:lnTo>
                    <a:lnTo>
                      <a:pt x="6845" y="5992"/>
                    </a:lnTo>
                    <a:lnTo>
                      <a:pt x="6065" y="5992"/>
                    </a:lnTo>
                    <a:lnTo>
                      <a:pt x="5286" y="5992"/>
                    </a:lnTo>
                    <a:lnTo>
                      <a:pt x="4580" y="5944"/>
                    </a:lnTo>
                    <a:lnTo>
                      <a:pt x="3922" y="5895"/>
                    </a:lnTo>
                    <a:lnTo>
                      <a:pt x="3313" y="5822"/>
                    </a:lnTo>
                    <a:lnTo>
                      <a:pt x="2753" y="5724"/>
                    </a:lnTo>
                    <a:lnTo>
                      <a:pt x="2266" y="5627"/>
                    </a:lnTo>
                    <a:lnTo>
                      <a:pt x="1803" y="5505"/>
                    </a:lnTo>
                    <a:lnTo>
                      <a:pt x="1413" y="5383"/>
                    </a:lnTo>
                    <a:lnTo>
                      <a:pt x="1072" y="5262"/>
                    </a:lnTo>
                    <a:lnTo>
                      <a:pt x="756" y="5164"/>
                    </a:lnTo>
                    <a:lnTo>
                      <a:pt x="512" y="5042"/>
                    </a:lnTo>
                    <a:lnTo>
                      <a:pt x="317" y="4921"/>
                    </a:lnTo>
                    <a:lnTo>
                      <a:pt x="171" y="4823"/>
                    </a:lnTo>
                    <a:lnTo>
                      <a:pt x="74" y="4750"/>
                    </a:lnTo>
                    <a:lnTo>
                      <a:pt x="25" y="4677"/>
                    </a:lnTo>
                    <a:lnTo>
                      <a:pt x="1" y="4628"/>
                    </a:lnTo>
                  </a:path>
                </a:pathLst>
              </a:custGeom>
              <a:noFill/>
              <a:ln cap="rnd" w="12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91080" bIns="91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  <p:sp>
            <p:nvSpPr>
              <p:cNvPr id="1076" name="Google Shape;737;p43"/>
              <p:cNvSpPr/>
              <p:nvPr/>
            </p:nvSpPr>
            <p:spPr>
              <a:xfrm>
                <a:off x="5540040" y="1591200"/>
                <a:ext cx="105120" cy="84600"/>
              </a:xfrm>
              <a:custGeom>
                <a:avLst/>
                <a:gdLst/>
                <a:ahLst/>
                <a:rect l="l" t="t" r="r" b="b"/>
                <a:pathLst>
                  <a:path fill="none" w="3240" h="2607">
                    <a:moveTo>
                      <a:pt x="1632" y="2607"/>
                    </a:moveTo>
                    <a:lnTo>
                      <a:pt x="1632" y="2607"/>
                    </a:lnTo>
                    <a:lnTo>
                      <a:pt x="1291" y="2582"/>
                    </a:lnTo>
                    <a:lnTo>
                      <a:pt x="999" y="2509"/>
                    </a:lnTo>
                    <a:lnTo>
                      <a:pt x="731" y="2388"/>
                    </a:lnTo>
                    <a:lnTo>
                      <a:pt x="488" y="2217"/>
                    </a:lnTo>
                    <a:lnTo>
                      <a:pt x="293" y="2047"/>
                    </a:lnTo>
                    <a:lnTo>
                      <a:pt x="122" y="1803"/>
                    </a:lnTo>
                    <a:lnTo>
                      <a:pt x="74" y="1706"/>
                    </a:lnTo>
                    <a:lnTo>
                      <a:pt x="49" y="1559"/>
                    </a:lnTo>
                    <a:lnTo>
                      <a:pt x="25" y="1438"/>
                    </a:lnTo>
                    <a:lnTo>
                      <a:pt x="1" y="1316"/>
                    </a:lnTo>
                    <a:lnTo>
                      <a:pt x="25" y="1170"/>
                    </a:lnTo>
                    <a:lnTo>
                      <a:pt x="49" y="1048"/>
                    </a:lnTo>
                    <a:lnTo>
                      <a:pt x="74" y="926"/>
                    </a:lnTo>
                    <a:lnTo>
                      <a:pt x="122" y="804"/>
                    </a:lnTo>
                    <a:lnTo>
                      <a:pt x="293" y="585"/>
                    </a:lnTo>
                    <a:lnTo>
                      <a:pt x="488" y="390"/>
                    </a:lnTo>
                    <a:lnTo>
                      <a:pt x="731" y="220"/>
                    </a:lnTo>
                    <a:lnTo>
                      <a:pt x="999" y="98"/>
                    </a:lnTo>
                    <a:lnTo>
                      <a:pt x="1291" y="25"/>
                    </a:lnTo>
                    <a:lnTo>
                      <a:pt x="1632" y="1"/>
                    </a:lnTo>
                    <a:lnTo>
                      <a:pt x="1803" y="1"/>
                    </a:lnTo>
                    <a:lnTo>
                      <a:pt x="1949" y="49"/>
                    </a:lnTo>
                    <a:lnTo>
                      <a:pt x="2120" y="98"/>
                    </a:lnTo>
                    <a:lnTo>
                      <a:pt x="2266" y="171"/>
                    </a:lnTo>
                    <a:lnTo>
                      <a:pt x="2412" y="269"/>
                    </a:lnTo>
                    <a:lnTo>
                      <a:pt x="2534" y="390"/>
                    </a:lnTo>
                    <a:lnTo>
                      <a:pt x="2777" y="634"/>
                    </a:lnTo>
                    <a:lnTo>
                      <a:pt x="2972" y="926"/>
                    </a:lnTo>
                    <a:lnTo>
                      <a:pt x="3118" y="1219"/>
                    </a:lnTo>
                    <a:lnTo>
                      <a:pt x="3215" y="1535"/>
                    </a:lnTo>
                    <a:lnTo>
                      <a:pt x="3240" y="1681"/>
                    </a:lnTo>
                    <a:lnTo>
                      <a:pt x="3240" y="1803"/>
                    </a:lnTo>
                    <a:lnTo>
                      <a:pt x="3240" y="1949"/>
                    </a:lnTo>
                    <a:lnTo>
                      <a:pt x="3215" y="2047"/>
                    </a:lnTo>
                    <a:lnTo>
                      <a:pt x="3167" y="2144"/>
                    </a:lnTo>
                    <a:lnTo>
                      <a:pt x="3118" y="2241"/>
                    </a:lnTo>
                    <a:lnTo>
                      <a:pt x="3045" y="2314"/>
                    </a:lnTo>
                    <a:lnTo>
                      <a:pt x="2972" y="2388"/>
                    </a:lnTo>
                    <a:lnTo>
                      <a:pt x="2777" y="2485"/>
                    </a:lnTo>
                    <a:lnTo>
                      <a:pt x="2534" y="2558"/>
                    </a:lnTo>
                    <a:lnTo>
                      <a:pt x="2266" y="2582"/>
                    </a:lnTo>
                    <a:lnTo>
                      <a:pt x="1949" y="2607"/>
                    </a:lnTo>
                    <a:lnTo>
                      <a:pt x="1632" y="2607"/>
                    </a:lnTo>
                  </a:path>
                </a:pathLst>
              </a:custGeom>
              <a:noFill/>
              <a:ln cap="rnd" w="12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-6480" bIns="-6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  <p:sp>
            <p:nvSpPr>
              <p:cNvPr id="1077" name="Google Shape;738;p43"/>
              <p:cNvSpPr/>
              <p:nvPr/>
            </p:nvSpPr>
            <p:spPr>
              <a:xfrm>
                <a:off x="5696640" y="1652400"/>
                <a:ext cx="144000" cy="360"/>
              </a:xfrm>
              <a:custGeom>
                <a:avLst/>
                <a:gdLst/>
                <a:ahLst/>
                <a:rect l="l" t="t" r="r" b="b"/>
                <a:pathLst>
                  <a:path fill="none" w="4434" h="1">
                    <a:moveTo>
                      <a:pt x="1" y="0"/>
                    </a:moveTo>
                    <a:lnTo>
                      <a:pt x="4434" y="0"/>
                    </a:lnTo>
                  </a:path>
                </a:pathLst>
              </a:custGeom>
              <a:noFill/>
              <a:ln cap="rnd" w="12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-90720" bIns="-90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  <p:sp>
            <p:nvSpPr>
              <p:cNvPr id="1078" name="Google Shape;739;p43"/>
              <p:cNvSpPr/>
              <p:nvPr/>
            </p:nvSpPr>
            <p:spPr>
              <a:xfrm>
                <a:off x="5687280" y="1617480"/>
                <a:ext cx="163080" cy="360"/>
              </a:xfrm>
              <a:custGeom>
                <a:avLst/>
                <a:gdLst/>
                <a:ahLst/>
                <a:rect l="l" t="t" r="r" b="b"/>
                <a:pathLst>
                  <a:path fill="none" w="5018" h="1">
                    <a:moveTo>
                      <a:pt x="1" y="0"/>
                    </a:moveTo>
                    <a:lnTo>
                      <a:pt x="5018" y="0"/>
                    </a:lnTo>
                  </a:path>
                </a:pathLst>
              </a:custGeom>
              <a:noFill/>
              <a:ln cap="rnd" w="12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-90720" bIns="-90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  <p:sp>
            <p:nvSpPr>
              <p:cNvPr id="1079" name="Google Shape;740;p43"/>
              <p:cNvSpPr/>
              <p:nvPr/>
            </p:nvSpPr>
            <p:spPr>
              <a:xfrm>
                <a:off x="5892480" y="1591200"/>
                <a:ext cx="105120" cy="84600"/>
              </a:xfrm>
              <a:custGeom>
                <a:avLst/>
                <a:gdLst/>
                <a:ahLst/>
                <a:rect l="l" t="t" r="r" b="b"/>
                <a:pathLst>
                  <a:path fill="none" w="3240" h="2607">
                    <a:moveTo>
                      <a:pt x="1608" y="2607"/>
                    </a:moveTo>
                    <a:lnTo>
                      <a:pt x="1608" y="2607"/>
                    </a:lnTo>
                    <a:lnTo>
                      <a:pt x="1291" y="2607"/>
                    </a:lnTo>
                    <a:lnTo>
                      <a:pt x="975" y="2582"/>
                    </a:lnTo>
                    <a:lnTo>
                      <a:pt x="707" y="2558"/>
                    </a:lnTo>
                    <a:lnTo>
                      <a:pt x="463" y="2485"/>
                    </a:lnTo>
                    <a:lnTo>
                      <a:pt x="268" y="2388"/>
                    </a:lnTo>
                    <a:lnTo>
                      <a:pt x="195" y="2314"/>
                    </a:lnTo>
                    <a:lnTo>
                      <a:pt x="122" y="2241"/>
                    </a:lnTo>
                    <a:lnTo>
                      <a:pt x="74" y="2144"/>
                    </a:lnTo>
                    <a:lnTo>
                      <a:pt x="25" y="2047"/>
                    </a:lnTo>
                    <a:lnTo>
                      <a:pt x="1" y="1949"/>
                    </a:lnTo>
                    <a:lnTo>
                      <a:pt x="1" y="1803"/>
                    </a:lnTo>
                    <a:lnTo>
                      <a:pt x="1" y="1681"/>
                    </a:lnTo>
                    <a:lnTo>
                      <a:pt x="25" y="1535"/>
                    </a:lnTo>
                    <a:lnTo>
                      <a:pt x="122" y="1219"/>
                    </a:lnTo>
                    <a:lnTo>
                      <a:pt x="268" y="926"/>
                    </a:lnTo>
                    <a:lnTo>
                      <a:pt x="463" y="634"/>
                    </a:lnTo>
                    <a:lnTo>
                      <a:pt x="707" y="390"/>
                    </a:lnTo>
                    <a:lnTo>
                      <a:pt x="829" y="269"/>
                    </a:lnTo>
                    <a:lnTo>
                      <a:pt x="975" y="171"/>
                    </a:lnTo>
                    <a:lnTo>
                      <a:pt x="1121" y="98"/>
                    </a:lnTo>
                    <a:lnTo>
                      <a:pt x="1291" y="49"/>
                    </a:lnTo>
                    <a:lnTo>
                      <a:pt x="1438" y="1"/>
                    </a:lnTo>
                    <a:lnTo>
                      <a:pt x="1608" y="1"/>
                    </a:lnTo>
                    <a:lnTo>
                      <a:pt x="1949" y="25"/>
                    </a:lnTo>
                    <a:lnTo>
                      <a:pt x="2241" y="98"/>
                    </a:lnTo>
                    <a:lnTo>
                      <a:pt x="2509" y="220"/>
                    </a:lnTo>
                    <a:lnTo>
                      <a:pt x="2753" y="390"/>
                    </a:lnTo>
                    <a:lnTo>
                      <a:pt x="2948" y="585"/>
                    </a:lnTo>
                    <a:lnTo>
                      <a:pt x="3118" y="804"/>
                    </a:lnTo>
                    <a:lnTo>
                      <a:pt x="3167" y="926"/>
                    </a:lnTo>
                    <a:lnTo>
                      <a:pt x="3191" y="1048"/>
                    </a:lnTo>
                    <a:lnTo>
                      <a:pt x="3215" y="1170"/>
                    </a:lnTo>
                    <a:lnTo>
                      <a:pt x="3240" y="1316"/>
                    </a:lnTo>
                    <a:lnTo>
                      <a:pt x="3215" y="1438"/>
                    </a:lnTo>
                    <a:lnTo>
                      <a:pt x="3191" y="1559"/>
                    </a:lnTo>
                    <a:lnTo>
                      <a:pt x="3167" y="1706"/>
                    </a:lnTo>
                    <a:lnTo>
                      <a:pt x="3118" y="1803"/>
                    </a:lnTo>
                    <a:lnTo>
                      <a:pt x="2948" y="2047"/>
                    </a:lnTo>
                    <a:lnTo>
                      <a:pt x="2753" y="2217"/>
                    </a:lnTo>
                    <a:lnTo>
                      <a:pt x="2509" y="2388"/>
                    </a:lnTo>
                    <a:lnTo>
                      <a:pt x="2241" y="2509"/>
                    </a:lnTo>
                    <a:lnTo>
                      <a:pt x="1949" y="2582"/>
                    </a:lnTo>
                    <a:lnTo>
                      <a:pt x="1608" y="2607"/>
                    </a:lnTo>
                  </a:path>
                </a:pathLst>
              </a:custGeom>
              <a:noFill/>
              <a:ln cap="rnd" w="12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-6480" bIns="-6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80" name="TextBox 40"/>
          <p:cNvSpPr/>
          <p:nvPr/>
        </p:nvSpPr>
        <p:spPr>
          <a:xfrm>
            <a:off x="3247920" y="4349880"/>
            <a:ext cx="27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info@chiro74.ru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81" name="TextBox 41"/>
          <p:cNvSpPr/>
          <p:nvPr/>
        </p:nvSpPr>
        <p:spPr>
          <a:xfrm>
            <a:off x="5226120" y="4356000"/>
            <a:ext cx="314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8 (351) 217 30 89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82" name="TextBox 43"/>
          <p:cNvSpPr/>
          <p:nvPr/>
        </p:nvSpPr>
        <p:spPr>
          <a:xfrm>
            <a:off x="2774880" y="2052720"/>
            <a:ext cx="6112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454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111, г. Челябинск, ул. Комсомольская, д. 20А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454087, г. Челябинск, ул. Блюхера, д. 9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454091, г. Челябинск, ул. Красноармейская, д. 88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454048, г. Челябинск, ул. Худякова, д. 20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83" name="Google Shape;59;g142ea23b5d2_0_0"/>
          <p:cNvSpPr/>
          <p:nvPr/>
        </p:nvSpPr>
        <p:spPr>
          <a:xfrm>
            <a:off x="3944880" y="4637160"/>
            <a:ext cx="36594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121680" bIns="121680" anchor="t">
            <a:spAutoFit/>
          </a:bodyPr>
          <a:p>
            <a:pPr marL="15840" algn="ctr">
              <a:lnSpc>
                <a:spcPct val="150000"/>
              </a:lnSpc>
              <a:spcBef>
                <a:spcPts val="1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03864"/>
                </a:solidFill>
                <a:latin typeface="Calibri"/>
                <a:ea typeface="Jost"/>
              </a:rPr>
              <a:t>МЫ В СОЦИАЛЬНЫХ СЕТЯХ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84" name="Группа 5"/>
          <p:cNvGrpSpPr/>
          <p:nvPr/>
        </p:nvGrpSpPr>
        <p:grpSpPr>
          <a:xfrm>
            <a:off x="6307200" y="3443400"/>
            <a:ext cx="984240" cy="903240"/>
            <a:chOff x="6307200" y="3443400"/>
            <a:chExt cx="984240" cy="903240"/>
          </a:xfrm>
        </p:grpSpPr>
        <p:sp>
          <p:nvSpPr>
            <p:cNvPr id="1085" name="Прямоугольник 53"/>
            <p:cNvSpPr/>
            <p:nvPr/>
          </p:nvSpPr>
          <p:spPr>
            <a:xfrm>
              <a:off x="6307200" y="3443400"/>
              <a:ext cx="984240" cy="903240"/>
            </a:xfrm>
            <a:prstGeom prst="rect">
              <a:avLst/>
            </a:prstGeom>
            <a:solidFill>
              <a:srgbClr val="264796"/>
            </a:solidFill>
            <a:ln w="6480">
              <a:solidFill>
                <a:srgbClr val="4472c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1086" name="Google Shape;653;p43"/>
            <p:cNvSpPr/>
            <p:nvPr/>
          </p:nvSpPr>
          <p:spPr>
            <a:xfrm>
              <a:off x="6585480" y="3562920"/>
              <a:ext cx="427320" cy="679320"/>
            </a:xfrm>
            <a:custGeom>
              <a:avLst/>
              <a:gdLst/>
              <a:ahLst/>
              <a:rect l="l" t="t" r="r" b="b"/>
              <a:pathLst>
                <a:path fill="none" w="11838" h="20508">
                  <a:moveTo>
                    <a:pt x="10547" y="1"/>
                  </a:moveTo>
                  <a:lnTo>
                    <a:pt x="1292" y="1"/>
                  </a:lnTo>
                  <a:lnTo>
                    <a:pt x="1024" y="25"/>
                  </a:lnTo>
                  <a:lnTo>
                    <a:pt x="780" y="98"/>
                  </a:lnTo>
                  <a:lnTo>
                    <a:pt x="561" y="220"/>
                  </a:lnTo>
                  <a:lnTo>
                    <a:pt x="366" y="366"/>
                  </a:lnTo>
                  <a:lnTo>
                    <a:pt x="220" y="561"/>
                  </a:lnTo>
                  <a:lnTo>
                    <a:pt x="98" y="780"/>
                  </a:lnTo>
                  <a:lnTo>
                    <a:pt x="25" y="1024"/>
                  </a:lnTo>
                  <a:lnTo>
                    <a:pt x="1" y="1292"/>
                  </a:lnTo>
                  <a:lnTo>
                    <a:pt x="1" y="19217"/>
                  </a:lnTo>
                  <a:lnTo>
                    <a:pt x="25" y="19485"/>
                  </a:lnTo>
                  <a:lnTo>
                    <a:pt x="98" y="19728"/>
                  </a:lnTo>
                  <a:lnTo>
                    <a:pt x="220" y="19948"/>
                  </a:lnTo>
                  <a:lnTo>
                    <a:pt x="366" y="20142"/>
                  </a:lnTo>
                  <a:lnTo>
                    <a:pt x="561" y="20289"/>
                  </a:lnTo>
                  <a:lnTo>
                    <a:pt x="780" y="20410"/>
                  </a:lnTo>
                  <a:lnTo>
                    <a:pt x="1024" y="20483"/>
                  </a:lnTo>
                  <a:lnTo>
                    <a:pt x="1292" y="20508"/>
                  </a:lnTo>
                  <a:lnTo>
                    <a:pt x="10547" y="20508"/>
                  </a:lnTo>
                  <a:lnTo>
                    <a:pt x="10814" y="20483"/>
                  </a:lnTo>
                  <a:lnTo>
                    <a:pt x="11058" y="20410"/>
                  </a:lnTo>
                  <a:lnTo>
                    <a:pt x="11277" y="20289"/>
                  </a:lnTo>
                  <a:lnTo>
                    <a:pt x="11472" y="20142"/>
                  </a:lnTo>
                  <a:lnTo>
                    <a:pt x="11618" y="19948"/>
                  </a:lnTo>
                  <a:lnTo>
                    <a:pt x="11740" y="19728"/>
                  </a:lnTo>
                  <a:lnTo>
                    <a:pt x="11813" y="19485"/>
                  </a:lnTo>
                  <a:lnTo>
                    <a:pt x="11837" y="19217"/>
                  </a:lnTo>
                  <a:lnTo>
                    <a:pt x="11837" y="1292"/>
                  </a:lnTo>
                  <a:lnTo>
                    <a:pt x="11813" y="1024"/>
                  </a:lnTo>
                  <a:lnTo>
                    <a:pt x="11740" y="780"/>
                  </a:lnTo>
                  <a:lnTo>
                    <a:pt x="11618" y="561"/>
                  </a:lnTo>
                  <a:lnTo>
                    <a:pt x="11472" y="366"/>
                  </a:lnTo>
                  <a:lnTo>
                    <a:pt x="11277" y="220"/>
                  </a:lnTo>
                  <a:lnTo>
                    <a:pt x="11058" y="98"/>
                  </a:lnTo>
                  <a:lnTo>
                    <a:pt x="10814" y="25"/>
                  </a:lnTo>
                  <a:lnTo>
                    <a:pt x="10547" y="1"/>
                  </a:lnTo>
                  <a:close/>
                  <a:moveTo>
                    <a:pt x="5554" y="975"/>
                  </a:moveTo>
                  <a:lnTo>
                    <a:pt x="6284" y="975"/>
                  </a:lnTo>
                  <a:lnTo>
                    <a:pt x="6406" y="999"/>
                  </a:lnTo>
                  <a:lnTo>
                    <a:pt x="6479" y="1073"/>
                  </a:lnTo>
                  <a:lnTo>
                    <a:pt x="6552" y="1146"/>
                  </a:lnTo>
                  <a:lnTo>
                    <a:pt x="6577" y="1267"/>
                  </a:lnTo>
                  <a:lnTo>
                    <a:pt x="6552" y="1365"/>
                  </a:lnTo>
                  <a:lnTo>
                    <a:pt x="6479" y="1462"/>
                  </a:lnTo>
                  <a:lnTo>
                    <a:pt x="6406" y="1511"/>
                  </a:lnTo>
                  <a:lnTo>
                    <a:pt x="6284" y="1535"/>
                  </a:lnTo>
                  <a:lnTo>
                    <a:pt x="5554" y="1535"/>
                  </a:lnTo>
                  <a:lnTo>
                    <a:pt x="5432" y="1511"/>
                  </a:lnTo>
                  <a:lnTo>
                    <a:pt x="5359" y="1462"/>
                  </a:lnTo>
                  <a:lnTo>
                    <a:pt x="5286" y="1365"/>
                  </a:lnTo>
                  <a:lnTo>
                    <a:pt x="5262" y="1267"/>
                  </a:lnTo>
                  <a:lnTo>
                    <a:pt x="5286" y="1146"/>
                  </a:lnTo>
                  <a:lnTo>
                    <a:pt x="5359" y="1073"/>
                  </a:lnTo>
                  <a:lnTo>
                    <a:pt x="5432" y="999"/>
                  </a:lnTo>
                  <a:lnTo>
                    <a:pt x="5554" y="975"/>
                  </a:lnTo>
                  <a:close/>
                  <a:moveTo>
                    <a:pt x="5919" y="19436"/>
                  </a:moveTo>
                  <a:lnTo>
                    <a:pt x="5919" y="19436"/>
                  </a:lnTo>
                  <a:lnTo>
                    <a:pt x="5749" y="19412"/>
                  </a:lnTo>
                  <a:lnTo>
                    <a:pt x="5578" y="19363"/>
                  </a:lnTo>
                  <a:lnTo>
                    <a:pt x="5432" y="19290"/>
                  </a:lnTo>
                  <a:lnTo>
                    <a:pt x="5310" y="19193"/>
                  </a:lnTo>
                  <a:lnTo>
                    <a:pt x="5213" y="19071"/>
                  </a:lnTo>
                  <a:lnTo>
                    <a:pt x="5140" y="18925"/>
                  </a:lnTo>
                  <a:lnTo>
                    <a:pt x="5091" y="18754"/>
                  </a:lnTo>
                  <a:lnTo>
                    <a:pt x="5067" y="18584"/>
                  </a:lnTo>
                  <a:lnTo>
                    <a:pt x="5091" y="18413"/>
                  </a:lnTo>
                  <a:lnTo>
                    <a:pt x="5140" y="18243"/>
                  </a:lnTo>
                  <a:lnTo>
                    <a:pt x="5213" y="18097"/>
                  </a:lnTo>
                  <a:lnTo>
                    <a:pt x="5310" y="17975"/>
                  </a:lnTo>
                  <a:lnTo>
                    <a:pt x="5432" y="17877"/>
                  </a:lnTo>
                  <a:lnTo>
                    <a:pt x="5578" y="17804"/>
                  </a:lnTo>
                  <a:lnTo>
                    <a:pt x="5749" y="17756"/>
                  </a:lnTo>
                  <a:lnTo>
                    <a:pt x="5919" y="17731"/>
                  </a:lnTo>
                  <a:lnTo>
                    <a:pt x="6090" y="17756"/>
                  </a:lnTo>
                  <a:lnTo>
                    <a:pt x="6260" y="17804"/>
                  </a:lnTo>
                  <a:lnTo>
                    <a:pt x="6406" y="17877"/>
                  </a:lnTo>
                  <a:lnTo>
                    <a:pt x="6528" y="17975"/>
                  </a:lnTo>
                  <a:lnTo>
                    <a:pt x="6625" y="18097"/>
                  </a:lnTo>
                  <a:lnTo>
                    <a:pt x="6699" y="18243"/>
                  </a:lnTo>
                  <a:lnTo>
                    <a:pt x="6747" y="18413"/>
                  </a:lnTo>
                  <a:lnTo>
                    <a:pt x="6772" y="18584"/>
                  </a:lnTo>
                  <a:lnTo>
                    <a:pt x="6747" y="18754"/>
                  </a:lnTo>
                  <a:lnTo>
                    <a:pt x="6699" y="18925"/>
                  </a:lnTo>
                  <a:lnTo>
                    <a:pt x="6625" y="19071"/>
                  </a:lnTo>
                  <a:lnTo>
                    <a:pt x="6528" y="19193"/>
                  </a:lnTo>
                  <a:lnTo>
                    <a:pt x="6406" y="19290"/>
                  </a:lnTo>
                  <a:lnTo>
                    <a:pt x="6260" y="19363"/>
                  </a:lnTo>
                  <a:lnTo>
                    <a:pt x="6090" y="19412"/>
                  </a:lnTo>
                  <a:lnTo>
                    <a:pt x="5919" y="19436"/>
                  </a:lnTo>
                  <a:close/>
                  <a:moveTo>
                    <a:pt x="10547" y="16660"/>
                  </a:moveTo>
                  <a:lnTo>
                    <a:pt x="1292" y="16660"/>
                  </a:lnTo>
                  <a:lnTo>
                    <a:pt x="1292" y="2558"/>
                  </a:lnTo>
                  <a:lnTo>
                    <a:pt x="10547" y="2558"/>
                  </a:lnTo>
                  <a:lnTo>
                    <a:pt x="10547" y="16660"/>
                  </a:lnTo>
                  <a:close/>
                </a:path>
              </a:pathLst>
            </a:custGeom>
            <a:noFill/>
            <a:ln cap="rnd" w="12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91080" bIns="91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grpSp>
        <p:nvGrpSpPr>
          <p:cNvPr id="1087" name="Группа 6"/>
          <p:cNvGrpSpPr/>
          <p:nvPr/>
        </p:nvGrpSpPr>
        <p:grpSpPr>
          <a:xfrm>
            <a:off x="2048760" y="5133960"/>
            <a:ext cx="8094960" cy="1638720"/>
            <a:chOff x="2048760" y="5133960"/>
            <a:chExt cx="8094960" cy="1638720"/>
          </a:xfrm>
        </p:grpSpPr>
        <p:pic>
          <p:nvPicPr>
            <p:cNvPr id="1088" name="Picture 2" descr="http://qrcoder.ru/code/?https%3A%2F%2Frcokio.ru%2F&amp;4&amp;0"/>
            <p:cNvPicPr/>
            <p:nvPr/>
          </p:nvPicPr>
          <p:blipFill>
            <a:blip r:embed="rId2"/>
            <a:stretch/>
          </p:blipFill>
          <p:spPr>
            <a:xfrm>
              <a:off x="2153160" y="5217480"/>
              <a:ext cx="1267200" cy="126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9" name="TextBox 1"/>
            <p:cNvSpPr/>
            <p:nvPr/>
          </p:nvSpPr>
          <p:spPr>
            <a:xfrm>
              <a:off x="2048760" y="6483240"/>
              <a:ext cx="1476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Calibri"/>
                </a:rPr>
                <a:t>сайт ГБУ ДПО ЧИРО</a:t>
              </a:r>
              <a:endParaRPr b="0" lang="en-US" sz="12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1090" name="TextBox 49"/>
            <p:cNvSpPr/>
            <p:nvPr/>
          </p:nvSpPr>
          <p:spPr>
            <a:xfrm>
              <a:off x="4250520" y="6483240"/>
              <a:ext cx="1244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Calibri"/>
                </a:rPr>
                <a:t>Телеграм-канал</a:t>
              </a:r>
              <a:endParaRPr b="0" lang="en-US" sz="12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1091" name="TextBox 50"/>
            <p:cNvSpPr/>
            <p:nvPr/>
          </p:nvSpPr>
          <p:spPr>
            <a:xfrm>
              <a:off x="6061320" y="6483240"/>
              <a:ext cx="1809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Calibri"/>
                </a:rPr>
                <a:t>Сообщество в ВКонтакте</a:t>
              </a:r>
              <a:endParaRPr b="0" lang="en-US" sz="12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pic>
          <p:nvPicPr>
            <p:cNvPr id="1092" name="Рисунок 2" descr=""/>
            <p:cNvPicPr/>
            <p:nvPr/>
          </p:nvPicPr>
          <p:blipFill>
            <a:blip r:embed="rId3">
              <a:biLevel thresh="50000"/>
            </a:blip>
            <a:stretch/>
          </p:blipFill>
          <p:spPr>
            <a:xfrm>
              <a:off x="6279480" y="5133960"/>
              <a:ext cx="1374480" cy="1374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3" name="Рисунок 3" descr=""/>
            <p:cNvPicPr/>
            <p:nvPr/>
          </p:nvPicPr>
          <p:blipFill>
            <a:blip r:embed="rId4"/>
            <a:srcRect l="17901" t="3970" r="16637" b="5413"/>
            <a:stretch/>
          </p:blipFill>
          <p:spPr>
            <a:xfrm>
              <a:off x="4239720" y="5231520"/>
              <a:ext cx="1267200" cy="117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4" name="Рисунок 4" descr=""/>
            <p:cNvPicPr/>
            <p:nvPr/>
          </p:nvPicPr>
          <p:blipFill>
            <a:blip r:embed="rId5"/>
            <a:stretch/>
          </p:blipFill>
          <p:spPr>
            <a:xfrm>
              <a:off x="8339760" y="5133960"/>
              <a:ext cx="1375200" cy="137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5" name="TextBox 42"/>
            <p:cNvSpPr/>
            <p:nvPr/>
          </p:nvSpPr>
          <p:spPr>
            <a:xfrm>
              <a:off x="7910280" y="6496200"/>
              <a:ext cx="2233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Calibri"/>
                </a:rPr>
                <a:t>Сообщество в Одноклассниках</a:t>
              </a:r>
              <a:endParaRPr b="0" lang="en-US" sz="12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pic>
        <p:nvPicPr>
          <p:cNvPr id="1096" name="Рисунок 12" descr=""/>
          <p:cNvPicPr/>
          <p:nvPr/>
        </p:nvPicPr>
        <p:blipFill>
          <a:blip r:embed="rId6"/>
          <a:stretch/>
        </p:blipFill>
        <p:spPr>
          <a:xfrm>
            <a:off x="9028080" y="157320"/>
            <a:ext cx="2594160" cy="1118880"/>
          </a:xfrm>
          <a:prstGeom prst="rect">
            <a:avLst/>
          </a:prstGeom>
          <a:ln w="0">
            <a:noFill/>
          </a:ln>
        </p:spPr>
      </p:pic>
      <p:sp>
        <p:nvSpPr>
          <p:cNvPr id="1097" name="PlaceHolder 1"/>
          <p:cNvSpPr>
            <a:spLocks noGrp="1"/>
          </p:cNvSpPr>
          <p:nvPr>
            <p:ph type="dt" idx="52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 type="ftr" idx="5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99" name="PlaceHolder 3"/>
          <p:cNvSpPr>
            <a:spLocks noGrp="1"/>
          </p:cNvSpPr>
          <p:nvPr>
            <p:ph type="sldNum" idx="54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1BBBD-1749-4C1F-80E1-F667AD1CD2AB}" type="slidenum">
              <a:rPr b="0" lang="ru-RU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7"/>
    <p:sldLayoutId id="2147483897" r:id="rId8"/>
    <p:sldLayoutId id="2147483898" r:id="rId9"/>
    <p:sldLayoutId id="2147483899" r:id="rId10"/>
    <p:sldLayoutId id="2147483900" r:id="rId11"/>
    <p:sldLayoutId id="2147483901" r:id="rId12"/>
    <p:sldLayoutId id="2147483902" r:id="rId13"/>
    <p:sldLayoutId id="2147483903" r:id="rId14"/>
    <p:sldLayoutId id="2147483904" r:id="rId15"/>
    <p:sldLayoutId id="2147483905" r:id="rId16"/>
    <p:sldLayoutId id="2147483906" r:id="rId17"/>
    <p:sldLayoutId id="2147483907" r:id="rId18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Блок-схема: данные 4"/>
          <p:cNvSpPr/>
          <p:nvPr/>
        </p:nvSpPr>
        <p:spPr>
          <a:xfrm>
            <a:off x="0" y="0"/>
            <a:ext cx="8861400" cy="83988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0" y="10000"/>
                </a:moveTo>
                <a:cubicBezTo>
                  <a:pt x="12" y="6637"/>
                  <a:pt x="-4" y="3363"/>
                  <a:pt x="8" y="0"/>
                </a:cubicBezTo>
                <a:lnTo>
                  <a:pt x="10000" y="0"/>
                </a:lnTo>
                <a:lnTo>
                  <a:pt x="8563" y="10000"/>
                </a:lnTo>
                <a:lnTo>
                  <a:pt x="0" y="10000"/>
                </a:lnTo>
                <a:close/>
              </a:path>
            </a:pathLst>
          </a:custGeom>
          <a:solidFill>
            <a:srgbClr val="e31e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7" name="Блок-схема: данные 4"/>
          <p:cNvSpPr/>
          <p:nvPr/>
        </p:nvSpPr>
        <p:spPr>
          <a:xfrm>
            <a:off x="0" y="0"/>
            <a:ext cx="8791560" cy="80640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0" y="10000"/>
                </a:moveTo>
                <a:cubicBezTo>
                  <a:pt x="12" y="6637"/>
                  <a:pt x="-4" y="3363"/>
                  <a:pt x="8" y="0"/>
                </a:cubicBezTo>
                <a:lnTo>
                  <a:pt x="10000" y="0"/>
                </a:lnTo>
                <a:lnTo>
                  <a:pt x="8563" y="10000"/>
                </a:lnTo>
                <a:lnTo>
                  <a:pt x="0" y="10000"/>
                </a:lnTo>
                <a:close/>
              </a:path>
            </a:pathLst>
          </a:custGeom>
          <a:solidFill>
            <a:srgbClr val="2647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8" name="TextBox 10"/>
          <p:cNvSpPr/>
          <p:nvPr/>
        </p:nvSpPr>
        <p:spPr>
          <a:xfrm>
            <a:off x="-525600" y="157320"/>
            <a:ext cx="80582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Государственное бюджетное учреждение дополнительного профессионального образования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«Челябинский институт развития образования»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9" name="Прямоугольник 11"/>
          <p:cNvSpPr/>
          <p:nvPr/>
        </p:nvSpPr>
        <p:spPr>
          <a:xfrm>
            <a:off x="4119480" y="3444840"/>
            <a:ext cx="946080" cy="905040"/>
          </a:xfrm>
          <a:prstGeom prst="rect">
            <a:avLst/>
          </a:prstGeom>
          <a:solidFill>
            <a:srgbClr val="264796"/>
          </a:solidFill>
          <a:ln w="6480">
            <a:solidFill>
              <a:srgbClr val="4472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140" name="Google Shape;559;p43"/>
          <p:cNvGrpSpPr/>
          <p:nvPr/>
        </p:nvGrpSpPr>
        <p:grpSpPr>
          <a:xfrm>
            <a:off x="4321080" y="3598920"/>
            <a:ext cx="573120" cy="552240"/>
            <a:chOff x="4321080" y="3598920"/>
            <a:chExt cx="573120" cy="552240"/>
          </a:xfrm>
        </p:grpSpPr>
        <p:sp>
          <p:nvSpPr>
            <p:cNvPr id="1141" name="Google Shape;560;p43"/>
            <p:cNvSpPr/>
            <p:nvPr/>
          </p:nvSpPr>
          <p:spPr>
            <a:xfrm>
              <a:off x="4321080" y="3598920"/>
              <a:ext cx="573120" cy="540000"/>
            </a:xfrm>
            <a:custGeom>
              <a:avLst/>
              <a:gdLst/>
              <a:ahLst/>
              <a:rect l="l" t="t" r="r" b="b"/>
              <a:pathLst>
                <a:path fill="none" w="18608" h="17805">
                  <a:moveTo>
                    <a:pt x="13493" y="14127"/>
                  </a:moveTo>
                  <a:lnTo>
                    <a:pt x="18608" y="17804"/>
                  </a:lnTo>
                  <a:lnTo>
                    <a:pt x="18608" y="17731"/>
                  </a:lnTo>
                  <a:lnTo>
                    <a:pt x="18608" y="6723"/>
                  </a:lnTo>
                  <a:lnTo>
                    <a:pt x="9304" y="1"/>
                  </a:lnTo>
                  <a:lnTo>
                    <a:pt x="1" y="6723"/>
                  </a:lnTo>
                  <a:lnTo>
                    <a:pt x="1" y="17731"/>
                  </a:lnTo>
                  <a:lnTo>
                    <a:pt x="1" y="17804"/>
                  </a:lnTo>
                  <a:lnTo>
                    <a:pt x="5115" y="14127"/>
                  </a:lnTo>
                </a:path>
              </a:pathLst>
            </a:custGeom>
            <a:noFill/>
            <a:ln cap="rnd" w="12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91080" bIns="91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1142" name="Google Shape;561;p43"/>
            <p:cNvSpPr/>
            <p:nvPr/>
          </p:nvSpPr>
          <p:spPr>
            <a:xfrm>
              <a:off x="4330800" y="4150440"/>
              <a:ext cx="553680" cy="720"/>
            </a:xfrm>
            <a:custGeom>
              <a:avLst/>
              <a:gdLst/>
              <a:ahLst/>
              <a:rect l="l" t="t" r="r" b="b"/>
              <a:pathLst>
                <a:path fill="none" w="17975" h="25">
                  <a:moveTo>
                    <a:pt x="0" y="0"/>
                  </a:moveTo>
                  <a:lnTo>
                    <a:pt x="0" y="0"/>
                  </a:lnTo>
                  <a:lnTo>
                    <a:pt x="98" y="0"/>
                  </a:lnTo>
                  <a:lnTo>
                    <a:pt x="171" y="24"/>
                  </a:lnTo>
                  <a:lnTo>
                    <a:pt x="17804" y="24"/>
                  </a:lnTo>
                  <a:lnTo>
                    <a:pt x="17877" y="0"/>
                  </a:lnTo>
                  <a:lnTo>
                    <a:pt x="17974" y="0"/>
                  </a:lnTo>
                </a:path>
              </a:pathLst>
            </a:custGeom>
            <a:noFill/>
            <a:ln cap="rnd" w="12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90360" bIns="-90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1143" name="Google Shape;562;p43"/>
            <p:cNvSpPr/>
            <p:nvPr/>
          </p:nvSpPr>
          <p:spPr>
            <a:xfrm>
              <a:off x="4321080" y="3802680"/>
              <a:ext cx="573120" cy="208080"/>
            </a:xfrm>
            <a:custGeom>
              <a:avLst/>
              <a:gdLst/>
              <a:ahLst/>
              <a:rect l="l" t="t" r="r" b="b"/>
              <a:pathLst>
                <a:path fill="none" w="18608" h="6869">
                  <a:moveTo>
                    <a:pt x="18608" y="1"/>
                  </a:moveTo>
                  <a:lnTo>
                    <a:pt x="9450" y="6820"/>
                  </a:lnTo>
                  <a:lnTo>
                    <a:pt x="9377" y="6845"/>
                  </a:lnTo>
                  <a:lnTo>
                    <a:pt x="9304" y="6869"/>
                  </a:lnTo>
                  <a:lnTo>
                    <a:pt x="9231" y="6845"/>
                  </a:lnTo>
                  <a:lnTo>
                    <a:pt x="9158" y="6820"/>
                  </a:lnTo>
                  <a:lnTo>
                    <a:pt x="1" y="1"/>
                  </a:lnTo>
                </a:path>
              </a:pathLst>
            </a:custGeom>
            <a:noFill/>
            <a:ln cap="rnd" w="12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91080" bIns="91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1144" name="Google Shape;563;p43"/>
            <p:cNvSpPr/>
            <p:nvPr/>
          </p:nvSpPr>
          <p:spPr>
            <a:xfrm>
              <a:off x="4435560" y="3752280"/>
              <a:ext cx="343800" cy="134280"/>
            </a:xfrm>
            <a:custGeom>
              <a:avLst/>
              <a:gdLst/>
              <a:ahLst/>
              <a:rect l="l" t="t" r="r" b="b"/>
              <a:pathLst>
                <a:path fill="none" w="11156" h="4434">
                  <a:moveTo>
                    <a:pt x="1" y="4433"/>
                  </a:moveTo>
                  <a:lnTo>
                    <a:pt x="1" y="1"/>
                  </a:lnTo>
                  <a:lnTo>
                    <a:pt x="11155" y="1"/>
                  </a:lnTo>
                  <a:lnTo>
                    <a:pt x="11155" y="4433"/>
                  </a:lnTo>
                </a:path>
              </a:pathLst>
            </a:custGeom>
            <a:noFill/>
            <a:ln cap="rnd" w="12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3200" bIns="43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1145" name="Google Shape;564;p43"/>
            <p:cNvSpPr/>
            <p:nvPr/>
          </p:nvSpPr>
          <p:spPr>
            <a:xfrm>
              <a:off x="4525200" y="3824640"/>
              <a:ext cx="164880" cy="360"/>
            </a:xfrm>
            <a:custGeom>
              <a:avLst/>
              <a:gdLst/>
              <a:ahLst/>
              <a:rect l="l" t="t" r="r" b="b"/>
              <a:pathLst>
                <a:path fill="none" w="5359" h="1">
                  <a:moveTo>
                    <a:pt x="0" y="0"/>
                  </a:moveTo>
                  <a:lnTo>
                    <a:pt x="5358" y="0"/>
                  </a:lnTo>
                </a:path>
              </a:pathLst>
            </a:custGeom>
            <a:noFill/>
            <a:ln cap="rnd" w="12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90720" bIns="-90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1146" name="Google Shape;565;p43"/>
            <p:cNvSpPr/>
            <p:nvPr/>
          </p:nvSpPr>
          <p:spPr>
            <a:xfrm>
              <a:off x="4525200" y="3866040"/>
              <a:ext cx="164880" cy="360"/>
            </a:xfrm>
            <a:custGeom>
              <a:avLst/>
              <a:gdLst/>
              <a:ahLst/>
              <a:rect l="l" t="t" r="r" b="b"/>
              <a:pathLst>
                <a:path fill="none" w="5359" h="1">
                  <a:moveTo>
                    <a:pt x="0" y="0"/>
                  </a:moveTo>
                  <a:lnTo>
                    <a:pt x="5358" y="0"/>
                  </a:lnTo>
                </a:path>
              </a:pathLst>
            </a:custGeom>
            <a:noFill/>
            <a:ln cap="rnd" w="12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90720" bIns="-90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1147" name="Google Shape;566;p43"/>
            <p:cNvSpPr/>
            <p:nvPr/>
          </p:nvSpPr>
          <p:spPr>
            <a:xfrm>
              <a:off x="4525200" y="3907440"/>
              <a:ext cx="104760" cy="360"/>
            </a:xfrm>
            <a:custGeom>
              <a:avLst/>
              <a:gdLst/>
              <a:ahLst/>
              <a:rect l="l" t="t" r="r" b="b"/>
              <a:pathLst>
                <a:path fill="none" w="3410" h="1">
                  <a:moveTo>
                    <a:pt x="0" y="0"/>
                  </a:moveTo>
                  <a:lnTo>
                    <a:pt x="3410" y="0"/>
                  </a:lnTo>
                </a:path>
              </a:pathLst>
            </a:custGeom>
            <a:noFill/>
            <a:ln cap="rnd" w="12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90720" bIns="-90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grpSp>
        <p:nvGrpSpPr>
          <p:cNvPr id="1148" name="Группа 65"/>
          <p:cNvGrpSpPr/>
          <p:nvPr/>
        </p:nvGrpSpPr>
        <p:grpSpPr>
          <a:xfrm>
            <a:off x="5305320" y="1104840"/>
            <a:ext cx="916200" cy="835200"/>
            <a:chOff x="5305320" y="1104840"/>
            <a:chExt cx="916200" cy="835200"/>
          </a:xfrm>
        </p:grpSpPr>
        <p:sp>
          <p:nvSpPr>
            <p:cNvPr id="1149" name="Прямоугольник 23"/>
            <p:cNvSpPr/>
            <p:nvPr/>
          </p:nvSpPr>
          <p:spPr>
            <a:xfrm>
              <a:off x="5305320" y="1104840"/>
              <a:ext cx="916200" cy="835200"/>
            </a:xfrm>
            <a:prstGeom prst="rect">
              <a:avLst/>
            </a:prstGeom>
            <a:solidFill>
              <a:srgbClr val="264796"/>
            </a:solidFill>
            <a:ln w="0">
              <a:noFill/>
            </a:ln>
            <a:effectLst>
              <a:outerShdw dist="19080" dir="5400000" blurRad="0" rotWithShape="0">
                <a:srgbClr val="000000">
                  <a:alpha val="6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grpSp>
          <p:nvGrpSpPr>
            <p:cNvPr id="1150" name="Google Shape;732;p43"/>
            <p:cNvGrpSpPr/>
            <p:nvPr/>
          </p:nvGrpSpPr>
          <p:grpSpPr>
            <a:xfrm>
              <a:off x="5464080" y="1296360"/>
              <a:ext cx="609480" cy="502920"/>
              <a:chOff x="5464080" y="1296360"/>
              <a:chExt cx="609480" cy="502920"/>
            </a:xfrm>
          </p:grpSpPr>
          <p:sp>
            <p:nvSpPr>
              <p:cNvPr id="1151" name="Google Shape;733;p43"/>
              <p:cNvSpPr/>
              <p:nvPr/>
            </p:nvSpPr>
            <p:spPr>
              <a:xfrm>
                <a:off x="5963760" y="1731240"/>
                <a:ext cx="85320" cy="68040"/>
              </a:xfrm>
              <a:custGeom>
                <a:avLst/>
                <a:gdLst/>
                <a:ahLst/>
                <a:rect l="l" t="t" r="r" b="b"/>
                <a:pathLst>
                  <a:path fill="none" w="2631" h="2096">
                    <a:moveTo>
                      <a:pt x="1" y="1"/>
                    </a:moveTo>
                    <a:lnTo>
                      <a:pt x="1" y="780"/>
                    </a:lnTo>
                    <a:lnTo>
                      <a:pt x="25" y="1048"/>
                    </a:lnTo>
                    <a:lnTo>
                      <a:pt x="122" y="1291"/>
                    </a:lnTo>
                    <a:lnTo>
                      <a:pt x="244" y="1511"/>
                    </a:lnTo>
                    <a:lnTo>
                      <a:pt x="390" y="1705"/>
                    </a:lnTo>
                    <a:lnTo>
                      <a:pt x="585" y="1852"/>
                    </a:lnTo>
                    <a:lnTo>
                      <a:pt x="804" y="1973"/>
                    </a:lnTo>
                    <a:lnTo>
                      <a:pt x="1048" y="2071"/>
                    </a:lnTo>
                    <a:lnTo>
                      <a:pt x="1316" y="2095"/>
                    </a:lnTo>
                    <a:lnTo>
                      <a:pt x="1584" y="2071"/>
                    </a:lnTo>
                    <a:lnTo>
                      <a:pt x="1827" y="1973"/>
                    </a:lnTo>
                    <a:lnTo>
                      <a:pt x="2046" y="1852"/>
                    </a:lnTo>
                    <a:lnTo>
                      <a:pt x="2241" y="1705"/>
                    </a:lnTo>
                    <a:lnTo>
                      <a:pt x="2412" y="1511"/>
                    </a:lnTo>
                    <a:lnTo>
                      <a:pt x="2533" y="1291"/>
                    </a:lnTo>
                    <a:lnTo>
                      <a:pt x="2607" y="1048"/>
                    </a:lnTo>
                    <a:lnTo>
                      <a:pt x="2631" y="780"/>
                    </a:lnTo>
                    <a:lnTo>
                      <a:pt x="2631" y="1"/>
                    </a:lnTo>
                  </a:path>
                </a:pathLst>
              </a:custGeom>
              <a:noFill/>
              <a:ln cap="rnd" w="12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-23040" bIns="-23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  <p:sp>
            <p:nvSpPr>
              <p:cNvPr id="1152" name="Google Shape;734;p43"/>
              <p:cNvSpPr/>
              <p:nvPr/>
            </p:nvSpPr>
            <p:spPr>
              <a:xfrm>
                <a:off x="5488560" y="1731240"/>
                <a:ext cx="85320" cy="68040"/>
              </a:xfrm>
              <a:custGeom>
                <a:avLst/>
                <a:gdLst/>
                <a:ahLst/>
                <a:rect l="l" t="t" r="r" b="b"/>
                <a:pathLst>
                  <a:path fill="none" w="2631" h="2096">
                    <a:moveTo>
                      <a:pt x="1" y="1"/>
                    </a:moveTo>
                    <a:lnTo>
                      <a:pt x="1" y="780"/>
                    </a:lnTo>
                    <a:lnTo>
                      <a:pt x="25" y="1048"/>
                    </a:lnTo>
                    <a:lnTo>
                      <a:pt x="98" y="1291"/>
                    </a:lnTo>
                    <a:lnTo>
                      <a:pt x="220" y="1511"/>
                    </a:lnTo>
                    <a:lnTo>
                      <a:pt x="390" y="1705"/>
                    </a:lnTo>
                    <a:lnTo>
                      <a:pt x="585" y="1852"/>
                    </a:lnTo>
                    <a:lnTo>
                      <a:pt x="804" y="1973"/>
                    </a:lnTo>
                    <a:lnTo>
                      <a:pt x="1048" y="2071"/>
                    </a:lnTo>
                    <a:lnTo>
                      <a:pt x="1316" y="2095"/>
                    </a:lnTo>
                    <a:lnTo>
                      <a:pt x="1584" y="2071"/>
                    </a:lnTo>
                    <a:lnTo>
                      <a:pt x="1827" y="1973"/>
                    </a:lnTo>
                    <a:lnTo>
                      <a:pt x="2046" y="1852"/>
                    </a:lnTo>
                    <a:lnTo>
                      <a:pt x="2241" y="1705"/>
                    </a:lnTo>
                    <a:lnTo>
                      <a:pt x="2387" y="1511"/>
                    </a:lnTo>
                    <a:lnTo>
                      <a:pt x="2509" y="1291"/>
                    </a:lnTo>
                    <a:lnTo>
                      <a:pt x="2607" y="1048"/>
                    </a:lnTo>
                    <a:lnTo>
                      <a:pt x="2631" y="780"/>
                    </a:lnTo>
                    <a:lnTo>
                      <a:pt x="2631" y="1"/>
                    </a:lnTo>
                  </a:path>
                </a:pathLst>
              </a:custGeom>
              <a:noFill/>
              <a:ln cap="rnd" w="12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-23040" bIns="-23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  <p:sp>
            <p:nvSpPr>
              <p:cNvPr id="1153" name="Google Shape;735;p43"/>
              <p:cNvSpPr/>
              <p:nvPr/>
            </p:nvSpPr>
            <p:spPr>
              <a:xfrm>
                <a:off x="5464080" y="1296360"/>
                <a:ext cx="609480" cy="432720"/>
              </a:xfrm>
              <a:custGeom>
                <a:avLst/>
                <a:gdLst/>
                <a:ahLst/>
                <a:rect l="l" t="t" r="r" b="b"/>
                <a:pathLst>
                  <a:path fill="none" w="18754" h="13323">
                    <a:moveTo>
                      <a:pt x="18754" y="5553"/>
                    </a:moveTo>
                    <a:lnTo>
                      <a:pt x="18754" y="5553"/>
                    </a:lnTo>
                    <a:lnTo>
                      <a:pt x="18730" y="5334"/>
                    </a:lnTo>
                    <a:lnTo>
                      <a:pt x="18681" y="5091"/>
                    </a:lnTo>
                    <a:lnTo>
                      <a:pt x="18583" y="4847"/>
                    </a:lnTo>
                    <a:lnTo>
                      <a:pt x="18462" y="4628"/>
                    </a:lnTo>
                    <a:lnTo>
                      <a:pt x="18291" y="4433"/>
                    </a:lnTo>
                    <a:lnTo>
                      <a:pt x="18121" y="4287"/>
                    </a:lnTo>
                    <a:lnTo>
                      <a:pt x="18023" y="4214"/>
                    </a:lnTo>
                    <a:lnTo>
                      <a:pt x="17926" y="4165"/>
                    </a:lnTo>
                    <a:lnTo>
                      <a:pt x="17828" y="4141"/>
                    </a:lnTo>
                    <a:lnTo>
                      <a:pt x="17731" y="4141"/>
                    </a:lnTo>
                    <a:lnTo>
                      <a:pt x="16489" y="4141"/>
                    </a:lnTo>
                    <a:lnTo>
                      <a:pt x="15588" y="1803"/>
                    </a:lnTo>
                    <a:lnTo>
                      <a:pt x="15490" y="1583"/>
                    </a:lnTo>
                    <a:lnTo>
                      <a:pt x="15344" y="1364"/>
                    </a:lnTo>
                    <a:lnTo>
                      <a:pt x="15174" y="1169"/>
                    </a:lnTo>
                    <a:lnTo>
                      <a:pt x="15003" y="975"/>
                    </a:lnTo>
                    <a:lnTo>
                      <a:pt x="14784" y="804"/>
                    </a:lnTo>
                    <a:lnTo>
                      <a:pt x="14565" y="658"/>
                    </a:lnTo>
                    <a:lnTo>
                      <a:pt x="14346" y="536"/>
                    </a:lnTo>
                    <a:lnTo>
                      <a:pt x="14102" y="439"/>
                    </a:lnTo>
                    <a:lnTo>
                      <a:pt x="13810" y="390"/>
                    </a:lnTo>
                    <a:lnTo>
                      <a:pt x="13444" y="317"/>
                    </a:lnTo>
                    <a:lnTo>
                      <a:pt x="12933" y="220"/>
                    </a:lnTo>
                    <a:lnTo>
                      <a:pt x="12275" y="147"/>
                    </a:lnTo>
                    <a:lnTo>
                      <a:pt x="11472" y="73"/>
                    </a:lnTo>
                    <a:lnTo>
                      <a:pt x="10498" y="25"/>
                    </a:lnTo>
                    <a:lnTo>
                      <a:pt x="9377" y="0"/>
                    </a:lnTo>
                    <a:lnTo>
                      <a:pt x="8257" y="25"/>
                    </a:lnTo>
                    <a:lnTo>
                      <a:pt x="7283" y="73"/>
                    </a:lnTo>
                    <a:lnTo>
                      <a:pt x="6479" y="147"/>
                    </a:lnTo>
                    <a:lnTo>
                      <a:pt x="5821" y="220"/>
                    </a:lnTo>
                    <a:lnTo>
                      <a:pt x="5310" y="317"/>
                    </a:lnTo>
                    <a:lnTo>
                      <a:pt x="4945" y="390"/>
                    </a:lnTo>
                    <a:lnTo>
                      <a:pt x="4652" y="439"/>
                    </a:lnTo>
                    <a:lnTo>
                      <a:pt x="4409" y="536"/>
                    </a:lnTo>
                    <a:lnTo>
                      <a:pt x="4190" y="658"/>
                    </a:lnTo>
                    <a:lnTo>
                      <a:pt x="3970" y="804"/>
                    </a:lnTo>
                    <a:lnTo>
                      <a:pt x="3751" y="975"/>
                    </a:lnTo>
                    <a:lnTo>
                      <a:pt x="3581" y="1169"/>
                    </a:lnTo>
                    <a:lnTo>
                      <a:pt x="3410" y="1364"/>
                    </a:lnTo>
                    <a:lnTo>
                      <a:pt x="3264" y="1583"/>
                    </a:lnTo>
                    <a:lnTo>
                      <a:pt x="3167" y="1803"/>
                    </a:lnTo>
                    <a:lnTo>
                      <a:pt x="2266" y="4141"/>
                    </a:lnTo>
                    <a:lnTo>
                      <a:pt x="1023" y="4141"/>
                    </a:lnTo>
                    <a:lnTo>
                      <a:pt x="926" y="4141"/>
                    </a:lnTo>
                    <a:lnTo>
                      <a:pt x="829" y="4165"/>
                    </a:lnTo>
                    <a:lnTo>
                      <a:pt x="731" y="4214"/>
                    </a:lnTo>
                    <a:lnTo>
                      <a:pt x="634" y="4287"/>
                    </a:lnTo>
                    <a:lnTo>
                      <a:pt x="463" y="4433"/>
                    </a:lnTo>
                    <a:lnTo>
                      <a:pt x="293" y="4628"/>
                    </a:lnTo>
                    <a:lnTo>
                      <a:pt x="171" y="4847"/>
                    </a:lnTo>
                    <a:lnTo>
                      <a:pt x="74" y="5091"/>
                    </a:lnTo>
                    <a:lnTo>
                      <a:pt x="25" y="5334"/>
                    </a:lnTo>
                    <a:lnTo>
                      <a:pt x="1" y="5553"/>
                    </a:lnTo>
                    <a:lnTo>
                      <a:pt x="25" y="5748"/>
                    </a:lnTo>
                    <a:lnTo>
                      <a:pt x="74" y="5894"/>
                    </a:lnTo>
                    <a:lnTo>
                      <a:pt x="171" y="6016"/>
                    </a:lnTo>
                    <a:lnTo>
                      <a:pt x="293" y="6089"/>
                    </a:lnTo>
                    <a:lnTo>
                      <a:pt x="463" y="6138"/>
                    </a:lnTo>
                    <a:lnTo>
                      <a:pt x="634" y="6187"/>
                    </a:lnTo>
                    <a:lnTo>
                      <a:pt x="1023" y="6187"/>
                    </a:lnTo>
                    <a:lnTo>
                      <a:pt x="1462" y="6187"/>
                    </a:lnTo>
                    <a:lnTo>
                      <a:pt x="1145" y="7015"/>
                    </a:lnTo>
                    <a:lnTo>
                      <a:pt x="999" y="7526"/>
                    </a:lnTo>
                    <a:lnTo>
                      <a:pt x="877" y="8086"/>
                    </a:lnTo>
                    <a:lnTo>
                      <a:pt x="780" y="8671"/>
                    </a:lnTo>
                    <a:lnTo>
                      <a:pt x="756" y="9207"/>
                    </a:lnTo>
                    <a:lnTo>
                      <a:pt x="756" y="13323"/>
                    </a:lnTo>
                    <a:lnTo>
                      <a:pt x="17999" y="13323"/>
                    </a:lnTo>
                    <a:lnTo>
                      <a:pt x="17999" y="9207"/>
                    </a:lnTo>
                    <a:lnTo>
                      <a:pt x="17975" y="8671"/>
                    </a:lnTo>
                    <a:lnTo>
                      <a:pt x="17877" y="8086"/>
                    </a:lnTo>
                    <a:lnTo>
                      <a:pt x="17755" y="7526"/>
                    </a:lnTo>
                    <a:lnTo>
                      <a:pt x="17609" y="7015"/>
                    </a:lnTo>
                    <a:lnTo>
                      <a:pt x="17293" y="6187"/>
                    </a:lnTo>
                    <a:lnTo>
                      <a:pt x="17731" y="6187"/>
                    </a:lnTo>
                    <a:lnTo>
                      <a:pt x="18121" y="6187"/>
                    </a:lnTo>
                    <a:lnTo>
                      <a:pt x="18291" y="6138"/>
                    </a:lnTo>
                    <a:lnTo>
                      <a:pt x="18462" y="6089"/>
                    </a:lnTo>
                    <a:lnTo>
                      <a:pt x="18583" y="6016"/>
                    </a:lnTo>
                    <a:lnTo>
                      <a:pt x="18681" y="5894"/>
                    </a:lnTo>
                    <a:lnTo>
                      <a:pt x="18730" y="5748"/>
                    </a:lnTo>
                    <a:lnTo>
                      <a:pt x="18754" y="5553"/>
                    </a:lnTo>
                  </a:path>
                </a:pathLst>
              </a:custGeom>
              <a:noFill/>
              <a:ln cap="rnd" w="12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91080" bIns="91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  <p:sp>
            <p:nvSpPr>
              <p:cNvPr id="1154" name="Google Shape;736;p43"/>
              <p:cNvSpPr/>
              <p:nvPr/>
            </p:nvSpPr>
            <p:spPr>
              <a:xfrm>
                <a:off x="5571720" y="1339560"/>
                <a:ext cx="394200" cy="194400"/>
              </a:xfrm>
              <a:custGeom>
                <a:avLst/>
                <a:gdLst/>
                <a:ahLst/>
                <a:rect l="l" t="t" r="r" b="b"/>
                <a:pathLst>
                  <a:path fill="none" w="12130" h="5993">
                    <a:moveTo>
                      <a:pt x="1" y="4628"/>
                    </a:moveTo>
                    <a:lnTo>
                      <a:pt x="1" y="4628"/>
                    </a:lnTo>
                    <a:lnTo>
                      <a:pt x="171" y="4019"/>
                    </a:lnTo>
                    <a:lnTo>
                      <a:pt x="585" y="2656"/>
                    </a:lnTo>
                    <a:lnTo>
                      <a:pt x="805" y="1925"/>
                    </a:lnTo>
                    <a:lnTo>
                      <a:pt x="1024" y="1292"/>
                    </a:lnTo>
                    <a:lnTo>
                      <a:pt x="1194" y="829"/>
                    </a:lnTo>
                    <a:lnTo>
                      <a:pt x="1267" y="707"/>
                    </a:lnTo>
                    <a:lnTo>
                      <a:pt x="1316" y="658"/>
                    </a:lnTo>
                    <a:lnTo>
                      <a:pt x="1535" y="561"/>
                    </a:lnTo>
                    <a:lnTo>
                      <a:pt x="1852" y="464"/>
                    </a:lnTo>
                    <a:lnTo>
                      <a:pt x="2315" y="342"/>
                    </a:lnTo>
                    <a:lnTo>
                      <a:pt x="2948" y="220"/>
                    </a:lnTo>
                    <a:lnTo>
                      <a:pt x="3776" y="98"/>
                    </a:lnTo>
                    <a:lnTo>
                      <a:pt x="4799" y="25"/>
                    </a:lnTo>
                    <a:lnTo>
                      <a:pt x="5408" y="1"/>
                    </a:lnTo>
                    <a:lnTo>
                      <a:pt x="6065" y="1"/>
                    </a:lnTo>
                    <a:lnTo>
                      <a:pt x="6723" y="1"/>
                    </a:lnTo>
                    <a:lnTo>
                      <a:pt x="7332" y="25"/>
                    </a:lnTo>
                    <a:lnTo>
                      <a:pt x="8355" y="98"/>
                    </a:lnTo>
                    <a:lnTo>
                      <a:pt x="9183" y="220"/>
                    </a:lnTo>
                    <a:lnTo>
                      <a:pt x="9816" y="342"/>
                    </a:lnTo>
                    <a:lnTo>
                      <a:pt x="10279" y="464"/>
                    </a:lnTo>
                    <a:lnTo>
                      <a:pt x="10595" y="561"/>
                    </a:lnTo>
                    <a:lnTo>
                      <a:pt x="10814" y="658"/>
                    </a:lnTo>
                    <a:lnTo>
                      <a:pt x="10863" y="707"/>
                    </a:lnTo>
                    <a:lnTo>
                      <a:pt x="10936" y="829"/>
                    </a:lnTo>
                    <a:lnTo>
                      <a:pt x="11107" y="1292"/>
                    </a:lnTo>
                    <a:lnTo>
                      <a:pt x="11326" y="1925"/>
                    </a:lnTo>
                    <a:lnTo>
                      <a:pt x="11545" y="2656"/>
                    </a:lnTo>
                    <a:lnTo>
                      <a:pt x="11959" y="4019"/>
                    </a:lnTo>
                    <a:lnTo>
                      <a:pt x="12130" y="4628"/>
                    </a:lnTo>
                    <a:lnTo>
                      <a:pt x="12105" y="4677"/>
                    </a:lnTo>
                    <a:lnTo>
                      <a:pt x="12057" y="4750"/>
                    </a:lnTo>
                    <a:lnTo>
                      <a:pt x="11959" y="4823"/>
                    </a:lnTo>
                    <a:lnTo>
                      <a:pt x="11813" y="4921"/>
                    </a:lnTo>
                    <a:lnTo>
                      <a:pt x="11618" y="5042"/>
                    </a:lnTo>
                    <a:lnTo>
                      <a:pt x="11375" y="5164"/>
                    </a:lnTo>
                    <a:lnTo>
                      <a:pt x="11058" y="5262"/>
                    </a:lnTo>
                    <a:lnTo>
                      <a:pt x="10717" y="5383"/>
                    </a:lnTo>
                    <a:lnTo>
                      <a:pt x="10327" y="5505"/>
                    </a:lnTo>
                    <a:lnTo>
                      <a:pt x="9865" y="5627"/>
                    </a:lnTo>
                    <a:lnTo>
                      <a:pt x="9377" y="5724"/>
                    </a:lnTo>
                    <a:lnTo>
                      <a:pt x="8817" y="5822"/>
                    </a:lnTo>
                    <a:lnTo>
                      <a:pt x="8208" y="5895"/>
                    </a:lnTo>
                    <a:lnTo>
                      <a:pt x="7551" y="5944"/>
                    </a:lnTo>
                    <a:lnTo>
                      <a:pt x="6845" y="5992"/>
                    </a:lnTo>
                    <a:lnTo>
                      <a:pt x="6065" y="5992"/>
                    </a:lnTo>
                    <a:lnTo>
                      <a:pt x="5286" y="5992"/>
                    </a:lnTo>
                    <a:lnTo>
                      <a:pt x="4580" y="5944"/>
                    </a:lnTo>
                    <a:lnTo>
                      <a:pt x="3922" y="5895"/>
                    </a:lnTo>
                    <a:lnTo>
                      <a:pt x="3313" y="5822"/>
                    </a:lnTo>
                    <a:lnTo>
                      <a:pt x="2753" y="5724"/>
                    </a:lnTo>
                    <a:lnTo>
                      <a:pt x="2266" y="5627"/>
                    </a:lnTo>
                    <a:lnTo>
                      <a:pt x="1803" y="5505"/>
                    </a:lnTo>
                    <a:lnTo>
                      <a:pt x="1413" y="5383"/>
                    </a:lnTo>
                    <a:lnTo>
                      <a:pt x="1072" y="5262"/>
                    </a:lnTo>
                    <a:lnTo>
                      <a:pt x="756" y="5164"/>
                    </a:lnTo>
                    <a:lnTo>
                      <a:pt x="512" y="5042"/>
                    </a:lnTo>
                    <a:lnTo>
                      <a:pt x="317" y="4921"/>
                    </a:lnTo>
                    <a:lnTo>
                      <a:pt x="171" y="4823"/>
                    </a:lnTo>
                    <a:lnTo>
                      <a:pt x="74" y="4750"/>
                    </a:lnTo>
                    <a:lnTo>
                      <a:pt x="25" y="4677"/>
                    </a:lnTo>
                    <a:lnTo>
                      <a:pt x="1" y="4628"/>
                    </a:lnTo>
                  </a:path>
                </a:pathLst>
              </a:custGeom>
              <a:noFill/>
              <a:ln cap="rnd" w="12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91080" bIns="91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  <p:sp>
            <p:nvSpPr>
              <p:cNvPr id="1155" name="Google Shape;737;p43"/>
              <p:cNvSpPr/>
              <p:nvPr/>
            </p:nvSpPr>
            <p:spPr>
              <a:xfrm>
                <a:off x="5540040" y="1591200"/>
                <a:ext cx="105120" cy="84600"/>
              </a:xfrm>
              <a:custGeom>
                <a:avLst/>
                <a:gdLst/>
                <a:ahLst/>
                <a:rect l="l" t="t" r="r" b="b"/>
                <a:pathLst>
                  <a:path fill="none" w="3240" h="2607">
                    <a:moveTo>
                      <a:pt x="1632" y="2607"/>
                    </a:moveTo>
                    <a:lnTo>
                      <a:pt x="1632" y="2607"/>
                    </a:lnTo>
                    <a:lnTo>
                      <a:pt x="1291" y="2582"/>
                    </a:lnTo>
                    <a:lnTo>
                      <a:pt x="999" y="2509"/>
                    </a:lnTo>
                    <a:lnTo>
                      <a:pt x="731" y="2388"/>
                    </a:lnTo>
                    <a:lnTo>
                      <a:pt x="488" y="2217"/>
                    </a:lnTo>
                    <a:lnTo>
                      <a:pt x="293" y="2047"/>
                    </a:lnTo>
                    <a:lnTo>
                      <a:pt x="122" y="1803"/>
                    </a:lnTo>
                    <a:lnTo>
                      <a:pt x="74" y="1706"/>
                    </a:lnTo>
                    <a:lnTo>
                      <a:pt x="49" y="1559"/>
                    </a:lnTo>
                    <a:lnTo>
                      <a:pt x="25" y="1438"/>
                    </a:lnTo>
                    <a:lnTo>
                      <a:pt x="1" y="1316"/>
                    </a:lnTo>
                    <a:lnTo>
                      <a:pt x="25" y="1170"/>
                    </a:lnTo>
                    <a:lnTo>
                      <a:pt x="49" y="1048"/>
                    </a:lnTo>
                    <a:lnTo>
                      <a:pt x="74" y="926"/>
                    </a:lnTo>
                    <a:lnTo>
                      <a:pt x="122" y="804"/>
                    </a:lnTo>
                    <a:lnTo>
                      <a:pt x="293" y="585"/>
                    </a:lnTo>
                    <a:lnTo>
                      <a:pt x="488" y="390"/>
                    </a:lnTo>
                    <a:lnTo>
                      <a:pt x="731" y="220"/>
                    </a:lnTo>
                    <a:lnTo>
                      <a:pt x="999" y="98"/>
                    </a:lnTo>
                    <a:lnTo>
                      <a:pt x="1291" y="25"/>
                    </a:lnTo>
                    <a:lnTo>
                      <a:pt x="1632" y="1"/>
                    </a:lnTo>
                    <a:lnTo>
                      <a:pt x="1803" y="1"/>
                    </a:lnTo>
                    <a:lnTo>
                      <a:pt x="1949" y="49"/>
                    </a:lnTo>
                    <a:lnTo>
                      <a:pt x="2120" y="98"/>
                    </a:lnTo>
                    <a:lnTo>
                      <a:pt x="2266" y="171"/>
                    </a:lnTo>
                    <a:lnTo>
                      <a:pt x="2412" y="269"/>
                    </a:lnTo>
                    <a:lnTo>
                      <a:pt x="2534" y="390"/>
                    </a:lnTo>
                    <a:lnTo>
                      <a:pt x="2777" y="634"/>
                    </a:lnTo>
                    <a:lnTo>
                      <a:pt x="2972" y="926"/>
                    </a:lnTo>
                    <a:lnTo>
                      <a:pt x="3118" y="1219"/>
                    </a:lnTo>
                    <a:lnTo>
                      <a:pt x="3215" y="1535"/>
                    </a:lnTo>
                    <a:lnTo>
                      <a:pt x="3240" y="1681"/>
                    </a:lnTo>
                    <a:lnTo>
                      <a:pt x="3240" y="1803"/>
                    </a:lnTo>
                    <a:lnTo>
                      <a:pt x="3240" y="1949"/>
                    </a:lnTo>
                    <a:lnTo>
                      <a:pt x="3215" y="2047"/>
                    </a:lnTo>
                    <a:lnTo>
                      <a:pt x="3167" y="2144"/>
                    </a:lnTo>
                    <a:lnTo>
                      <a:pt x="3118" y="2241"/>
                    </a:lnTo>
                    <a:lnTo>
                      <a:pt x="3045" y="2314"/>
                    </a:lnTo>
                    <a:lnTo>
                      <a:pt x="2972" y="2388"/>
                    </a:lnTo>
                    <a:lnTo>
                      <a:pt x="2777" y="2485"/>
                    </a:lnTo>
                    <a:lnTo>
                      <a:pt x="2534" y="2558"/>
                    </a:lnTo>
                    <a:lnTo>
                      <a:pt x="2266" y="2582"/>
                    </a:lnTo>
                    <a:lnTo>
                      <a:pt x="1949" y="2607"/>
                    </a:lnTo>
                    <a:lnTo>
                      <a:pt x="1632" y="2607"/>
                    </a:lnTo>
                  </a:path>
                </a:pathLst>
              </a:custGeom>
              <a:noFill/>
              <a:ln cap="rnd" w="12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-6480" bIns="-6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  <p:sp>
            <p:nvSpPr>
              <p:cNvPr id="1156" name="Google Shape;738;p43"/>
              <p:cNvSpPr/>
              <p:nvPr/>
            </p:nvSpPr>
            <p:spPr>
              <a:xfrm>
                <a:off x="5696640" y="1652400"/>
                <a:ext cx="144000" cy="360"/>
              </a:xfrm>
              <a:custGeom>
                <a:avLst/>
                <a:gdLst/>
                <a:ahLst/>
                <a:rect l="l" t="t" r="r" b="b"/>
                <a:pathLst>
                  <a:path fill="none" w="4434" h="1">
                    <a:moveTo>
                      <a:pt x="1" y="0"/>
                    </a:moveTo>
                    <a:lnTo>
                      <a:pt x="4434" y="0"/>
                    </a:lnTo>
                  </a:path>
                </a:pathLst>
              </a:custGeom>
              <a:noFill/>
              <a:ln cap="rnd" w="12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-90720" bIns="-90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  <p:sp>
            <p:nvSpPr>
              <p:cNvPr id="1157" name="Google Shape;739;p43"/>
              <p:cNvSpPr/>
              <p:nvPr/>
            </p:nvSpPr>
            <p:spPr>
              <a:xfrm>
                <a:off x="5687280" y="1617480"/>
                <a:ext cx="163080" cy="360"/>
              </a:xfrm>
              <a:custGeom>
                <a:avLst/>
                <a:gdLst/>
                <a:ahLst/>
                <a:rect l="l" t="t" r="r" b="b"/>
                <a:pathLst>
                  <a:path fill="none" w="5018" h="1">
                    <a:moveTo>
                      <a:pt x="1" y="0"/>
                    </a:moveTo>
                    <a:lnTo>
                      <a:pt x="5018" y="0"/>
                    </a:lnTo>
                  </a:path>
                </a:pathLst>
              </a:custGeom>
              <a:noFill/>
              <a:ln cap="rnd" w="12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-90720" bIns="-90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  <p:sp>
            <p:nvSpPr>
              <p:cNvPr id="1158" name="Google Shape;740;p43"/>
              <p:cNvSpPr/>
              <p:nvPr/>
            </p:nvSpPr>
            <p:spPr>
              <a:xfrm>
                <a:off x="5892480" y="1591200"/>
                <a:ext cx="105120" cy="84600"/>
              </a:xfrm>
              <a:custGeom>
                <a:avLst/>
                <a:gdLst/>
                <a:ahLst/>
                <a:rect l="l" t="t" r="r" b="b"/>
                <a:pathLst>
                  <a:path fill="none" w="3240" h="2607">
                    <a:moveTo>
                      <a:pt x="1608" y="2607"/>
                    </a:moveTo>
                    <a:lnTo>
                      <a:pt x="1608" y="2607"/>
                    </a:lnTo>
                    <a:lnTo>
                      <a:pt x="1291" y="2607"/>
                    </a:lnTo>
                    <a:lnTo>
                      <a:pt x="975" y="2582"/>
                    </a:lnTo>
                    <a:lnTo>
                      <a:pt x="707" y="2558"/>
                    </a:lnTo>
                    <a:lnTo>
                      <a:pt x="463" y="2485"/>
                    </a:lnTo>
                    <a:lnTo>
                      <a:pt x="268" y="2388"/>
                    </a:lnTo>
                    <a:lnTo>
                      <a:pt x="195" y="2314"/>
                    </a:lnTo>
                    <a:lnTo>
                      <a:pt x="122" y="2241"/>
                    </a:lnTo>
                    <a:lnTo>
                      <a:pt x="74" y="2144"/>
                    </a:lnTo>
                    <a:lnTo>
                      <a:pt x="25" y="2047"/>
                    </a:lnTo>
                    <a:lnTo>
                      <a:pt x="1" y="1949"/>
                    </a:lnTo>
                    <a:lnTo>
                      <a:pt x="1" y="1803"/>
                    </a:lnTo>
                    <a:lnTo>
                      <a:pt x="1" y="1681"/>
                    </a:lnTo>
                    <a:lnTo>
                      <a:pt x="25" y="1535"/>
                    </a:lnTo>
                    <a:lnTo>
                      <a:pt x="122" y="1219"/>
                    </a:lnTo>
                    <a:lnTo>
                      <a:pt x="268" y="926"/>
                    </a:lnTo>
                    <a:lnTo>
                      <a:pt x="463" y="634"/>
                    </a:lnTo>
                    <a:lnTo>
                      <a:pt x="707" y="390"/>
                    </a:lnTo>
                    <a:lnTo>
                      <a:pt x="829" y="269"/>
                    </a:lnTo>
                    <a:lnTo>
                      <a:pt x="975" y="171"/>
                    </a:lnTo>
                    <a:lnTo>
                      <a:pt x="1121" y="98"/>
                    </a:lnTo>
                    <a:lnTo>
                      <a:pt x="1291" y="49"/>
                    </a:lnTo>
                    <a:lnTo>
                      <a:pt x="1438" y="1"/>
                    </a:lnTo>
                    <a:lnTo>
                      <a:pt x="1608" y="1"/>
                    </a:lnTo>
                    <a:lnTo>
                      <a:pt x="1949" y="25"/>
                    </a:lnTo>
                    <a:lnTo>
                      <a:pt x="2241" y="98"/>
                    </a:lnTo>
                    <a:lnTo>
                      <a:pt x="2509" y="220"/>
                    </a:lnTo>
                    <a:lnTo>
                      <a:pt x="2753" y="390"/>
                    </a:lnTo>
                    <a:lnTo>
                      <a:pt x="2948" y="585"/>
                    </a:lnTo>
                    <a:lnTo>
                      <a:pt x="3118" y="804"/>
                    </a:lnTo>
                    <a:lnTo>
                      <a:pt x="3167" y="926"/>
                    </a:lnTo>
                    <a:lnTo>
                      <a:pt x="3191" y="1048"/>
                    </a:lnTo>
                    <a:lnTo>
                      <a:pt x="3215" y="1170"/>
                    </a:lnTo>
                    <a:lnTo>
                      <a:pt x="3240" y="1316"/>
                    </a:lnTo>
                    <a:lnTo>
                      <a:pt x="3215" y="1438"/>
                    </a:lnTo>
                    <a:lnTo>
                      <a:pt x="3191" y="1559"/>
                    </a:lnTo>
                    <a:lnTo>
                      <a:pt x="3167" y="1706"/>
                    </a:lnTo>
                    <a:lnTo>
                      <a:pt x="3118" y="1803"/>
                    </a:lnTo>
                    <a:lnTo>
                      <a:pt x="2948" y="2047"/>
                    </a:lnTo>
                    <a:lnTo>
                      <a:pt x="2753" y="2217"/>
                    </a:lnTo>
                    <a:lnTo>
                      <a:pt x="2509" y="2388"/>
                    </a:lnTo>
                    <a:lnTo>
                      <a:pt x="2241" y="2509"/>
                    </a:lnTo>
                    <a:lnTo>
                      <a:pt x="1949" y="2582"/>
                    </a:lnTo>
                    <a:lnTo>
                      <a:pt x="1608" y="2607"/>
                    </a:lnTo>
                  </a:path>
                </a:pathLst>
              </a:custGeom>
              <a:noFill/>
              <a:ln cap="rnd" w="12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-6480" bIns="-6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159" name="TextBox 40"/>
          <p:cNvSpPr/>
          <p:nvPr/>
        </p:nvSpPr>
        <p:spPr>
          <a:xfrm>
            <a:off x="3247920" y="4349880"/>
            <a:ext cx="27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info@chiro74.ru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60" name="TextBox 41"/>
          <p:cNvSpPr/>
          <p:nvPr/>
        </p:nvSpPr>
        <p:spPr>
          <a:xfrm>
            <a:off x="5226120" y="4356000"/>
            <a:ext cx="314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8 (351) 217 30 89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61" name="TextBox 43"/>
          <p:cNvSpPr/>
          <p:nvPr/>
        </p:nvSpPr>
        <p:spPr>
          <a:xfrm>
            <a:off x="2774880" y="2052720"/>
            <a:ext cx="6112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454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111, г. Челябинск, ул. Комсомольская, д. 20А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454087, г. Челябинск, ул. Блюхера, д. 9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454091, г. Челябинск, ул. Красноармейская, д. 88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454048, г. Челябинск, ул. Худякова, д. 20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62" name="Google Shape;59;g142ea23b5d2_0_0"/>
          <p:cNvSpPr/>
          <p:nvPr/>
        </p:nvSpPr>
        <p:spPr>
          <a:xfrm>
            <a:off x="3944880" y="4637160"/>
            <a:ext cx="36594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121680" bIns="121680" anchor="t">
            <a:spAutoFit/>
          </a:bodyPr>
          <a:p>
            <a:pPr marL="15840" algn="ctr">
              <a:lnSpc>
                <a:spcPct val="150000"/>
              </a:lnSpc>
              <a:spcBef>
                <a:spcPts val="1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03864"/>
                </a:solidFill>
                <a:latin typeface="Calibri"/>
                <a:ea typeface="Jost"/>
              </a:rPr>
              <a:t>МЫ В СОЦИАЛЬНЫХ СЕТЯХ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163" name="Группа 5"/>
          <p:cNvGrpSpPr/>
          <p:nvPr/>
        </p:nvGrpSpPr>
        <p:grpSpPr>
          <a:xfrm>
            <a:off x="6307200" y="3443400"/>
            <a:ext cx="984240" cy="903240"/>
            <a:chOff x="6307200" y="3443400"/>
            <a:chExt cx="984240" cy="903240"/>
          </a:xfrm>
        </p:grpSpPr>
        <p:sp>
          <p:nvSpPr>
            <p:cNvPr id="1164" name="Прямоугольник 53"/>
            <p:cNvSpPr/>
            <p:nvPr/>
          </p:nvSpPr>
          <p:spPr>
            <a:xfrm>
              <a:off x="6307200" y="3443400"/>
              <a:ext cx="984240" cy="903240"/>
            </a:xfrm>
            <a:prstGeom prst="rect">
              <a:avLst/>
            </a:prstGeom>
            <a:solidFill>
              <a:srgbClr val="264796"/>
            </a:solidFill>
            <a:ln w="6480">
              <a:solidFill>
                <a:srgbClr val="4472c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1165" name="Google Shape;653;p43"/>
            <p:cNvSpPr/>
            <p:nvPr/>
          </p:nvSpPr>
          <p:spPr>
            <a:xfrm>
              <a:off x="6585480" y="3562920"/>
              <a:ext cx="427320" cy="679320"/>
            </a:xfrm>
            <a:custGeom>
              <a:avLst/>
              <a:gdLst/>
              <a:ahLst/>
              <a:rect l="l" t="t" r="r" b="b"/>
              <a:pathLst>
                <a:path fill="none" w="11838" h="20508">
                  <a:moveTo>
                    <a:pt x="10547" y="1"/>
                  </a:moveTo>
                  <a:lnTo>
                    <a:pt x="1292" y="1"/>
                  </a:lnTo>
                  <a:lnTo>
                    <a:pt x="1024" y="25"/>
                  </a:lnTo>
                  <a:lnTo>
                    <a:pt x="780" y="98"/>
                  </a:lnTo>
                  <a:lnTo>
                    <a:pt x="561" y="220"/>
                  </a:lnTo>
                  <a:lnTo>
                    <a:pt x="366" y="366"/>
                  </a:lnTo>
                  <a:lnTo>
                    <a:pt x="220" y="561"/>
                  </a:lnTo>
                  <a:lnTo>
                    <a:pt x="98" y="780"/>
                  </a:lnTo>
                  <a:lnTo>
                    <a:pt x="25" y="1024"/>
                  </a:lnTo>
                  <a:lnTo>
                    <a:pt x="1" y="1292"/>
                  </a:lnTo>
                  <a:lnTo>
                    <a:pt x="1" y="19217"/>
                  </a:lnTo>
                  <a:lnTo>
                    <a:pt x="25" y="19485"/>
                  </a:lnTo>
                  <a:lnTo>
                    <a:pt x="98" y="19728"/>
                  </a:lnTo>
                  <a:lnTo>
                    <a:pt x="220" y="19948"/>
                  </a:lnTo>
                  <a:lnTo>
                    <a:pt x="366" y="20142"/>
                  </a:lnTo>
                  <a:lnTo>
                    <a:pt x="561" y="20289"/>
                  </a:lnTo>
                  <a:lnTo>
                    <a:pt x="780" y="20410"/>
                  </a:lnTo>
                  <a:lnTo>
                    <a:pt x="1024" y="20483"/>
                  </a:lnTo>
                  <a:lnTo>
                    <a:pt x="1292" y="20508"/>
                  </a:lnTo>
                  <a:lnTo>
                    <a:pt x="10547" y="20508"/>
                  </a:lnTo>
                  <a:lnTo>
                    <a:pt x="10814" y="20483"/>
                  </a:lnTo>
                  <a:lnTo>
                    <a:pt x="11058" y="20410"/>
                  </a:lnTo>
                  <a:lnTo>
                    <a:pt x="11277" y="20289"/>
                  </a:lnTo>
                  <a:lnTo>
                    <a:pt x="11472" y="20142"/>
                  </a:lnTo>
                  <a:lnTo>
                    <a:pt x="11618" y="19948"/>
                  </a:lnTo>
                  <a:lnTo>
                    <a:pt x="11740" y="19728"/>
                  </a:lnTo>
                  <a:lnTo>
                    <a:pt x="11813" y="19485"/>
                  </a:lnTo>
                  <a:lnTo>
                    <a:pt x="11837" y="19217"/>
                  </a:lnTo>
                  <a:lnTo>
                    <a:pt x="11837" y="1292"/>
                  </a:lnTo>
                  <a:lnTo>
                    <a:pt x="11813" y="1024"/>
                  </a:lnTo>
                  <a:lnTo>
                    <a:pt x="11740" y="780"/>
                  </a:lnTo>
                  <a:lnTo>
                    <a:pt x="11618" y="561"/>
                  </a:lnTo>
                  <a:lnTo>
                    <a:pt x="11472" y="366"/>
                  </a:lnTo>
                  <a:lnTo>
                    <a:pt x="11277" y="220"/>
                  </a:lnTo>
                  <a:lnTo>
                    <a:pt x="11058" y="98"/>
                  </a:lnTo>
                  <a:lnTo>
                    <a:pt x="10814" y="25"/>
                  </a:lnTo>
                  <a:lnTo>
                    <a:pt x="10547" y="1"/>
                  </a:lnTo>
                  <a:close/>
                  <a:moveTo>
                    <a:pt x="5554" y="975"/>
                  </a:moveTo>
                  <a:lnTo>
                    <a:pt x="6284" y="975"/>
                  </a:lnTo>
                  <a:lnTo>
                    <a:pt x="6406" y="999"/>
                  </a:lnTo>
                  <a:lnTo>
                    <a:pt x="6479" y="1073"/>
                  </a:lnTo>
                  <a:lnTo>
                    <a:pt x="6552" y="1146"/>
                  </a:lnTo>
                  <a:lnTo>
                    <a:pt x="6577" y="1267"/>
                  </a:lnTo>
                  <a:lnTo>
                    <a:pt x="6552" y="1365"/>
                  </a:lnTo>
                  <a:lnTo>
                    <a:pt x="6479" y="1462"/>
                  </a:lnTo>
                  <a:lnTo>
                    <a:pt x="6406" y="1511"/>
                  </a:lnTo>
                  <a:lnTo>
                    <a:pt x="6284" y="1535"/>
                  </a:lnTo>
                  <a:lnTo>
                    <a:pt x="5554" y="1535"/>
                  </a:lnTo>
                  <a:lnTo>
                    <a:pt x="5432" y="1511"/>
                  </a:lnTo>
                  <a:lnTo>
                    <a:pt x="5359" y="1462"/>
                  </a:lnTo>
                  <a:lnTo>
                    <a:pt x="5286" y="1365"/>
                  </a:lnTo>
                  <a:lnTo>
                    <a:pt x="5262" y="1267"/>
                  </a:lnTo>
                  <a:lnTo>
                    <a:pt x="5286" y="1146"/>
                  </a:lnTo>
                  <a:lnTo>
                    <a:pt x="5359" y="1073"/>
                  </a:lnTo>
                  <a:lnTo>
                    <a:pt x="5432" y="999"/>
                  </a:lnTo>
                  <a:lnTo>
                    <a:pt x="5554" y="975"/>
                  </a:lnTo>
                  <a:close/>
                  <a:moveTo>
                    <a:pt x="5919" y="19436"/>
                  </a:moveTo>
                  <a:lnTo>
                    <a:pt x="5919" y="19436"/>
                  </a:lnTo>
                  <a:lnTo>
                    <a:pt x="5749" y="19412"/>
                  </a:lnTo>
                  <a:lnTo>
                    <a:pt x="5578" y="19363"/>
                  </a:lnTo>
                  <a:lnTo>
                    <a:pt x="5432" y="19290"/>
                  </a:lnTo>
                  <a:lnTo>
                    <a:pt x="5310" y="19193"/>
                  </a:lnTo>
                  <a:lnTo>
                    <a:pt x="5213" y="19071"/>
                  </a:lnTo>
                  <a:lnTo>
                    <a:pt x="5140" y="18925"/>
                  </a:lnTo>
                  <a:lnTo>
                    <a:pt x="5091" y="18754"/>
                  </a:lnTo>
                  <a:lnTo>
                    <a:pt x="5067" y="18584"/>
                  </a:lnTo>
                  <a:lnTo>
                    <a:pt x="5091" y="18413"/>
                  </a:lnTo>
                  <a:lnTo>
                    <a:pt x="5140" y="18243"/>
                  </a:lnTo>
                  <a:lnTo>
                    <a:pt x="5213" y="18097"/>
                  </a:lnTo>
                  <a:lnTo>
                    <a:pt x="5310" y="17975"/>
                  </a:lnTo>
                  <a:lnTo>
                    <a:pt x="5432" y="17877"/>
                  </a:lnTo>
                  <a:lnTo>
                    <a:pt x="5578" y="17804"/>
                  </a:lnTo>
                  <a:lnTo>
                    <a:pt x="5749" y="17756"/>
                  </a:lnTo>
                  <a:lnTo>
                    <a:pt x="5919" y="17731"/>
                  </a:lnTo>
                  <a:lnTo>
                    <a:pt x="6090" y="17756"/>
                  </a:lnTo>
                  <a:lnTo>
                    <a:pt x="6260" y="17804"/>
                  </a:lnTo>
                  <a:lnTo>
                    <a:pt x="6406" y="17877"/>
                  </a:lnTo>
                  <a:lnTo>
                    <a:pt x="6528" y="17975"/>
                  </a:lnTo>
                  <a:lnTo>
                    <a:pt x="6625" y="18097"/>
                  </a:lnTo>
                  <a:lnTo>
                    <a:pt x="6699" y="18243"/>
                  </a:lnTo>
                  <a:lnTo>
                    <a:pt x="6747" y="18413"/>
                  </a:lnTo>
                  <a:lnTo>
                    <a:pt x="6772" y="18584"/>
                  </a:lnTo>
                  <a:lnTo>
                    <a:pt x="6747" y="18754"/>
                  </a:lnTo>
                  <a:lnTo>
                    <a:pt x="6699" y="18925"/>
                  </a:lnTo>
                  <a:lnTo>
                    <a:pt x="6625" y="19071"/>
                  </a:lnTo>
                  <a:lnTo>
                    <a:pt x="6528" y="19193"/>
                  </a:lnTo>
                  <a:lnTo>
                    <a:pt x="6406" y="19290"/>
                  </a:lnTo>
                  <a:lnTo>
                    <a:pt x="6260" y="19363"/>
                  </a:lnTo>
                  <a:lnTo>
                    <a:pt x="6090" y="19412"/>
                  </a:lnTo>
                  <a:lnTo>
                    <a:pt x="5919" y="19436"/>
                  </a:lnTo>
                  <a:close/>
                  <a:moveTo>
                    <a:pt x="10547" y="16660"/>
                  </a:moveTo>
                  <a:lnTo>
                    <a:pt x="1292" y="16660"/>
                  </a:lnTo>
                  <a:lnTo>
                    <a:pt x="1292" y="2558"/>
                  </a:lnTo>
                  <a:lnTo>
                    <a:pt x="10547" y="2558"/>
                  </a:lnTo>
                  <a:lnTo>
                    <a:pt x="10547" y="16660"/>
                  </a:lnTo>
                  <a:close/>
                </a:path>
              </a:pathLst>
            </a:custGeom>
            <a:noFill/>
            <a:ln cap="rnd" w="12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91080" bIns="91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grpSp>
        <p:nvGrpSpPr>
          <p:cNvPr id="1166" name="Группа 6"/>
          <p:cNvGrpSpPr/>
          <p:nvPr/>
        </p:nvGrpSpPr>
        <p:grpSpPr>
          <a:xfrm>
            <a:off x="2048760" y="5133960"/>
            <a:ext cx="8094960" cy="1638720"/>
            <a:chOff x="2048760" y="5133960"/>
            <a:chExt cx="8094960" cy="1638720"/>
          </a:xfrm>
        </p:grpSpPr>
        <p:pic>
          <p:nvPicPr>
            <p:cNvPr id="1167" name="Picture 2" descr="http://qrcoder.ru/code/?https%3A%2F%2Frcokio.ru%2F&amp;4&amp;0"/>
            <p:cNvPicPr/>
            <p:nvPr/>
          </p:nvPicPr>
          <p:blipFill>
            <a:blip r:embed="rId2"/>
            <a:stretch/>
          </p:blipFill>
          <p:spPr>
            <a:xfrm>
              <a:off x="2153160" y="5217480"/>
              <a:ext cx="1267200" cy="126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8" name="TextBox 1"/>
            <p:cNvSpPr/>
            <p:nvPr/>
          </p:nvSpPr>
          <p:spPr>
            <a:xfrm>
              <a:off x="2048760" y="6483240"/>
              <a:ext cx="1476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Calibri"/>
                </a:rPr>
                <a:t>сайт ГБУ ДПО ЧИРО</a:t>
              </a:r>
              <a:endParaRPr b="0" lang="en-US" sz="12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1169" name="TextBox 49"/>
            <p:cNvSpPr/>
            <p:nvPr/>
          </p:nvSpPr>
          <p:spPr>
            <a:xfrm>
              <a:off x="4250520" y="6483240"/>
              <a:ext cx="1244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Calibri"/>
                </a:rPr>
                <a:t>Телеграм-канал</a:t>
              </a:r>
              <a:endParaRPr b="0" lang="en-US" sz="12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1170" name="TextBox 50"/>
            <p:cNvSpPr/>
            <p:nvPr/>
          </p:nvSpPr>
          <p:spPr>
            <a:xfrm>
              <a:off x="6061320" y="6483240"/>
              <a:ext cx="1809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Calibri"/>
                </a:rPr>
                <a:t>Сообщество в ВКонтакте</a:t>
              </a:r>
              <a:endParaRPr b="0" lang="en-US" sz="12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pic>
          <p:nvPicPr>
            <p:cNvPr id="1171" name="Рисунок 2" descr=""/>
            <p:cNvPicPr/>
            <p:nvPr/>
          </p:nvPicPr>
          <p:blipFill>
            <a:blip r:embed="rId3">
              <a:biLevel thresh="50000"/>
            </a:blip>
            <a:stretch/>
          </p:blipFill>
          <p:spPr>
            <a:xfrm>
              <a:off x="6279480" y="5133960"/>
              <a:ext cx="1374480" cy="1374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2" name="Рисунок 3" descr=""/>
            <p:cNvPicPr/>
            <p:nvPr/>
          </p:nvPicPr>
          <p:blipFill>
            <a:blip r:embed="rId4"/>
            <a:srcRect l="17901" t="3970" r="16637" b="5413"/>
            <a:stretch/>
          </p:blipFill>
          <p:spPr>
            <a:xfrm>
              <a:off x="4239720" y="5231520"/>
              <a:ext cx="1267200" cy="117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3" name="Рисунок 4" descr=""/>
            <p:cNvPicPr/>
            <p:nvPr/>
          </p:nvPicPr>
          <p:blipFill>
            <a:blip r:embed="rId5"/>
            <a:stretch/>
          </p:blipFill>
          <p:spPr>
            <a:xfrm>
              <a:off x="8339760" y="5133960"/>
              <a:ext cx="1375200" cy="137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4" name="TextBox 42"/>
            <p:cNvSpPr/>
            <p:nvPr/>
          </p:nvSpPr>
          <p:spPr>
            <a:xfrm>
              <a:off x="7910280" y="6496200"/>
              <a:ext cx="2233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Calibri"/>
                </a:rPr>
                <a:t>Сообщество в Одноклассниках</a:t>
              </a:r>
              <a:endParaRPr b="0" lang="en-US" sz="12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pic>
        <p:nvPicPr>
          <p:cNvPr id="1175" name="Рисунок 12" descr=""/>
          <p:cNvPicPr/>
          <p:nvPr/>
        </p:nvPicPr>
        <p:blipFill>
          <a:blip r:embed="rId6"/>
          <a:stretch/>
        </p:blipFill>
        <p:spPr>
          <a:xfrm>
            <a:off x="9028080" y="157320"/>
            <a:ext cx="2594160" cy="1118880"/>
          </a:xfrm>
          <a:prstGeom prst="rect">
            <a:avLst/>
          </a:prstGeom>
          <a:ln w="0">
            <a:noFill/>
          </a:ln>
        </p:spPr>
      </p:pic>
      <p:sp>
        <p:nvSpPr>
          <p:cNvPr id="1176" name="PlaceHolder 1"/>
          <p:cNvSpPr>
            <a:spLocks noGrp="1"/>
          </p:cNvSpPr>
          <p:nvPr>
            <p:ph type="dt" idx="55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77" name="PlaceHolder 2"/>
          <p:cNvSpPr>
            <a:spLocks noGrp="1"/>
          </p:cNvSpPr>
          <p:nvPr>
            <p:ph type="ftr" idx="5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78" name="PlaceHolder 3"/>
          <p:cNvSpPr>
            <a:spLocks noGrp="1"/>
          </p:cNvSpPr>
          <p:nvPr>
            <p:ph type="sldNum" idx="57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41CBD-3029-473A-97AA-EE831993F0A0}" type="slidenum">
              <a:rPr b="0" lang="ru-RU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7"/>
    <p:sldLayoutId id="2147483910" r:id="rId8"/>
    <p:sldLayoutId id="2147483911" r:id="rId9"/>
    <p:sldLayoutId id="2147483912" r:id="rId10"/>
    <p:sldLayoutId id="2147483913" r:id="rId11"/>
    <p:sldLayoutId id="2147483914" r:id="rId12"/>
    <p:sldLayoutId id="2147483915" r:id="rId13"/>
    <p:sldLayoutId id="2147483916" r:id="rId14"/>
    <p:sldLayoutId id="2147483917" r:id="rId15"/>
    <p:sldLayoutId id="2147483918" r:id="rId16"/>
    <p:sldLayoutId id="2147483919" r:id="rId17"/>
    <p:sldLayoutId id="2147483920" r:id="rId18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Блок-схема: данные 4"/>
          <p:cNvSpPr/>
          <p:nvPr/>
        </p:nvSpPr>
        <p:spPr>
          <a:xfrm>
            <a:off x="0" y="0"/>
            <a:ext cx="8861400" cy="83988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0" y="10000"/>
                </a:moveTo>
                <a:cubicBezTo>
                  <a:pt x="12" y="6637"/>
                  <a:pt x="-4" y="3363"/>
                  <a:pt x="8" y="0"/>
                </a:cubicBezTo>
                <a:lnTo>
                  <a:pt x="10000" y="0"/>
                </a:lnTo>
                <a:lnTo>
                  <a:pt x="8563" y="10000"/>
                </a:lnTo>
                <a:lnTo>
                  <a:pt x="0" y="10000"/>
                </a:lnTo>
                <a:close/>
              </a:path>
            </a:pathLst>
          </a:custGeom>
          <a:solidFill>
            <a:srgbClr val="e31e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16" name="Блок-схема: данные 4"/>
          <p:cNvSpPr/>
          <p:nvPr/>
        </p:nvSpPr>
        <p:spPr>
          <a:xfrm>
            <a:off x="0" y="0"/>
            <a:ext cx="8791560" cy="80640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0" y="10000"/>
                </a:moveTo>
                <a:cubicBezTo>
                  <a:pt x="12" y="6637"/>
                  <a:pt x="-4" y="3363"/>
                  <a:pt x="8" y="0"/>
                </a:cubicBezTo>
                <a:lnTo>
                  <a:pt x="10000" y="0"/>
                </a:lnTo>
                <a:lnTo>
                  <a:pt x="8563" y="10000"/>
                </a:lnTo>
                <a:lnTo>
                  <a:pt x="0" y="10000"/>
                </a:lnTo>
                <a:close/>
              </a:path>
            </a:pathLst>
          </a:custGeom>
          <a:solidFill>
            <a:srgbClr val="2647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17" name="TextBox 10"/>
          <p:cNvSpPr/>
          <p:nvPr/>
        </p:nvSpPr>
        <p:spPr>
          <a:xfrm>
            <a:off x="-525600" y="157320"/>
            <a:ext cx="80582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Государственное бюджетное учреждение дополнительного профессионального образования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«Челябинский институт развития образования»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18" name="Прямоугольник 11"/>
          <p:cNvSpPr/>
          <p:nvPr/>
        </p:nvSpPr>
        <p:spPr>
          <a:xfrm>
            <a:off x="4119480" y="3444840"/>
            <a:ext cx="946080" cy="905040"/>
          </a:xfrm>
          <a:prstGeom prst="rect">
            <a:avLst/>
          </a:prstGeom>
          <a:solidFill>
            <a:srgbClr val="264796"/>
          </a:solidFill>
          <a:ln w="6480">
            <a:solidFill>
              <a:srgbClr val="4472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219" name="Google Shape;559;p43"/>
          <p:cNvGrpSpPr/>
          <p:nvPr/>
        </p:nvGrpSpPr>
        <p:grpSpPr>
          <a:xfrm>
            <a:off x="4321080" y="3598920"/>
            <a:ext cx="573120" cy="552240"/>
            <a:chOff x="4321080" y="3598920"/>
            <a:chExt cx="573120" cy="552240"/>
          </a:xfrm>
        </p:grpSpPr>
        <p:sp>
          <p:nvSpPr>
            <p:cNvPr id="1220" name="Google Shape;560;p43"/>
            <p:cNvSpPr/>
            <p:nvPr/>
          </p:nvSpPr>
          <p:spPr>
            <a:xfrm>
              <a:off x="4321080" y="3598920"/>
              <a:ext cx="573120" cy="540000"/>
            </a:xfrm>
            <a:custGeom>
              <a:avLst/>
              <a:gdLst/>
              <a:ahLst/>
              <a:rect l="l" t="t" r="r" b="b"/>
              <a:pathLst>
                <a:path fill="none" w="18608" h="17805">
                  <a:moveTo>
                    <a:pt x="13493" y="14127"/>
                  </a:moveTo>
                  <a:lnTo>
                    <a:pt x="18608" y="17804"/>
                  </a:lnTo>
                  <a:lnTo>
                    <a:pt x="18608" y="17731"/>
                  </a:lnTo>
                  <a:lnTo>
                    <a:pt x="18608" y="6723"/>
                  </a:lnTo>
                  <a:lnTo>
                    <a:pt x="9304" y="1"/>
                  </a:lnTo>
                  <a:lnTo>
                    <a:pt x="1" y="6723"/>
                  </a:lnTo>
                  <a:lnTo>
                    <a:pt x="1" y="17731"/>
                  </a:lnTo>
                  <a:lnTo>
                    <a:pt x="1" y="17804"/>
                  </a:lnTo>
                  <a:lnTo>
                    <a:pt x="5115" y="14127"/>
                  </a:lnTo>
                </a:path>
              </a:pathLst>
            </a:custGeom>
            <a:noFill/>
            <a:ln cap="rnd" w="12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91080" bIns="91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1221" name="Google Shape;561;p43"/>
            <p:cNvSpPr/>
            <p:nvPr/>
          </p:nvSpPr>
          <p:spPr>
            <a:xfrm>
              <a:off x="4330800" y="4150440"/>
              <a:ext cx="553680" cy="720"/>
            </a:xfrm>
            <a:custGeom>
              <a:avLst/>
              <a:gdLst/>
              <a:ahLst/>
              <a:rect l="l" t="t" r="r" b="b"/>
              <a:pathLst>
                <a:path fill="none" w="17975" h="25">
                  <a:moveTo>
                    <a:pt x="0" y="0"/>
                  </a:moveTo>
                  <a:lnTo>
                    <a:pt x="0" y="0"/>
                  </a:lnTo>
                  <a:lnTo>
                    <a:pt x="98" y="0"/>
                  </a:lnTo>
                  <a:lnTo>
                    <a:pt x="171" y="24"/>
                  </a:lnTo>
                  <a:lnTo>
                    <a:pt x="17804" y="24"/>
                  </a:lnTo>
                  <a:lnTo>
                    <a:pt x="17877" y="0"/>
                  </a:lnTo>
                  <a:lnTo>
                    <a:pt x="17974" y="0"/>
                  </a:lnTo>
                </a:path>
              </a:pathLst>
            </a:custGeom>
            <a:noFill/>
            <a:ln cap="rnd" w="12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90360" bIns="-90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1222" name="Google Shape;562;p43"/>
            <p:cNvSpPr/>
            <p:nvPr/>
          </p:nvSpPr>
          <p:spPr>
            <a:xfrm>
              <a:off x="4321080" y="3802680"/>
              <a:ext cx="573120" cy="208080"/>
            </a:xfrm>
            <a:custGeom>
              <a:avLst/>
              <a:gdLst/>
              <a:ahLst/>
              <a:rect l="l" t="t" r="r" b="b"/>
              <a:pathLst>
                <a:path fill="none" w="18608" h="6869">
                  <a:moveTo>
                    <a:pt x="18608" y="1"/>
                  </a:moveTo>
                  <a:lnTo>
                    <a:pt x="9450" y="6820"/>
                  </a:lnTo>
                  <a:lnTo>
                    <a:pt x="9377" y="6845"/>
                  </a:lnTo>
                  <a:lnTo>
                    <a:pt x="9304" y="6869"/>
                  </a:lnTo>
                  <a:lnTo>
                    <a:pt x="9231" y="6845"/>
                  </a:lnTo>
                  <a:lnTo>
                    <a:pt x="9158" y="6820"/>
                  </a:lnTo>
                  <a:lnTo>
                    <a:pt x="1" y="1"/>
                  </a:lnTo>
                </a:path>
              </a:pathLst>
            </a:custGeom>
            <a:noFill/>
            <a:ln cap="rnd" w="12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91080" bIns="91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1223" name="Google Shape;563;p43"/>
            <p:cNvSpPr/>
            <p:nvPr/>
          </p:nvSpPr>
          <p:spPr>
            <a:xfrm>
              <a:off x="4435560" y="3752280"/>
              <a:ext cx="343800" cy="134280"/>
            </a:xfrm>
            <a:custGeom>
              <a:avLst/>
              <a:gdLst/>
              <a:ahLst/>
              <a:rect l="l" t="t" r="r" b="b"/>
              <a:pathLst>
                <a:path fill="none" w="11156" h="4434">
                  <a:moveTo>
                    <a:pt x="1" y="4433"/>
                  </a:moveTo>
                  <a:lnTo>
                    <a:pt x="1" y="1"/>
                  </a:lnTo>
                  <a:lnTo>
                    <a:pt x="11155" y="1"/>
                  </a:lnTo>
                  <a:lnTo>
                    <a:pt x="11155" y="4433"/>
                  </a:lnTo>
                </a:path>
              </a:pathLst>
            </a:custGeom>
            <a:noFill/>
            <a:ln cap="rnd" w="12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3200" bIns="43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1224" name="Google Shape;564;p43"/>
            <p:cNvSpPr/>
            <p:nvPr/>
          </p:nvSpPr>
          <p:spPr>
            <a:xfrm>
              <a:off x="4525200" y="3824640"/>
              <a:ext cx="164880" cy="360"/>
            </a:xfrm>
            <a:custGeom>
              <a:avLst/>
              <a:gdLst/>
              <a:ahLst/>
              <a:rect l="l" t="t" r="r" b="b"/>
              <a:pathLst>
                <a:path fill="none" w="5359" h="1">
                  <a:moveTo>
                    <a:pt x="0" y="0"/>
                  </a:moveTo>
                  <a:lnTo>
                    <a:pt x="5358" y="0"/>
                  </a:lnTo>
                </a:path>
              </a:pathLst>
            </a:custGeom>
            <a:noFill/>
            <a:ln cap="rnd" w="12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90720" bIns="-90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1225" name="Google Shape;565;p43"/>
            <p:cNvSpPr/>
            <p:nvPr/>
          </p:nvSpPr>
          <p:spPr>
            <a:xfrm>
              <a:off x="4525200" y="3866040"/>
              <a:ext cx="164880" cy="360"/>
            </a:xfrm>
            <a:custGeom>
              <a:avLst/>
              <a:gdLst/>
              <a:ahLst/>
              <a:rect l="l" t="t" r="r" b="b"/>
              <a:pathLst>
                <a:path fill="none" w="5359" h="1">
                  <a:moveTo>
                    <a:pt x="0" y="0"/>
                  </a:moveTo>
                  <a:lnTo>
                    <a:pt x="5358" y="0"/>
                  </a:lnTo>
                </a:path>
              </a:pathLst>
            </a:custGeom>
            <a:noFill/>
            <a:ln cap="rnd" w="12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90720" bIns="-90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1226" name="Google Shape;566;p43"/>
            <p:cNvSpPr/>
            <p:nvPr/>
          </p:nvSpPr>
          <p:spPr>
            <a:xfrm>
              <a:off x="4525200" y="3907440"/>
              <a:ext cx="104760" cy="360"/>
            </a:xfrm>
            <a:custGeom>
              <a:avLst/>
              <a:gdLst/>
              <a:ahLst/>
              <a:rect l="l" t="t" r="r" b="b"/>
              <a:pathLst>
                <a:path fill="none" w="3410" h="1">
                  <a:moveTo>
                    <a:pt x="0" y="0"/>
                  </a:moveTo>
                  <a:lnTo>
                    <a:pt x="3410" y="0"/>
                  </a:lnTo>
                </a:path>
              </a:pathLst>
            </a:custGeom>
            <a:noFill/>
            <a:ln cap="rnd" w="12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90720" bIns="-90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grpSp>
        <p:nvGrpSpPr>
          <p:cNvPr id="1227" name="Группа 65"/>
          <p:cNvGrpSpPr/>
          <p:nvPr/>
        </p:nvGrpSpPr>
        <p:grpSpPr>
          <a:xfrm>
            <a:off x="5305320" y="1104840"/>
            <a:ext cx="916200" cy="835200"/>
            <a:chOff x="5305320" y="1104840"/>
            <a:chExt cx="916200" cy="835200"/>
          </a:xfrm>
        </p:grpSpPr>
        <p:sp>
          <p:nvSpPr>
            <p:cNvPr id="1228" name="Прямоугольник 23"/>
            <p:cNvSpPr/>
            <p:nvPr/>
          </p:nvSpPr>
          <p:spPr>
            <a:xfrm>
              <a:off x="5305320" y="1104840"/>
              <a:ext cx="916200" cy="835200"/>
            </a:xfrm>
            <a:prstGeom prst="rect">
              <a:avLst/>
            </a:prstGeom>
            <a:solidFill>
              <a:srgbClr val="264796"/>
            </a:solidFill>
            <a:ln w="0">
              <a:noFill/>
            </a:ln>
            <a:effectLst>
              <a:outerShdw dist="19080" dir="5400000" blurRad="0" rotWithShape="0">
                <a:srgbClr val="000000">
                  <a:alpha val="6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grpSp>
          <p:nvGrpSpPr>
            <p:cNvPr id="1229" name="Google Shape;732;p43"/>
            <p:cNvGrpSpPr/>
            <p:nvPr/>
          </p:nvGrpSpPr>
          <p:grpSpPr>
            <a:xfrm>
              <a:off x="5464080" y="1296360"/>
              <a:ext cx="609480" cy="502920"/>
              <a:chOff x="5464080" y="1296360"/>
              <a:chExt cx="609480" cy="502920"/>
            </a:xfrm>
          </p:grpSpPr>
          <p:sp>
            <p:nvSpPr>
              <p:cNvPr id="1230" name="Google Shape;733;p43"/>
              <p:cNvSpPr/>
              <p:nvPr/>
            </p:nvSpPr>
            <p:spPr>
              <a:xfrm>
                <a:off x="5963760" y="1731240"/>
                <a:ext cx="85320" cy="68040"/>
              </a:xfrm>
              <a:custGeom>
                <a:avLst/>
                <a:gdLst/>
                <a:ahLst/>
                <a:rect l="l" t="t" r="r" b="b"/>
                <a:pathLst>
                  <a:path fill="none" w="2631" h="2096">
                    <a:moveTo>
                      <a:pt x="1" y="1"/>
                    </a:moveTo>
                    <a:lnTo>
                      <a:pt x="1" y="780"/>
                    </a:lnTo>
                    <a:lnTo>
                      <a:pt x="25" y="1048"/>
                    </a:lnTo>
                    <a:lnTo>
                      <a:pt x="122" y="1291"/>
                    </a:lnTo>
                    <a:lnTo>
                      <a:pt x="244" y="1511"/>
                    </a:lnTo>
                    <a:lnTo>
                      <a:pt x="390" y="1705"/>
                    </a:lnTo>
                    <a:lnTo>
                      <a:pt x="585" y="1852"/>
                    </a:lnTo>
                    <a:lnTo>
                      <a:pt x="804" y="1973"/>
                    </a:lnTo>
                    <a:lnTo>
                      <a:pt x="1048" y="2071"/>
                    </a:lnTo>
                    <a:lnTo>
                      <a:pt x="1316" y="2095"/>
                    </a:lnTo>
                    <a:lnTo>
                      <a:pt x="1584" y="2071"/>
                    </a:lnTo>
                    <a:lnTo>
                      <a:pt x="1827" y="1973"/>
                    </a:lnTo>
                    <a:lnTo>
                      <a:pt x="2046" y="1852"/>
                    </a:lnTo>
                    <a:lnTo>
                      <a:pt x="2241" y="1705"/>
                    </a:lnTo>
                    <a:lnTo>
                      <a:pt x="2412" y="1511"/>
                    </a:lnTo>
                    <a:lnTo>
                      <a:pt x="2533" y="1291"/>
                    </a:lnTo>
                    <a:lnTo>
                      <a:pt x="2607" y="1048"/>
                    </a:lnTo>
                    <a:lnTo>
                      <a:pt x="2631" y="780"/>
                    </a:lnTo>
                    <a:lnTo>
                      <a:pt x="2631" y="1"/>
                    </a:lnTo>
                  </a:path>
                </a:pathLst>
              </a:custGeom>
              <a:noFill/>
              <a:ln cap="rnd" w="12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-23040" bIns="-23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  <p:sp>
            <p:nvSpPr>
              <p:cNvPr id="1231" name="Google Shape;734;p43"/>
              <p:cNvSpPr/>
              <p:nvPr/>
            </p:nvSpPr>
            <p:spPr>
              <a:xfrm>
                <a:off x="5488560" y="1731240"/>
                <a:ext cx="85320" cy="68040"/>
              </a:xfrm>
              <a:custGeom>
                <a:avLst/>
                <a:gdLst/>
                <a:ahLst/>
                <a:rect l="l" t="t" r="r" b="b"/>
                <a:pathLst>
                  <a:path fill="none" w="2631" h="2096">
                    <a:moveTo>
                      <a:pt x="1" y="1"/>
                    </a:moveTo>
                    <a:lnTo>
                      <a:pt x="1" y="780"/>
                    </a:lnTo>
                    <a:lnTo>
                      <a:pt x="25" y="1048"/>
                    </a:lnTo>
                    <a:lnTo>
                      <a:pt x="98" y="1291"/>
                    </a:lnTo>
                    <a:lnTo>
                      <a:pt x="220" y="1511"/>
                    </a:lnTo>
                    <a:lnTo>
                      <a:pt x="390" y="1705"/>
                    </a:lnTo>
                    <a:lnTo>
                      <a:pt x="585" y="1852"/>
                    </a:lnTo>
                    <a:lnTo>
                      <a:pt x="804" y="1973"/>
                    </a:lnTo>
                    <a:lnTo>
                      <a:pt x="1048" y="2071"/>
                    </a:lnTo>
                    <a:lnTo>
                      <a:pt x="1316" y="2095"/>
                    </a:lnTo>
                    <a:lnTo>
                      <a:pt x="1584" y="2071"/>
                    </a:lnTo>
                    <a:lnTo>
                      <a:pt x="1827" y="1973"/>
                    </a:lnTo>
                    <a:lnTo>
                      <a:pt x="2046" y="1852"/>
                    </a:lnTo>
                    <a:lnTo>
                      <a:pt x="2241" y="1705"/>
                    </a:lnTo>
                    <a:lnTo>
                      <a:pt x="2387" y="1511"/>
                    </a:lnTo>
                    <a:lnTo>
                      <a:pt x="2509" y="1291"/>
                    </a:lnTo>
                    <a:lnTo>
                      <a:pt x="2607" y="1048"/>
                    </a:lnTo>
                    <a:lnTo>
                      <a:pt x="2631" y="780"/>
                    </a:lnTo>
                    <a:lnTo>
                      <a:pt x="2631" y="1"/>
                    </a:lnTo>
                  </a:path>
                </a:pathLst>
              </a:custGeom>
              <a:noFill/>
              <a:ln cap="rnd" w="12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-23040" bIns="-23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  <p:sp>
            <p:nvSpPr>
              <p:cNvPr id="1232" name="Google Shape;735;p43"/>
              <p:cNvSpPr/>
              <p:nvPr/>
            </p:nvSpPr>
            <p:spPr>
              <a:xfrm>
                <a:off x="5464080" y="1296360"/>
                <a:ext cx="609480" cy="432720"/>
              </a:xfrm>
              <a:custGeom>
                <a:avLst/>
                <a:gdLst/>
                <a:ahLst/>
                <a:rect l="l" t="t" r="r" b="b"/>
                <a:pathLst>
                  <a:path fill="none" w="18754" h="13323">
                    <a:moveTo>
                      <a:pt x="18754" y="5553"/>
                    </a:moveTo>
                    <a:lnTo>
                      <a:pt x="18754" y="5553"/>
                    </a:lnTo>
                    <a:lnTo>
                      <a:pt x="18730" y="5334"/>
                    </a:lnTo>
                    <a:lnTo>
                      <a:pt x="18681" y="5091"/>
                    </a:lnTo>
                    <a:lnTo>
                      <a:pt x="18583" y="4847"/>
                    </a:lnTo>
                    <a:lnTo>
                      <a:pt x="18462" y="4628"/>
                    </a:lnTo>
                    <a:lnTo>
                      <a:pt x="18291" y="4433"/>
                    </a:lnTo>
                    <a:lnTo>
                      <a:pt x="18121" y="4287"/>
                    </a:lnTo>
                    <a:lnTo>
                      <a:pt x="18023" y="4214"/>
                    </a:lnTo>
                    <a:lnTo>
                      <a:pt x="17926" y="4165"/>
                    </a:lnTo>
                    <a:lnTo>
                      <a:pt x="17828" y="4141"/>
                    </a:lnTo>
                    <a:lnTo>
                      <a:pt x="17731" y="4141"/>
                    </a:lnTo>
                    <a:lnTo>
                      <a:pt x="16489" y="4141"/>
                    </a:lnTo>
                    <a:lnTo>
                      <a:pt x="15588" y="1803"/>
                    </a:lnTo>
                    <a:lnTo>
                      <a:pt x="15490" y="1583"/>
                    </a:lnTo>
                    <a:lnTo>
                      <a:pt x="15344" y="1364"/>
                    </a:lnTo>
                    <a:lnTo>
                      <a:pt x="15174" y="1169"/>
                    </a:lnTo>
                    <a:lnTo>
                      <a:pt x="15003" y="975"/>
                    </a:lnTo>
                    <a:lnTo>
                      <a:pt x="14784" y="804"/>
                    </a:lnTo>
                    <a:lnTo>
                      <a:pt x="14565" y="658"/>
                    </a:lnTo>
                    <a:lnTo>
                      <a:pt x="14346" y="536"/>
                    </a:lnTo>
                    <a:lnTo>
                      <a:pt x="14102" y="439"/>
                    </a:lnTo>
                    <a:lnTo>
                      <a:pt x="13810" y="390"/>
                    </a:lnTo>
                    <a:lnTo>
                      <a:pt x="13444" y="317"/>
                    </a:lnTo>
                    <a:lnTo>
                      <a:pt x="12933" y="220"/>
                    </a:lnTo>
                    <a:lnTo>
                      <a:pt x="12275" y="147"/>
                    </a:lnTo>
                    <a:lnTo>
                      <a:pt x="11472" y="73"/>
                    </a:lnTo>
                    <a:lnTo>
                      <a:pt x="10498" y="25"/>
                    </a:lnTo>
                    <a:lnTo>
                      <a:pt x="9377" y="0"/>
                    </a:lnTo>
                    <a:lnTo>
                      <a:pt x="8257" y="25"/>
                    </a:lnTo>
                    <a:lnTo>
                      <a:pt x="7283" y="73"/>
                    </a:lnTo>
                    <a:lnTo>
                      <a:pt x="6479" y="147"/>
                    </a:lnTo>
                    <a:lnTo>
                      <a:pt x="5821" y="220"/>
                    </a:lnTo>
                    <a:lnTo>
                      <a:pt x="5310" y="317"/>
                    </a:lnTo>
                    <a:lnTo>
                      <a:pt x="4945" y="390"/>
                    </a:lnTo>
                    <a:lnTo>
                      <a:pt x="4652" y="439"/>
                    </a:lnTo>
                    <a:lnTo>
                      <a:pt x="4409" y="536"/>
                    </a:lnTo>
                    <a:lnTo>
                      <a:pt x="4190" y="658"/>
                    </a:lnTo>
                    <a:lnTo>
                      <a:pt x="3970" y="804"/>
                    </a:lnTo>
                    <a:lnTo>
                      <a:pt x="3751" y="975"/>
                    </a:lnTo>
                    <a:lnTo>
                      <a:pt x="3581" y="1169"/>
                    </a:lnTo>
                    <a:lnTo>
                      <a:pt x="3410" y="1364"/>
                    </a:lnTo>
                    <a:lnTo>
                      <a:pt x="3264" y="1583"/>
                    </a:lnTo>
                    <a:lnTo>
                      <a:pt x="3167" y="1803"/>
                    </a:lnTo>
                    <a:lnTo>
                      <a:pt x="2266" y="4141"/>
                    </a:lnTo>
                    <a:lnTo>
                      <a:pt x="1023" y="4141"/>
                    </a:lnTo>
                    <a:lnTo>
                      <a:pt x="926" y="4141"/>
                    </a:lnTo>
                    <a:lnTo>
                      <a:pt x="829" y="4165"/>
                    </a:lnTo>
                    <a:lnTo>
                      <a:pt x="731" y="4214"/>
                    </a:lnTo>
                    <a:lnTo>
                      <a:pt x="634" y="4287"/>
                    </a:lnTo>
                    <a:lnTo>
                      <a:pt x="463" y="4433"/>
                    </a:lnTo>
                    <a:lnTo>
                      <a:pt x="293" y="4628"/>
                    </a:lnTo>
                    <a:lnTo>
                      <a:pt x="171" y="4847"/>
                    </a:lnTo>
                    <a:lnTo>
                      <a:pt x="74" y="5091"/>
                    </a:lnTo>
                    <a:lnTo>
                      <a:pt x="25" y="5334"/>
                    </a:lnTo>
                    <a:lnTo>
                      <a:pt x="1" y="5553"/>
                    </a:lnTo>
                    <a:lnTo>
                      <a:pt x="25" y="5748"/>
                    </a:lnTo>
                    <a:lnTo>
                      <a:pt x="74" y="5894"/>
                    </a:lnTo>
                    <a:lnTo>
                      <a:pt x="171" y="6016"/>
                    </a:lnTo>
                    <a:lnTo>
                      <a:pt x="293" y="6089"/>
                    </a:lnTo>
                    <a:lnTo>
                      <a:pt x="463" y="6138"/>
                    </a:lnTo>
                    <a:lnTo>
                      <a:pt x="634" y="6187"/>
                    </a:lnTo>
                    <a:lnTo>
                      <a:pt x="1023" y="6187"/>
                    </a:lnTo>
                    <a:lnTo>
                      <a:pt x="1462" y="6187"/>
                    </a:lnTo>
                    <a:lnTo>
                      <a:pt x="1145" y="7015"/>
                    </a:lnTo>
                    <a:lnTo>
                      <a:pt x="999" y="7526"/>
                    </a:lnTo>
                    <a:lnTo>
                      <a:pt x="877" y="8086"/>
                    </a:lnTo>
                    <a:lnTo>
                      <a:pt x="780" y="8671"/>
                    </a:lnTo>
                    <a:lnTo>
                      <a:pt x="756" y="9207"/>
                    </a:lnTo>
                    <a:lnTo>
                      <a:pt x="756" y="13323"/>
                    </a:lnTo>
                    <a:lnTo>
                      <a:pt x="17999" y="13323"/>
                    </a:lnTo>
                    <a:lnTo>
                      <a:pt x="17999" y="9207"/>
                    </a:lnTo>
                    <a:lnTo>
                      <a:pt x="17975" y="8671"/>
                    </a:lnTo>
                    <a:lnTo>
                      <a:pt x="17877" y="8086"/>
                    </a:lnTo>
                    <a:lnTo>
                      <a:pt x="17755" y="7526"/>
                    </a:lnTo>
                    <a:lnTo>
                      <a:pt x="17609" y="7015"/>
                    </a:lnTo>
                    <a:lnTo>
                      <a:pt x="17293" y="6187"/>
                    </a:lnTo>
                    <a:lnTo>
                      <a:pt x="17731" y="6187"/>
                    </a:lnTo>
                    <a:lnTo>
                      <a:pt x="18121" y="6187"/>
                    </a:lnTo>
                    <a:lnTo>
                      <a:pt x="18291" y="6138"/>
                    </a:lnTo>
                    <a:lnTo>
                      <a:pt x="18462" y="6089"/>
                    </a:lnTo>
                    <a:lnTo>
                      <a:pt x="18583" y="6016"/>
                    </a:lnTo>
                    <a:lnTo>
                      <a:pt x="18681" y="5894"/>
                    </a:lnTo>
                    <a:lnTo>
                      <a:pt x="18730" y="5748"/>
                    </a:lnTo>
                    <a:lnTo>
                      <a:pt x="18754" y="5553"/>
                    </a:lnTo>
                  </a:path>
                </a:pathLst>
              </a:custGeom>
              <a:noFill/>
              <a:ln cap="rnd" w="12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91080" bIns="91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  <p:sp>
            <p:nvSpPr>
              <p:cNvPr id="1233" name="Google Shape;736;p43"/>
              <p:cNvSpPr/>
              <p:nvPr/>
            </p:nvSpPr>
            <p:spPr>
              <a:xfrm>
                <a:off x="5571720" y="1339560"/>
                <a:ext cx="394200" cy="194400"/>
              </a:xfrm>
              <a:custGeom>
                <a:avLst/>
                <a:gdLst/>
                <a:ahLst/>
                <a:rect l="l" t="t" r="r" b="b"/>
                <a:pathLst>
                  <a:path fill="none" w="12130" h="5993">
                    <a:moveTo>
                      <a:pt x="1" y="4628"/>
                    </a:moveTo>
                    <a:lnTo>
                      <a:pt x="1" y="4628"/>
                    </a:lnTo>
                    <a:lnTo>
                      <a:pt x="171" y="4019"/>
                    </a:lnTo>
                    <a:lnTo>
                      <a:pt x="585" y="2656"/>
                    </a:lnTo>
                    <a:lnTo>
                      <a:pt x="805" y="1925"/>
                    </a:lnTo>
                    <a:lnTo>
                      <a:pt x="1024" y="1292"/>
                    </a:lnTo>
                    <a:lnTo>
                      <a:pt x="1194" y="829"/>
                    </a:lnTo>
                    <a:lnTo>
                      <a:pt x="1267" y="707"/>
                    </a:lnTo>
                    <a:lnTo>
                      <a:pt x="1316" y="658"/>
                    </a:lnTo>
                    <a:lnTo>
                      <a:pt x="1535" y="561"/>
                    </a:lnTo>
                    <a:lnTo>
                      <a:pt x="1852" y="464"/>
                    </a:lnTo>
                    <a:lnTo>
                      <a:pt x="2315" y="342"/>
                    </a:lnTo>
                    <a:lnTo>
                      <a:pt x="2948" y="220"/>
                    </a:lnTo>
                    <a:lnTo>
                      <a:pt x="3776" y="98"/>
                    </a:lnTo>
                    <a:lnTo>
                      <a:pt x="4799" y="25"/>
                    </a:lnTo>
                    <a:lnTo>
                      <a:pt x="5408" y="1"/>
                    </a:lnTo>
                    <a:lnTo>
                      <a:pt x="6065" y="1"/>
                    </a:lnTo>
                    <a:lnTo>
                      <a:pt x="6723" y="1"/>
                    </a:lnTo>
                    <a:lnTo>
                      <a:pt x="7332" y="25"/>
                    </a:lnTo>
                    <a:lnTo>
                      <a:pt x="8355" y="98"/>
                    </a:lnTo>
                    <a:lnTo>
                      <a:pt x="9183" y="220"/>
                    </a:lnTo>
                    <a:lnTo>
                      <a:pt x="9816" y="342"/>
                    </a:lnTo>
                    <a:lnTo>
                      <a:pt x="10279" y="464"/>
                    </a:lnTo>
                    <a:lnTo>
                      <a:pt x="10595" y="561"/>
                    </a:lnTo>
                    <a:lnTo>
                      <a:pt x="10814" y="658"/>
                    </a:lnTo>
                    <a:lnTo>
                      <a:pt x="10863" y="707"/>
                    </a:lnTo>
                    <a:lnTo>
                      <a:pt x="10936" y="829"/>
                    </a:lnTo>
                    <a:lnTo>
                      <a:pt x="11107" y="1292"/>
                    </a:lnTo>
                    <a:lnTo>
                      <a:pt x="11326" y="1925"/>
                    </a:lnTo>
                    <a:lnTo>
                      <a:pt x="11545" y="2656"/>
                    </a:lnTo>
                    <a:lnTo>
                      <a:pt x="11959" y="4019"/>
                    </a:lnTo>
                    <a:lnTo>
                      <a:pt x="12130" y="4628"/>
                    </a:lnTo>
                    <a:lnTo>
                      <a:pt x="12105" y="4677"/>
                    </a:lnTo>
                    <a:lnTo>
                      <a:pt x="12057" y="4750"/>
                    </a:lnTo>
                    <a:lnTo>
                      <a:pt x="11959" y="4823"/>
                    </a:lnTo>
                    <a:lnTo>
                      <a:pt x="11813" y="4921"/>
                    </a:lnTo>
                    <a:lnTo>
                      <a:pt x="11618" y="5042"/>
                    </a:lnTo>
                    <a:lnTo>
                      <a:pt x="11375" y="5164"/>
                    </a:lnTo>
                    <a:lnTo>
                      <a:pt x="11058" y="5262"/>
                    </a:lnTo>
                    <a:lnTo>
                      <a:pt x="10717" y="5383"/>
                    </a:lnTo>
                    <a:lnTo>
                      <a:pt x="10327" y="5505"/>
                    </a:lnTo>
                    <a:lnTo>
                      <a:pt x="9865" y="5627"/>
                    </a:lnTo>
                    <a:lnTo>
                      <a:pt x="9377" y="5724"/>
                    </a:lnTo>
                    <a:lnTo>
                      <a:pt x="8817" y="5822"/>
                    </a:lnTo>
                    <a:lnTo>
                      <a:pt x="8208" y="5895"/>
                    </a:lnTo>
                    <a:lnTo>
                      <a:pt x="7551" y="5944"/>
                    </a:lnTo>
                    <a:lnTo>
                      <a:pt x="6845" y="5992"/>
                    </a:lnTo>
                    <a:lnTo>
                      <a:pt x="6065" y="5992"/>
                    </a:lnTo>
                    <a:lnTo>
                      <a:pt x="5286" y="5992"/>
                    </a:lnTo>
                    <a:lnTo>
                      <a:pt x="4580" y="5944"/>
                    </a:lnTo>
                    <a:lnTo>
                      <a:pt x="3922" y="5895"/>
                    </a:lnTo>
                    <a:lnTo>
                      <a:pt x="3313" y="5822"/>
                    </a:lnTo>
                    <a:lnTo>
                      <a:pt x="2753" y="5724"/>
                    </a:lnTo>
                    <a:lnTo>
                      <a:pt x="2266" y="5627"/>
                    </a:lnTo>
                    <a:lnTo>
                      <a:pt x="1803" y="5505"/>
                    </a:lnTo>
                    <a:lnTo>
                      <a:pt x="1413" y="5383"/>
                    </a:lnTo>
                    <a:lnTo>
                      <a:pt x="1072" y="5262"/>
                    </a:lnTo>
                    <a:lnTo>
                      <a:pt x="756" y="5164"/>
                    </a:lnTo>
                    <a:lnTo>
                      <a:pt x="512" y="5042"/>
                    </a:lnTo>
                    <a:lnTo>
                      <a:pt x="317" y="4921"/>
                    </a:lnTo>
                    <a:lnTo>
                      <a:pt x="171" y="4823"/>
                    </a:lnTo>
                    <a:lnTo>
                      <a:pt x="74" y="4750"/>
                    </a:lnTo>
                    <a:lnTo>
                      <a:pt x="25" y="4677"/>
                    </a:lnTo>
                    <a:lnTo>
                      <a:pt x="1" y="4628"/>
                    </a:lnTo>
                  </a:path>
                </a:pathLst>
              </a:custGeom>
              <a:noFill/>
              <a:ln cap="rnd" w="12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91080" bIns="91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  <p:sp>
            <p:nvSpPr>
              <p:cNvPr id="1234" name="Google Shape;737;p43"/>
              <p:cNvSpPr/>
              <p:nvPr/>
            </p:nvSpPr>
            <p:spPr>
              <a:xfrm>
                <a:off x="5540040" y="1591200"/>
                <a:ext cx="105120" cy="84600"/>
              </a:xfrm>
              <a:custGeom>
                <a:avLst/>
                <a:gdLst/>
                <a:ahLst/>
                <a:rect l="l" t="t" r="r" b="b"/>
                <a:pathLst>
                  <a:path fill="none" w="3240" h="2607">
                    <a:moveTo>
                      <a:pt x="1632" y="2607"/>
                    </a:moveTo>
                    <a:lnTo>
                      <a:pt x="1632" y="2607"/>
                    </a:lnTo>
                    <a:lnTo>
                      <a:pt x="1291" y="2582"/>
                    </a:lnTo>
                    <a:lnTo>
                      <a:pt x="999" y="2509"/>
                    </a:lnTo>
                    <a:lnTo>
                      <a:pt x="731" y="2388"/>
                    </a:lnTo>
                    <a:lnTo>
                      <a:pt x="488" y="2217"/>
                    </a:lnTo>
                    <a:lnTo>
                      <a:pt x="293" y="2047"/>
                    </a:lnTo>
                    <a:lnTo>
                      <a:pt x="122" y="1803"/>
                    </a:lnTo>
                    <a:lnTo>
                      <a:pt x="74" y="1706"/>
                    </a:lnTo>
                    <a:lnTo>
                      <a:pt x="49" y="1559"/>
                    </a:lnTo>
                    <a:lnTo>
                      <a:pt x="25" y="1438"/>
                    </a:lnTo>
                    <a:lnTo>
                      <a:pt x="1" y="1316"/>
                    </a:lnTo>
                    <a:lnTo>
                      <a:pt x="25" y="1170"/>
                    </a:lnTo>
                    <a:lnTo>
                      <a:pt x="49" y="1048"/>
                    </a:lnTo>
                    <a:lnTo>
                      <a:pt x="74" y="926"/>
                    </a:lnTo>
                    <a:lnTo>
                      <a:pt x="122" y="804"/>
                    </a:lnTo>
                    <a:lnTo>
                      <a:pt x="293" y="585"/>
                    </a:lnTo>
                    <a:lnTo>
                      <a:pt x="488" y="390"/>
                    </a:lnTo>
                    <a:lnTo>
                      <a:pt x="731" y="220"/>
                    </a:lnTo>
                    <a:lnTo>
                      <a:pt x="999" y="98"/>
                    </a:lnTo>
                    <a:lnTo>
                      <a:pt x="1291" y="25"/>
                    </a:lnTo>
                    <a:lnTo>
                      <a:pt x="1632" y="1"/>
                    </a:lnTo>
                    <a:lnTo>
                      <a:pt x="1803" y="1"/>
                    </a:lnTo>
                    <a:lnTo>
                      <a:pt x="1949" y="49"/>
                    </a:lnTo>
                    <a:lnTo>
                      <a:pt x="2120" y="98"/>
                    </a:lnTo>
                    <a:lnTo>
                      <a:pt x="2266" y="171"/>
                    </a:lnTo>
                    <a:lnTo>
                      <a:pt x="2412" y="269"/>
                    </a:lnTo>
                    <a:lnTo>
                      <a:pt x="2534" y="390"/>
                    </a:lnTo>
                    <a:lnTo>
                      <a:pt x="2777" y="634"/>
                    </a:lnTo>
                    <a:lnTo>
                      <a:pt x="2972" y="926"/>
                    </a:lnTo>
                    <a:lnTo>
                      <a:pt x="3118" y="1219"/>
                    </a:lnTo>
                    <a:lnTo>
                      <a:pt x="3215" y="1535"/>
                    </a:lnTo>
                    <a:lnTo>
                      <a:pt x="3240" y="1681"/>
                    </a:lnTo>
                    <a:lnTo>
                      <a:pt x="3240" y="1803"/>
                    </a:lnTo>
                    <a:lnTo>
                      <a:pt x="3240" y="1949"/>
                    </a:lnTo>
                    <a:lnTo>
                      <a:pt x="3215" y="2047"/>
                    </a:lnTo>
                    <a:lnTo>
                      <a:pt x="3167" y="2144"/>
                    </a:lnTo>
                    <a:lnTo>
                      <a:pt x="3118" y="2241"/>
                    </a:lnTo>
                    <a:lnTo>
                      <a:pt x="3045" y="2314"/>
                    </a:lnTo>
                    <a:lnTo>
                      <a:pt x="2972" y="2388"/>
                    </a:lnTo>
                    <a:lnTo>
                      <a:pt x="2777" y="2485"/>
                    </a:lnTo>
                    <a:lnTo>
                      <a:pt x="2534" y="2558"/>
                    </a:lnTo>
                    <a:lnTo>
                      <a:pt x="2266" y="2582"/>
                    </a:lnTo>
                    <a:lnTo>
                      <a:pt x="1949" y="2607"/>
                    </a:lnTo>
                    <a:lnTo>
                      <a:pt x="1632" y="2607"/>
                    </a:lnTo>
                  </a:path>
                </a:pathLst>
              </a:custGeom>
              <a:noFill/>
              <a:ln cap="rnd" w="12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-6480" bIns="-6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  <p:sp>
            <p:nvSpPr>
              <p:cNvPr id="1235" name="Google Shape;738;p43"/>
              <p:cNvSpPr/>
              <p:nvPr/>
            </p:nvSpPr>
            <p:spPr>
              <a:xfrm>
                <a:off x="5696640" y="1652400"/>
                <a:ext cx="144000" cy="360"/>
              </a:xfrm>
              <a:custGeom>
                <a:avLst/>
                <a:gdLst/>
                <a:ahLst/>
                <a:rect l="l" t="t" r="r" b="b"/>
                <a:pathLst>
                  <a:path fill="none" w="4434" h="1">
                    <a:moveTo>
                      <a:pt x="1" y="0"/>
                    </a:moveTo>
                    <a:lnTo>
                      <a:pt x="4434" y="0"/>
                    </a:lnTo>
                  </a:path>
                </a:pathLst>
              </a:custGeom>
              <a:noFill/>
              <a:ln cap="rnd" w="12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-90720" bIns="-90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  <p:sp>
            <p:nvSpPr>
              <p:cNvPr id="1236" name="Google Shape;739;p43"/>
              <p:cNvSpPr/>
              <p:nvPr/>
            </p:nvSpPr>
            <p:spPr>
              <a:xfrm>
                <a:off x="5687280" y="1617480"/>
                <a:ext cx="163080" cy="360"/>
              </a:xfrm>
              <a:custGeom>
                <a:avLst/>
                <a:gdLst/>
                <a:ahLst/>
                <a:rect l="l" t="t" r="r" b="b"/>
                <a:pathLst>
                  <a:path fill="none" w="5018" h="1">
                    <a:moveTo>
                      <a:pt x="1" y="0"/>
                    </a:moveTo>
                    <a:lnTo>
                      <a:pt x="5018" y="0"/>
                    </a:lnTo>
                  </a:path>
                </a:pathLst>
              </a:custGeom>
              <a:noFill/>
              <a:ln cap="rnd" w="12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-90720" bIns="-90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  <p:sp>
            <p:nvSpPr>
              <p:cNvPr id="1237" name="Google Shape;740;p43"/>
              <p:cNvSpPr/>
              <p:nvPr/>
            </p:nvSpPr>
            <p:spPr>
              <a:xfrm>
                <a:off x="5892480" y="1591200"/>
                <a:ext cx="105120" cy="84600"/>
              </a:xfrm>
              <a:custGeom>
                <a:avLst/>
                <a:gdLst/>
                <a:ahLst/>
                <a:rect l="l" t="t" r="r" b="b"/>
                <a:pathLst>
                  <a:path fill="none" w="3240" h="2607">
                    <a:moveTo>
                      <a:pt x="1608" y="2607"/>
                    </a:moveTo>
                    <a:lnTo>
                      <a:pt x="1608" y="2607"/>
                    </a:lnTo>
                    <a:lnTo>
                      <a:pt x="1291" y="2607"/>
                    </a:lnTo>
                    <a:lnTo>
                      <a:pt x="975" y="2582"/>
                    </a:lnTo>
                    <a:lnTo>
                      <a:pt x="707" y="2558"/>
                    </a:lnTo>
                    <a:lnTo>
                      <a:pt x="463" y="2485"/>
                    </a:lnTo>
                    <a:lnTo>
                      <a:pt x="268" y="2388"/>
                    </a:lnTo>
                    <a:lnTo>
                      <a:pt x="195" y="2314"/>
                    </a:lnTo>
                    <a:lnTo>
                      <a:pt x="122" y="2241"/>
                    </a:lnTo>
                    <a:lnTo>
                      <a:pt x="74" y="2144"/>
                    </a:lnTo>
                    <a:lnTo>
                      <a:pt x="25" y="2047"/>
                    </a:lnTo>
                    <a:lnTo>
                      <a:pt x="1" y="1949"/>
                    </a:lnTo>
                    <a:lnTo>
                      <a:pt x="1" y="1803"/>
                    </a:lnTo>
                    <a:lnTo>
                      <a:pt x="1" y="1681"/>
                    </a:lnTo>
                    <a:lnTo>
                      <a:pt x="25" y="1535"/>
                    </a:lnTo>
                    <a:lnTo>
                      <a:pt x="122" y="1219"/>
                    </a:lnTo>
                    <a:lnTo>
                      <a:pt x="268" y="926"/>
                    </a:lnTo>
                    <a:lnTo>
                      <a:pt x="463" y="634"/>
                    </a:lnTo>
                    <a:lnTo>
                      <a:pt x="707" y="390"/>
                    </a:lnTo>
                    <a:lnTo>
                      <a:pt x="829" y="269"/>
                    </a:lnTo>
                    <a:lnTo>
                      <a:pt x="975" y="171"/>
                    </a:lnTo>
                    <a:lnTo>
                      <a:pt x="1121" y="98"/>
                    </a:lnTo>
                    <a:lnTo>
                      <a:pt x="1291" y="49"/>
                    </a:lnTo>
                    <a:lnTo>
                      <a:pt x="1438" y="1"/>
                    </a:lnTo>
                    <a:lnTo>
                      <a:pt x="1608" y="1"/>
                    </a:lnTo>
                    <a:lnTo>
                      <a:pt x="1949" y="25"/>
                    </a:lnTo>
                    <a:lnTo>
                      <a:pt x="2241" y="98"/>
                    </a:lnTo>
                    <a:lnTo>
                      <a:pt x="2509" y="220"/>
                    </a:lnTo>
                    <a:lnTo>
                      <a:pt x="2753" y="390"/>
                    </a:lnTo>
                    <a:lnTo>
                      <a:pt x="2948" y="585"/>
                    </a:lnTo>
                    <a:lnTo>
                      <a:pt x="3118" y="804"/>
                    </a:lnTo>
                    <a:lnTo>
                      <a:pt x="3167" y="926"/>
                    </a:lnTo>
                    <a:lnTo>
                      <a:pt x="3191" y="1048"/>
                    </a:lnTo>
                    <a:lnTo>
                      <a:pt x="3215" y="1170"/>
                    </a:lnTo>
                    <a:lnTo>
                      <a:pt x="3240" y="1316"/>
                    </a:lnTo>
                    <a:lnTo>
                      <a:pt x="3215" y="1438"/>
                    </a:lnTo>
                    <a:lnTo>
                      <a:pt x="3191" y="1559"/>
                    </a:lnTo>
                    <a:lnTo>
                      <a:pt x="3167" y="1706"/>
                    </a:lnTo>
                    <a:lnTo>
                      <a:pt x="3118" y="1803"/>
                    </a:lnTo>
                    <a:lnTo>
                      <a:pt x="2948" y="2047"/>
                    </a:lnTo>
                    <a:lnTo>
                      <a:pt x="2753" y="2217"/>
                    </a:lnTo>
                    <a:lnTo>
                      <a:pt x="2509" y="2388"/>
                    </a:lnTo>
                    <a:lnTo>
                      <a:pt x="2241" y="2509"/>
                    </a:lnTo>
                    <a:lnTo>
                      <a:pt x="1949" y="2582"/>
                    </a:lnTo>
                    <a:lnTo>
                      <a:pt x="1608" y="2607"/>
                    </a:lnTo>
                  </a:path>
                </a:pathLst>
              </a:custGeom>
              <a:noFill/>
              <a:ln cap="rnd" w="12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-6480" bIns="-6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238" name="TextBox 40"/>
          <p:cNvSpPr/>
          <p:nvPr/>
        </p:nvSpPr>
        <p:spPr>
          <a:xfrm>
            <a:off x="3247920" y="4349880"/>
            <a:ext cx="27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info@chiro74.ru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39" name="TextBox 41"/>
          <p:cNvSpPr/>
          <p:nvPr/>
        </p:nvSpPr>
        <p:spPr>
          <a:xfrm>
            <a:off x="5226120" y="4356000"/>
            <a:ext cx="314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8 (351) 217 30 89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40" name="TextBox 43"/>
          <p:cNvSpPr/>
          <p:nvPr/>
        </p:nvSpPr>
        <p:spPr>
          <a:xfrm>
            <a:off x="2774880" y="2052720"/>
            <a:ext cx="6112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454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111, г. Челябинск, ул. Комсомольская, д. 20А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454087, г. Челябинск, ул. Блюхера, д. 9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454091, г. Челябинск, ул. Красноармейская, д. 88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454048, г. Челябинск, ул. Худякова, д. 20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41" name="Google Shape;59;g142ea23b5d2_0_0"/>
          <p:cNvSpPr/>
          <p:nvPr/>
        </p:nvSpPr>
        <p:spPr>
          <a:xfrm>
            <a:off x="3944880" y="4637160"/>
            <a:ext cx="36594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121680" bIns="121680" anchor="t">
            <a:spAutoFit/>
          </a:bodyPr>
          <a:p>
            <a:pPr marL="15840" algn="ctr">
              <a:lnSpc>
                <a:spcPct val="150000"/>
              </a:lnSpc>
              <a:spcBef>
                <a:spcPts val="1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03864"/>
                </a:solidFill>
                <a:latin typeface="Calibri"/>
                <a:ea typeface="Jost"/>
              </a:rPr>
              <a:t>МЫ В СОЦИАЛЬНЫХ СЕТЯХ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242" name="Группа 5"/>
          <p:cNvGrpSpPr/>
          <p:nvPr/>
        </p:nvGrpSpPr>
        <p:grpSpPr>
          <a:xfrm>
            <a:off x="6307200" y="3443400"/>
            <a:ext cx="984240" cy="903240"/>
            <a:chOff x="6307200" y="3443400"/>
            <a:chExt cx="984240" cy="903240"/>
          </a:xfrm>
        </p:grpSpPr>
        <p:sp>
          <p:nvSpPr>
            <p:cNvPr id="1243" name="Прямоугольник 53"/>
            <p:cNvSpPr/>
            <p:nvPr/>
          </p:nvSpPr>
          <p:spPr>
            <a:xfrm>
              <a:off x="6307200" y="3443400"/>
              <a:ext cx="984240" cy="903240"/>
            </a:xfrm>
            <a:prstGeom prst="rect">
              <a:avLst/>
            </a:prstGeom>
            <a:solidFill>
              <a:srgbClr val="264796"/>
            </a:solidFill>
            <a:ln w="6480">
              <a:solidFill>
                <a:srgbClr val="4472c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1244" name="Google Shape;653;p43"/>
            <p:cNvSpPr/>
            <p:nvPr/>
          </p:nvSpPr>
          <p:spPr>
            <a:xfrm>
              <a:off x="6585480" y="3562920"/>
              <a:ext cx="427320" cy="679320"/>
            </a:xfrm>
            <a:custGeom>
              <a:avLst/>
              <a:gdLst/>
              <a:ahLst/>
              <a:rect l="l" t="t" r="r" b="b"/>
              <a:pathLst>
                <a:path fill="none" w="11838" h="20508">
                  <a:moveTo>
                    <a:pt x="10547" y="1"/>
                  </a:moveTo>
                  <a:lnTo>
                    <a:pt x="1292" y="1"/>
                  </a:lnTo>
                  <a:lnTo>
                    <a:pt x="1024" y="25"/>
                  </a:lnTo>
                  <a:lnTo>
                    <a:pt x="780" y="98"/>
                  </a:lnTo>
                  <a:lnTo>
                    <a:pt x="561" y="220"/>
                  </a:lnTo>
                  <a:lnTo>
                    <a:pt x="366" y="366"/>
                  </a:lnTo>
                  <a:lnTo>
                    <a:pt x="220" y="561"/>
                  </a:lnTo>
                  <a:lnTo>
                    <a:pt x="98" y="780"/>
                  </a:lnTo>
                  <a:lnTo>
                    <a:pt x="25" y="1024"/>
                  </a:lnTo>
                  <a:lnTo>
                    <a:pt x="1" y="1292"/>
                  </a:lnTo>
                  <a:lnTo>
                    <a:pt x="1" y="19217"/>
                  </a:lnTo>
                  <a:lnTo>
                    <a:pt x="25" y="19485"/>
                  </a:lnTo>
                  <a:lnTo>
                    <a:pt x="98" y="19728"/>
                  </a:lnTo>
                  <a:lnTo>
                    <a:pt x="220" y="19948"/>
                  </a:lnTo>
                  <a:lnTo>
                    <a:pt x="366" y="20142"/>
                  </a:lnTo>
                  <a:lnTo>
                    <a:pt x="561" y="20289"/>
                  </a:lnTo>
                  <a:lnTo>
                    <a:pt x="780" y="20410"/>
                  </a:lnTo>
                  <a:lnTo>
                    <a:pt x="1024" y="20483"/>
                  </a:lnTo>
                  <a:lnTo>
                    <a:pt x="1292" y="20508"/>
                  </a:lnTo>
                  <a:lnTo>
                    <a:pt x="10547" y="20508"/>
                  </a:lnTo>
                  <a:lnTo>
                    <a:pt x="10814" y="20483"/>
                  </a:lnTo>
                  <a:lnTo>
                    <a:pt x="11058" y="20410"/>
                  </a:lnTo>
                  <a:lnTo>
                    <a:pt x="11277" y="20289"/>
                  </a:lnTo>
                  <a:lnTo>
                    <a:pt x="11472" y="20142"/>
                  </a:lnTo>
                  <a:lnTo>
                    <a:pt x="11618" y="19948"/>
                  </a:lnTo>
                  <a:lnTo>
                    <a:pt x="11740" y="19728"/>
                  </a:lnTo>
                  <a:lnTo>
                    <a:pt x="11813" y="19485"/>
                  </a:lnTo>
                  <a:lnTo>
                    <a:pt x="11837" y="19217"/>
                  </a:lnTo>
                  <a:lnTo>
                    <a:pt x="11837" y="1292"/>
                  </a:lnTo>
                  <a:lnTo>
                    <a:pt x="11813" y="1024"/>
                  </a:lnTo>
                  <a:lnTo>
                    <a:pt x="11740" y="780"/>
                  </a:lnTo>
                  <a:lnTo>
                    <a:pt x="11618" y="561"/>
                  </a:lnTo>
                  <a:lnTo>
                    <a:pt x="11472" y="366"/>
                  </a:lnTo>
                  <a:lnTo>
                    <a:pt x="11277" y="220"/>
                  </a:lnTo>
                  <a:lnTo>
                    <a:pt x="11058" y="98"/>
                  </a:lnTo>
                  <a:lnTo>
                    <a:pt x="10814" y="25"/>
                  </a:lnTo>
                  <a:lnTo>
                    <a:pt x="10547" y="1"/>
                  </a:lnTo>
                  <a:close/>
                  <a:moveTo>
                    <a:pt x="5554" y="975"/>
                  </a:moveTo>
                  <a:lnTo>
                    <a:pt x="6284" y="975"/>
                  </a:lnTo>
                  <a:lnTo>
                    <a:pt x="6406" y="999"/>
                  </a:lnTo>
                  <a:lnTo>
                    <a:pt x="6479" y="1073"/>
                  </a:lnTo>
                  <a:lnTo>
                    <a:pt x="6552" y="1146"/>
                  </a:lnTo>
                  <a:lnTo>
                    <a:pt x="6577" y="1267"/>
                  </a:lnTo>
                  <a:lnTo>
                    <a:pt x="6552" y="1365"/>
                  </a:lnTo>
                  <a:lnTo>
                    <a:pt x="6479" y="1462"/>
                  </a:lnTo>
                  <a:lnTo>
                    <a:pt x="6406" y="1511"/>
                  </a:lnTo>
                  <a:lnTo>
                    <a:pt x="6284" y="1535"/>
                  </a:lnTo>
                  <a:lnTo>
                    <a:pt x="5554" y="1535"/>
                  </a:lnTo>
                  <a:lnTo>
                    <a:pt x="5432" y="1511"/>
                  </a:lnTo>
                  <a:lnTo>
                    <a:pt x="5359" y="1462"/>
                  </a:lnTo>
                  <a:lnTo>
                    <a:pt x="5286" y="1365"/>
                  </a:lnTo>
                  <a:lnTo>
                    <a:pt x="5262" y="1267"/>
                  </a:lnTo>
                  <a:lnTo>
                    <a:pt x="5286" y="1146"/>
                  </a:lnTo>
                  <a:lnTo>
                    <a:pt x="5359" y="1073"/>
                  </a:lnTo>
                  <a:lnTo>
                    <a:pt x="5432" y="999"/>
                  </a:lnTo>
                  <a:lnTo>
                    <a:pt x="5554" y="975"/>
                  </a:lnTo>
                  <a:close/>
                  <a:moveTo>
                    <a:pt x="5919" y="19436"/>
                  </a:moveTo>
                  <a:lnTo>
                    <a:pt x="5919" y="19436"/>
                  </a:lnTo>
                  <a:lnTo>
                    <a:pt x="5749" y="19412"/>
                  </a:lnTo>
                  <a:lnTo>
                    <a:pt x="5578" y="19363"/>
                  </a:lnTo>
                  <a:lnTo>
                    <a:pt x="5432" y="19290"/>
                  </a:lnTo>
                  <a:lnTo>
                    <a:pt x="5310" y="19193"/>
                  </a:lnTo>
                  <a:lnTo>
                    <a:pt x="5213" y="19071"/>
                  </a:lnTo>
                  <a:lnTo>
                    <a:pt x="5140" y="18925"/>
                  </a:lnTo>
                  <a:lnTo>
                    <a:pt x="5091" y="18754"/>
                  </a:lnTo>
                  <a:lnTo>
                    <a:pt x="5067" y="18584"/>
                  </a:lnTo>
                  <a:lnTo>
                    <a:pt x="5091" y="18413"/>
                  </a:lnTo>
                  <a:lnTo>
                    <a:pt x="5140" y="18243"/>
                  </a:lnTo>
                  <a:lnTo>
                    <a:pt x="5213" y="18097"/>
                  </a:lnTo>
                  <a:lnTo>
                    <a:pt x="5310" y="17975"/>
                  </a:lnTo>
                  <a:lnTo>
                    <a:pt x="5432" y="17877"/>
                  </a:lnTo>
                  <a:lnTo>
                    <a:pt x="5578" y="17804"/>
                  </a:lnTo>
                  <a:lnTo>
                    <a:pt x="5749" y="17756"/>
                  </a:lnTo>
                  <a:lnTo>
                    <a:pt x="5919" y="17731"/>
                  </a:lnTo>
                  <a:lnTo>
                    <a:pt x="6090" y="17756"/>
                  </a:lnTo>
                  <a:lnTo>
                    <a:pt x="6260" y="17804"/>
                  </a:lnTo>
                  <a:lnTo>
                    <a:pt x="6406" y="17877"/>
                  </a:lnTo>
                  <a:lnTo>
                    <a:pt x="6528" y="17975"/>
                  </a:lnTo>
                  <a:lnTo>
                    <a:pt x="6625" y="18097"/>
                  </a:lnTo>
                  <a:lnTo>
                    <a:pt x="6699" y="18243"/>
                  </a:lnTo>
                  <a:lnTo>
                    <a:pt x="6747" y="18413"/>
                  </a:lnTo>
                  <a:lnTo>
                    <a:pt x="6772" y="18584"/>
                  </a:lnTo>
                  <a:lnTo>
                    <a:pt x="6747" y="18754"/>
                  </a:lnTo>
                  <a:lnTo>
                    <a:pt x="6699" y="18925"/>
                  </a:lnTo>
                  <a:lnTo>
                    <a:pt x="6625" y="19071"/>
                  </a:lnTo>
                  <a:lnTo>
                    <a:pt x="6528" y="19193"/>
                  </a:lnTo>
                  <a:lnTo>
                    <a:pt x="6406" y="19290"/>
                  </a:lnTo>
                  <a:lnTo>
                    <a:pt x="6260" y="19363"/>
                  </a:lnTo>
                  <a:lnTo>
                    <a:pt x="6090" y="19412"/>
                  </a:lnTo>
                  <a:lnTo>
                    <a:pt x="5919" y="19436"/>
                  </a:lnTo>
                  <a:close/>
                  <a:moveTo>
                    <a:pt x="10547" y="16660"/>
                  </a:moveTo>
                  <a:lnTo>
                    <a:pt x="1292" y="16660"/>
                  </a:lnTo>
                  <a:lnTo>
                    <a:pt x="1292" y="2558"/>
                  </a:lnTo>
                  <a:lnTo>
                    <a:pt x="10547" y="2558"/>
                  </a:lnTo>
                  <a:lnTo>
                    <a:pt x="10547" y="16660"/>
                  </a:lnTo>
                  <a:close/>
                </a:path>
              </a:pathLst>
            </a:custGeom>
            <a:noFill/>
            <a:ln cap="rnd" w="12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91080" bIns="91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grpSp>
        <p:nvGrpSpPr>
          <p:cNvPr id="1245" name="Группа 6"/>
          <p:cNvGrpSpPr/>
          <p:nvPr/>
        </p:nvGrpSpPr>
        <p:grpSpPr>
          <a:xfrm>
            <a:off x="2048760" y="5133960"/>
            <a:ext cx="8094960" cy="1638720"/>
            <a:chOff x="2048760" y="5133960"/>
            <a:chExt cx="8094960" cy="1638720"/>
          </a:xfrm>
        </p:grpSpPr>
        <p:pic>
          <p:nvPicPr>
            <p:cNvPr id="1246" name="Picture 2" descr="http://qrcoder.ru/code/?https%3A%2F%2Frcokio.ru%2F&amp;4&amp;0"/>
            <p:cNvPicPr/>
            <p:nvPr/>
          </p:nvPicPr>
          <p:blipFill>
            <a:blip r:embed="rId2"/>
            <a:stretch/>
          </p:blipFill>
          <p:spPr>
            <a:xfrm>
              <a:off x="2153160" y="5217480"/>
              <a:ext cx="1267200" cy="126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7" name="TextBox 1"/>
            <p:cNvSpPr/>
            <p:nvPr/>
          </p:nvSpPr>
          <p:spPr>
            <a:xfrm>
              <a:off x="2048760" y="6483240"/>
              <a:ext cx="1476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Calibri"/>
                </a:rPr>
                <a:t>сайт ГБУ ДПО ЧИРО</a:t>
              </a:r>
              <a:endParaRPr b="0" lang="en-US" sz="12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1248" name="TextBox 49"/>
            <p:cNvSpPr/>
            <p:nvPr/>
          </p:nvSpPr>
          <p:spPr>
            <a:xfrm>
              <a:off x="4250520" y="6483240"/>
              <a:ext cx="1244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Calibri"/>
                </a:rPr>
                <a:t>Телеграм-канал</a:t>
              </a:r>
              <a:endParaRPr b="0" lang="en-US" sz="12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1249" name="TextBox 50"/>
            <p:cNvSpPr/>
            <p:nvPr/>
          </p:nvSpPr>
          <p:spPr>
            <a:xfrm>
              <a:off x="6061320" y="6483240"/>
              <a:ext cx="1809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Calibri"/>
                </a:rPr>
                <a:t>Сообщество в ВКонтакте</a:t>
              </a:r>
              <a:endParaRPr b="0" lang="en-US" sz="12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pic>
          <p:nvPicPr>
            <p:cNvPr id="1250" name="Рисунок 2" descr=""/>
            <p:cNvPicPr/>
            <p:nvPr/>
          </p:nvPicPr>
          <p:blipFill>
            <a:blip r:embed="rId3">
              <a:biLevel thresh="50000"/>
            </a:blip>
            <a:stretch/>
          </p:blipFill>
          <p:spPr>
            <a:xfrm>
              <a:off x="6279480" y="5133960"/>
              <a:ext cx="1374480" cy="1374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1" name="Рисунок 3" descr=""/>
            <p:cNvPicPr/>
            <p:nvPr/>
          </p:nvPicPr>
          <p:blipFill>
            <a:blip r:embed="rId4"/>
            <a:srcRect l="17901" t="3970" r="16637" b="5413"/>
            <a:stretch/>
          </p:blipFill>
          <p:spPr>
            <a:xfrm>
              <a:off x="4239720" y="5231520"/>
              <a:ext cx="1267200" cy="117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2" name="Рисунок 4" descr=""/>
            <p:cNvPicPr/>
            <p:nvPr/>
          </p:nvPicPr>
          <p:blipFill>
            <a:blip r:embed="rId5"/>
            <a:stretch/>
          </p:blipFill>
          <p:spPr>
            <a:xfrm>
              <a:off x="8339760" y="5133960"/>
              <a:ext cx="1375200" cy="137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3" name="TextBox 42"/>
            <p:cNvSpPr/>
            <p:nvPr/>
          </p:nvSpPr>
          <p:spPr>
            <a:xfrm>
              <a:off x="7910280" y="6496200"/>
              <a:ext cx="2233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Calibri"/>
                </a:rPr>
                <a:t>Сообщество в Одноклассниках</a:t>
              </a:r>
              <a:endParaRPr b="0" lang="en-US" sz="12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pic>
        <p:nvPicPr>
          <p:cNvPr id="1254" name="Рисунок 12" descr=""/>
          <p:cNvPicPr/>
          <p:nvPr/>
        </p:nvPicPr>
        <p:blipFill>
          <a:blip r:embed="rId6"/>
          <a:stretch/>
        </p:blipFill>
        <p:spPr>
          <a:xfrm>
            <a:off x="9028080" y="157320"/>
            <a:ext cx="2594160" cy="1118880"/>
          </a:xfrm>
          <a:prstGeom prst="rect">
            <a:avLst/>
          </a:prstGeom>
          <a:ln w="0">
            <a:noFill/>
          </a:ln>
        </p:spPr>
      </p:pic>
      <p:sp>
        <p:nvSpPr>
          <p:cNvPr id="1255" name="PlaceHolder 1"/>
          <p:cNvSpPr>
            <a:spLocks noGrp="1"/>
          </p:cNvSpPr>
          <p:nvPr>
            <p:ph type="dt" idx="58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6" name="PlaceHolder 2"/>
          <p:cNvSpPr>
            <a:spLocks noGrp="1"/>
          </p:cNvSpPr>
          <p:nvPr>
            <p:ph type="ftr" idx="5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7" name="PlaceHolder 3"/>
          <p:cNvSpPr>
            <a:spLocks noGrp="1"/>
          </p:cNvSpPr>
          <p:nvPr>
            <p:ph type="sldNum" idx="60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2130B-8FD5-4AD8-A0CD-AFA2CFB88CE7}" type="slidenum">
              <a:rPr b="0" lang="ru-RU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7"/>
    <p:sldLayoutId id="2147483923" r:id="rId8"/>
    <p:sldLayoutId id="2147483924" r:id="rId9"/>
    <p:sldLayoutId id="2147483925" r:id="rId10"/>
    <p:sldLayoutId id="2147483926" r:id="rId11"/>
    <p:sldLayoutId id="2147483927" r:id="rId12"/>
    <p:sldLayoutId id="2147483928" r:id="rId13"/>
    <p:sldLayoutId id="2147483929" r:id="rId14"/>
    <p:sldLayoutId id="2147483930" r:id="rId15"/>
    <p:sldLayoutId id="2147483931" r:id="rId16"/>
    <p:sldLayoutId id="2147483932" r:id="rId17"/>
    <p:sldLayoutId id="2147483933" r:id="rId18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Блок-схема: данные 4"/>
          <p:cNvSpPr/>
          <p:nvPr/>
        </p:nvSpPr>
        <p:spPr>
          <a:xfrm>
            <a:off x="0" y="0"/>
            <a:ext cx="8861400" cy="83988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0" y="10000"/>
                </a:moveTo>
                <a:cubicBezTo>
                  <a:pt x="12" y="6637"/>
                  <a:pt x="-4" y="3363"/>
                  <a:pt x="8" y="0"/>
                </a:cubicBezTo>
                <a:lnTo>
                  <a:pt x="10000" y="0"/>
                </a:lnTo>
                <a:lnTo>
                  <a:pt x="8563" y="10000"/>
                </a:lnTo>
                <a:lnTo>
                  <a:pt x="0" y="10000"/>
                </a:lnTo>
                <a:close/>
              </a:path>
            </a:pathLst>
          </a:custGeom>
          <a:solidFill>
            <a:srgbClr val="e31e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5" name="Блок-схема: данные 4"/>
          <p:cNvSpPr/>
          <p:nvPr/>
        </p:nvSpPr>
        <p:spPr>
          <a:xfrm>
            <a:off x="0" y="0"/>
            <a:ext cx="8791560" cy="80640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0" y="10000"/>
                </a:moveTo>
                <a:cubicBezTo>
                  <a:pt x="12" y="6637"/>
                  <a:pt x="-4" y="3363"/>
                  <a:pt x="8" y="0"/>
                </a:cubicBezTo>
                <a:lnTo>
                  <a:pt x="10000" y="0"/>
                </a:lnTo>
                <a:lnTo>
                  <a:pt x="8563" y="10000"/>
                </a:lnTo>
                <a:lnTo>
                  <a:pt x="0" y="10000"/>
                </a:lnTo>
                <a:close/>
              </a:path>
            </a:pathLst>
          </a:custGeom>
          <a:solidFill>
            <a:srgbClr val="2647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6" name="TextBox 10"/>
          <p:cNvSpPr/>
          <p:nvPr/>
        </p:nvSpPr>
        <p:spPr>
          <a:xfrm>
            <a:off x="-525600" y="157320"/>
            <a:ext cx="80582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Государственное бюджетное учреждение дополнительного профессионального образования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«Челябинский институт развития образования»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7" name="Прямоугольник 11"/>
          <p:cNvSpPr/>
          <p:nvPr/>
        </p:nvSpPr>
        <p:spPr>
          <a:xfrm>
            <a:off x="4119480" y="3444840"/>
            <a:ext cx="946080" cy="905040"/>
          </a:xfrm>
          <a:prstGeom prst="rect">
            <a:avLst/>
          </a:prstGeom>
          <a:solidFill>
            <a:srgbClr val="264796"/>
          </a:solidFill>
          <a:ln w="6480">
            <a:solidFill>
              <a:srgbClr val="4472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298" name="Google Shape;559;p43"/>
          <p:cNvGrpSpPr/>
          <p:nvPr/>
        </p:nvGrpSpPr>
        <p:grpSpPr>
          <a:xfrm>
            <a:off x="4321080" y="3598920"/>
            <a:ext cx="573120" cy="552240"/>
            <a:chOff x="4321080" y="3598920"/>
            <a:chExt cx="573120" cy="552240"/>
          </a:xfrm>
        </p:grpSpPr>
        <p:sp>
          <p:nvSpPr>
            <p:cNvPr id="1299" name="Google Shape;560;p43"/>
            <p:cNvSpPr/>
            <p:nvPr/>
          </p:nvSpPr>
          <p:spPr>
            <a:xfrm>
              <a:off x="4321080" y="3598920"/>
              <a:ext cx="573120" cy="540000"/>
            </a:xfrm>
            <a:custGeom>
              <a:avLst/>
              <a:gdLst/>
              <a:ahLst/>
              <a:rect l="l" t="t" r="r" b="b"/>
              <a:pathLst>
                <a:path fill="none" w="18608" h="17805">
                  <a:moveTo>
                    <a:pt x="13493" y="14127"/>
                  </a:moveTo>
                  <a:lnTo>
                    <a:pt x="18608" y="17804"/>
                  </a:lnTo>
                  <a:lnTo>
                    <a:pt x="18608" y="17731"/>
                  </a:lnTo>
                  <a:lnTo>
                    <a:pt x="18608" y="6723"/>
                  </a:lnTo>
                  <a:lnTo>
                    <a:pt x="9304" y="1"/>
                  </a:lnTo>
                  <a:lnTo>
                    <a:pt x="1" y="6723"/>
                  </a:lnTo>
                  <a:lnTo>
                    <a:pt x="1" y="17731"/>
                  </a:lnTo>
                  <a:lnTo>
                    <a:pt x="1" y="17804"/>
                  </a:lnTo>
                  <a:lnTo>
                    <a:pt x="5115" y="14127"/>
                  </a:lnTo>
                </a:path>
              </a:pathLst>
            </a:custGeom>
            <a:noFill/>
            <a:ln cap="rnd" w="12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91080" bIns="91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1300" name="Google Shape;561;p43"/>
            <p:cNvSpPr/>
            <p:nvPr/>
          </p:nvSpPr>
          <p:spPr>
            <a:xfrm>
              <a:off x="4330800" y="4150440"/>
              <a:ext cx="553680" cy="720"/>
            </a:xfrm>
            <a:custGeom>
              <a:avLst/>
              <a:gdLst/>
              <a:ahLst/>
              <a:rect l="l" t="t" r="r" b="b"/>
              <a:pathLst>
                <a:path fill="none" w="17975" h="25">
                  <a:moveTo>
                    <a:pt x="0" y="0"/>
                  </a:moveTo>
                  <a:lnTo>
                    <a:pt x="0" y="0"/>
                  </a:lnTo>
                  <a:lnTo>
                    <a:pt x="98" y="0"/>
                  </a:lnTo>
                  <a:lnTo>
                    <a:pt x="171" y="24"/>
                  </a:lnTo>
                  <a:lnTo>
                    <a:pt x="17804" y="24"/>
                  </a:lnTo>
                  <a:lnTo>
                    <a:pt x="17877" y="0"/>
                  </a:lnTo>
                  <a:lnTo>
                    <a:pt x="17974" y="0"/>
                  </a:lnTo>
                </a:path>
              </a:pathLst>
            </a:custGeom>
            <a:noFill/>
            <a:ln cap="rnd" w="12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90360" bIns="-90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1301" name="Google Shape;562;p43"/>
            <p:cNvSpPr/>
            <p:nvPr/>
          </p:nvSpPr>
          <p:spPr>
            <a:xfrm>
              <a:off x="4321080" y="3802680"/>
              <a:ext cx="573120" cy="208080"/>
            </a:xfrm>
            <a:custGeom>
              <a:avLst/>
              <a:gdLst/>
              <a:ahLst/>
              <a:rect l="l" t="t" r="r" b="b"/>
              <a:pathLst>
                <a:path fill="none" w="18608" h="6869">
                  <a:moveTo>
                    <a:pt x="18608" y="1"/>
                  </a:moveTo>
                  <a:lnTo>
                    <a:pt x="9450" y="6820"/>
                  </a:lnTo>
                  <a:lnTo>
                    <a:pt x="9377" y="6845"/>
                  </a:lnTo>
                  <a:lnTo>
                    <a:pt x="9304" y="6869"/>
                  </a:lnTo>
                  <a:lnTo>
                    <a:pt x="9231" y="6845"/>
                  </a:lnTo>
                  <a:lnTo>
                    <a:pt x="9158" y="6820"/>
                  </a:lnTo>
                  <a:lnTo>
                    <a:pt x="1" y="1"/>
                  </a:lnTo>
                </a:path>
              </a:pathLst>
            </a:custGeom>
            <a:noFill/>
            <a:ln cap="rnd" w="12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91080" bIns="91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1302" name="Google Shape;563;p43"/>
            <p:cNvSpPr/>
            <p:nvPr/>
          </p:nvSpPr>
          <p:spPr>
            <a:xfrm>
              <a:off x="4435560" y="3752280"/>
              <a:ext cx="343800" cy="134280"/>
            </a:xfrm>
            <a:custGeom>
              <a:avLst/>
              <a:gdLst/>
              <a:ahLst/>
              <a:rect l="l" t="t" r="r" b="b"/>
              <a:pathLst>
                <a:path fill="none" w="11156" h="4434">
                  <a:moveTo>
                    <a:pt x="1" y="4433"/>
                  </a:moveTo>
                  <a:lnTo>
                    <a:pt x="1" y="1"/>
                  </a:lnTo>
                  <a:lnTo>
                    <a:pt x="11155" y="1"/>
                  </a:lnTo>
                  <a:lnTo>
                    <a:pt x="11155" y="4433"/>
                  </a:lnTo>
                </a:path>
              </a:pathLst>
            </a:custGeom>
            <a:noFill/>
            <a:ln cap="rnd" w="12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3200" bIns="43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1303" name="Google Shape;564;p43"/>
            <p:cNvSpPr/>
            <p:nvPr/>
          </p:nvSpPr>
          <p:spPr>
            <a:xfrm>
              <a:off x="4525200" y="3824640"/>
              <a:ext cx="164880" cy="360"/>
            </a:xfrm>
            <a:custGeom>
              <a:avLst/>
              <a:gdLst/>
              <a:ahLst/>
              <a:rect l="l" t="t" r="r" b="b"/>
              <a:pathLst>
                <a:path fill="none" w="5359" h="1">
                  <a:moveTo>
                    <a:pt x="0" y="0"/>
                  </a:moveTo>
                  <a:lnTo>
                    <a:pt x="5358" y="0"/>
                  </a:lnTo>
                </a:path>
              </a:pathLst>
            </a:custGeom>
            <a:noFill/>
            <a:ln cap="rnd" w="12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90720" bIns="-90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1304" name="Google Shape;565;p43"/>
            <p:cNvSpPr/>
            <p:nvPr/>
          </p:nvSpPr>
          <p:spPr>
            <a:xfrm>
              <a:off x="4525200" y="3866040"/>
              <a:ext cx="164880" cy="360"/>
            </a:xfrm>
            <a:custGeom>
              <a:avLst/>
              <a:gdLst/>
              <a:ahLst/>
              <a:rect l="l" t="t" r="r" b="b"/>
              <a:pathLst>
                <a:path fill="none" w="5359" h="1">
                  <a:moveTo>
                    <a:pt x="0" y="0"/>
                  </a:moveTo>
                  <a:lnTo>
                    <a:pt x="5358" y="0"/>
                  </a:lnTo>
                </a:path>
              </a:pathLst>
            </a:custGeom>
            <a:noFill/>
            <a:ln cap="rnd" w="12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90720" bIns="-90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1305" name="Google Shape;566;p43"/>
            <p:cNvSpPr/>
            <p:nvPr/>
          </p:nvSpPr>
          <p:spPr>
            <a:xfrm>
              <a:off x="4525200" y="3907440"/>
              <a:ext cx="104760" cy="360"/>
            </a:xfrm>
            <a:custGeom>
              <a:avLst/>
              <a:gdLst/>
              <a:ahLst/>
              <a:rect l="l" t="t" r="r" b="b"/>
              <a:pathLst>
                <a:path fill="none" w="3410" h="1">
                  <a:moveTo>
                    <a:pt x="0" y="0"/>
                  </a:moveTo>
                  <a:lnTo>
                    <a:pt x="3410" y="0"/>
                  </a:lnTo>
                </a:path>
              </a:pathLst>
            </a:custGeom>
            <a:noFill/>
            <a:ln cap="rnd" w="12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90720" bIns="-90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grpSp>
        <p:nvGrpSpPr>
          <p:cNvPr id="1306" name="Группа 65"/>
          <p:cNvGrpSpPr/>
          <p:nvPr/>
        </p:nvGrpSpPr>
        <p:grpSpPr>
          <a:xfrm>
            <a:off x="5305320" y="1104840"/>
            <a:ext cx="916200" cy="835200"/>
            <a:chOff x="5305320" y="1104840"/>
            <a:chExt cx="916200" cy="835200"/>
          </a:xfrm>
        </p:grpSpPr>
        <p:sp>
          <p:nvSpPr>
            <p:cNvPr id="1307" name="Прямоугольник 23"/>
            <p:cNvSpPr/>
            <p:nvPr/>
          </p:nvSpPr>
          <p:spPr>
            <a:xfrm>
              <a:off x="5305320" y="1104840"/>
              <a:ext cx="916200" cy="835200"/>
            </a:xfrm>
            <a:prstGeom prst="rect">
              <a:avLst/>
            </a:prstGeom>
            <a:solidFill>
              <a:srgbClr val="264796"/>
            </a:solidFill>
            <a:ln w="0">
              <a:noFill/>
            </a:ln>
            <a:effectLst>
              <a:outerShdw dist="19080" dir="5400000" blurRad="0" rotWithShape="0">
                <a:srgbClr val="000000">
                  <a:alpha val="6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grpSp>
          <p:nvGrpSpPr>
            <p:cNvPr id="1308" name="Google Shape;732;p43"/>
            <p:cNvGrpSpPr/>
            <p:nvPr/>
          </p:nvGrpSpPr>
          <p:grpSpPr>
            <a:xfrm>
              <a:off x="5464080" y="1296360"/>
              <a:ext cx="609480" cy="502920"/>
              <a:chOff x="5464080" y="1296360"/>
              <a:chExt cx="609480" cy="502920"/>
            </a:xfrm>
          </p:grpSpPr>
          <p:sp>
            <p:nvSpPr>
              <p:cNvPr id="1309" name="Google Shape;733;p43"/>
              <p:cNvSpPr/>
              <p:nvPr/>
            </p:nvSpPr>
            <p:spPr>
              <a:xfrm>
                <a:off x="5963760" y="1731240"/>
                <a:ext cx="85320" cy="68040"/>
              </a:xfrm>
              <a:custGeom>
                <a:avLst/>
                <a:gdLst/>
                <a:ahLst/>
                <a:rect l="l" t="t" r="r" b="b"/>
                <a:pathLst>
                  <a:path fill="none" w="2631" h="2096">
                    <a:moveTo>
                      <a:pt x="1" y="1"/>
                    </a:moveTo>
                    <a:lnTo>
                      <a:pt x="1" y="780"/>
                    </a:lnTo>
                    <a:lnTo>
                      <a:pt x="25" y="1048"/>
                    </a:lnTo>
                    <a:lnTo>
                      <a:pt x="122" y="1291"/>
                    </a:lnTo>
                    <a:lnTo>
                      <a:pt x="244" y="1511"/>
                    </a:lnTo>
                    <a:lnTo>
                      <a:pt x="390" y="1705"/>
                    </a:lnTo>
                    <a:lnTo>
                      <a:pt x="585" y="1852"/>
                    </a:lnTo>
                    <a:lnTo>
                      <a:pt x="804" y="1973"/>
                    </a:lnTo>
                    <a:lnTo>
                      <a:pt x="1048" y="2071"/>
                    </a:lnTo>
                    <a:lnTo>
                      <a:pt x="1316" y="2095"/>
                    </a:lnTo>
                    <a:lnTo>
                      <a:pt x="1584" y="2071"/>
                    </a:lnTo>
                    <a:lnTo>
                      <a:pt x="1827" y="1973"/>
                    </a:lnTo>
                    <a:lnTo>
                      <a:pt x="2046" y="1852"/>
                    </a:lnTo>
                    <a:lnTo>
                      <a:pt x="2241" y="1705"/>
                    </a:lnTo>
                    <a:lnTo>
                      <a:pt x="2412" y="1511"/>
                    </a:lnTo>
                    <a:lnTo>
                      <a:pt x="2533" y="1291"/>
                    </a:lnTo>
                    <a:lnTo>
                      <a:pt x="2607" y="1048"/>
                    </a:lnTo>
                    <a:lnTo>
                      <a:pt x="2631" y="780"/>
                    </a:lnTo>
                    <a:lnTo>
                      <a:pt x="2631" y="1"/>
                    </a:lnTo>
                  </a:path>
                </a:pathLst>
              </a:custGeom>
              <a:noFill/>
              <a:ln cap="rnd" w="12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-23040" bIns="-23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  <p:sp>
            <p:nvSpPr>
              <p:cNvPr id="1310" name="Google Shape;734;p43"/>
              <p:cNvSpPr/>
              <p:nvPr/>
            </p:nvSpPr>
            <p:spPr>
              <a:xfrm>
                <a:off x="5488560" y="1731240"/>
                <a:ext cx="85320" cy="68040"/>
              </a:xfrm>
              <a:custGeom>
                <a:avLst/>
                <a:gdLst/>
                <a:ahLst/>
                <a:rect l="l" t="t" r="r" b="b"/>
                <a:pathLst>
                  <a:path fill="none" w="2631" h="2096">
                    <a:moveTo>
                      <a:pt x="1" y="1"/>
                    </a:moveTo>
                    <a:lnTo>
                      <a:pt x="1" y="780"/>
                    </a:lnTo>
                    <a:lnTo>
                      <a:pt x="25" y="1048"/>
                    </a:lnTo>
                    <a:lnTo>
                      <a:pt x="98" y="1291"/>
                    </a:lnTo>
                    <a:lnTo>
                      <a:pt x="220" y="1511"/>
                    </a:lnTo>
                    <a:lnTo>
                      <a:pt x="390" y="1705"/>
                    </a:lnTo>
                    <a:lnTo>
                      <a:pt x="585" y="1852"/>
                    </a:lnTo>
                    <a:lnTo>
                      <a:pt x="804" y="1973"/>
                    </a:lnTo>
                    <a:lnTo>
                      <a:pt x="1048" y="2071"/>
                    </a:lnTo>
                    <a:lnTo>
                      <a:pt x="1316" y="2095"/>
                    </a:lnTo>
                    <a:lnTo>
                      <a:pt x="1584" y="2071"/>
                    </a:lnTo>
                    <a:lnTo>
                      <a:pt x="1827" y="1973"/>
                    </a:lnTo>
                    <a:lnTo>
                      <a:pt x="2046" y="1852"/>
                    </a:lnTo>
                    <a:lnTo>
                      <a:pt x="2241" y="1705"/>
                    </a:lnTo>
                    <a:lnTo>
                      <a:pt x="2387" y="1511"/>
                    </a:lnTo>
                    <a:lnTo>
                      <a:pt x="2509" y="1291"/>
                    </a:lnTo>
                    <a:lnTo>
                      <a:pt x="2607" y="1048"/>
                    </a:lnTo>
                    <a:lnTo>
                      <a:pt x="2631" y="780"/>
                    </a:lnTo>
                    <a:lnTo>
                      <a:pt x="2631" y="1"/>
                    </a:lnTo>
                  </a:path>
                </a:pathLst>
              </a:custGeom>
              <a:noFill/>
              <a:ln cap="rnd" w="12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-23040" bIns="-23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  <p:sp>
            <p:nvSpPr>
              <p:cNvPr id="1311" name="Google Shape;735;p43"/>
              <p:cNvSpPr/>
              <p:nvPr/>
            </p:nvSpPr>
            <p:spPr>
              <a:xfrm>
                <a:off x="5464080" y="1296360"/>
                <a:ext cx="609480" cy="432720"/>
              </a:xfrm>
              <a:custGeom>
                <a:avLst/>
                <a:gdLst/>
                <a:ahLst/>
                <a:rect l="l" t="t" r="r" b="b"/>
                <a:pathLst>
                  <a:path fill="none" w="18754" h="13323">
                    <a:moveTo>
                      <a:pt x="18754" y="5553"/>
                    </a:moveTo>
                    <a:lnTo>
                      <a:pt x="18754" y="5553"/>
                    </a:lnTo>
                    <a:lnTo>
                      <a:pt x="18730" y="5334"/>
                    </a:lnTo>
                    <a:lnTo>
                      <a:pt x="18681" y="5091"/>
                    </a:lnTo>
                    <a:lnTo>
                      <a:pt x="18583" y="4847"/>
                    </a:lnTo>
                    <a:lnTo>
                      <a:pt x="18462" y="4628"/>
                    </a:lnTo>
                    <a:lnTo>
                      <a:pt x="18291" y="4433"/>
                    </a:lnTo>
                    <a:lnTo>
                      <a:pt x="18121" y="4287"/>
                    </a:lnTo>
                    <a:lnTo>
                      <a:pt x="18023" y="4214"/>
                    </a:lnTo>
                    <a:lnTo>
                      <a:pt x="17926" y="4165"/>
                    </a:lnTo>
                    <a:lnTo>
                      <a:pt x="17828" y="4141"/>
                    </a:lnTo>
                    <a:lnTo>
                      <a:pt x="17731" y="4141"/>
                    </a:lnTo>
                    <a:lnTo>
                      <a:pt x="16489" y="4141"/>
                    </a:lnTo>
                    <a:lnTo>
                      <a:pt x="15588" y="1803"/>
                    </a:lnTo>
                    <a:lnTo>
                      <a:pt x="15490" y="1583"/>
                    </a:lnTo>
                    <a:lnTo>
                      <a:pt x="15344" y="1364"/>
                    </a:lnTo>
                    <a:lnTo>
                      <a:pt x="15174" y="1169"/>
                    </a:lnTo>
                    <a:lnTo>
                      <a:pt x="15003" y="975"/>
                    </a:lnTo>
                    <a:lnTo>
                      <a:pt x="14784" y="804"/>
                    </a:lnTo>
                    <a:lnTo>
                      <a:pt x="14565" y="658"/>
                    </a:lnTo>
                    <a:lnTo>
                      <a:pt x="14346" y="536"/>
                    </a:lnTo>
                    <a:lnTo>
                      <a:pt x="14102" y="439"/>
                    </a:lnTo>
                    <a:lnTo>
                      <a:pt x="13810" y="390"/>
                    </a:lnTo>
                    <a:lnTo>
                      <a:pt x="13444" y="317"/>
                    </a:lnTo>
                    <a:lnTo>
                      <a:pt x="12933" y="220"/>
                    </a:lnTo>
                    <a:lnTo>
                      <a:pt x="12275" y="147"/>
                    </a:lnTo>
                    <a:lnTo>
                      <a:pt x="11472" y="73"/>
                    </a:lnTo>
                    <a:lnTo>
                      <a:pt x="10498" y="25"/>
                    </a:lnTo>
                    <a:lnTo>
                      <a:pt x="9377" y="0"/>
                    </a:lnTo>
                    <a:lnTo>
                      <a:pt x="8257" y="25"/>
                    </a:lnTo>
                    <a:lnTo>
                      <a:pt x="7283" y="73"/>
                    </a:lnTo>
                    <a:lnTo>
                      <a:pt x="6479" y="147"/>
                    </a:lnTo>
                    <a:lnTo>
                      <a:pt x="5821" y="220"/>
                    </a:lnTo>
                    <a:lnTo>
                      <a:pt x="5310" y="317"/>
                    </a:lnTo>
                    <a:lnTo>
                      <a:pt x="4945" y="390"/>
                    </a:lnTo>
                    <a:lnTo>
                      <a:pt x="4652" y="439"/>
                    </a:lnTo>
                    <a:lnTo>
                      <a:pt x="4409" y="536"/>
                    </a:lnTo>
                    <a:lnTo>
                      <a:pt x="4190" y="658"/>
                    </a:lnTo>
                    <a:lnTo>
                      <a:pt x="3970" y="804"/>
                    </a:lnTo>
                    <a:lnTo>
                      <a:pt x="3751" y="975"/>
                    </a:lnTo>
                    <a:lnTo>
                      <a:pt x="3581" y="1169"/>
                    </a:lnTo>
                    <a:lnTo>
                      <a:pt x="3410" y="1364"/>
                    </a:lnTo>
                    <a:lnTo>
                      <a:pt x="3264" y="1583"/>
                    </a:lnTo>
                    <a:lnTo>
                      <a:pt x="3167" y="1803"/>
                    </a:lnTo>
                    <a:lnTo>
                      <a:pt x="2266" y="4141"/>
                    </a:lnTo>
                    <a:lnTo>
                      <a:pt x="1023" y="4141"/>
                    </a:lnTo>
                    <a:lnTo>
                      <a:pt x="926" y="4141"/>
                    </a:lnTo>
                    <a:lnTo>
                      <a:pt x="829" y="4165"/>
                    </a:lnTo>
                    <a:lnTo>
                      <a:pt x="731" y="4214"/>
                    </a:lnTo>
                    <a:lnTo>
                      <a:pt x="634" y="4287"/>
                    </a:lnTo>
                    <a:lnTo>
                      <a:pt x="463" y="4433"/>
                    </a:lnTo>
                    <a:lnTo>
                      <a:pt x="293" y="4628"/>
                    </a:lnTo>
                    <a:lnTo>
                      <a:pt x="171" y="4847"/>
                    </a:lnTo>
                    <a:lnTo>
                      <a:pt x="74" y="5091"/>
                    </a:lnTo>
                    <a:lnTo>
                      <a:pt x="25" y="5334"/>
                    </a:lnTo>
                    <a:lnTo>
                      <a:pt x="1" y="5553"/>
                    </a:lnTo>
                    <a:lnTo>
                      <a:pt x="25" y="5748"/>
                    </a:lnTo>
                    <a:lnTo>
                      <a:pt x="74" y="5894"/>
                    </a:lnTo>
                    <a:lnTo>
                      <a:pt x="171" y="6016"/>
                    </a:lnTo>
                    <a:lnTo>
                      <a:pt x="293" y="6089"/>
                    </a:lnTo>
                    <a:lnTo>
                      <a:pt x="463" y="6138"/>
                    </a:lnTo>
                    <a:lnTo>
                      <a:pt x="634" y="6187"/>
                    </a:lnTo>
                    <a:lnTo>
                      <a:pt x="1023" y="6187"/>
                    </a:lnTo>
                    <a:lnTo>
                      <a:pt x="1462" y="6187"/>
                    </a:lnTo>
                    <a:lnTo>
                      <a:pt x="1145" y="7015"/>
                    </a:lnTo>
                    <a:lnTo>
                      <a:pt x="999" y="7526"/>
                    </a:lnTo>
                    <a:lnTo>
                      <a:pt x="877" y="8086"/>
                    </a:lnTo>
                    <a:lnTo>
                      <a:pt x="780" y="8671"/>
                    </a:lnTo>
                    <a:lnTo>
                      <a:pt x="756" y="9207"/>
                    </a:lnTo>
                    <a:lnTo>
                      <a:pt x="756" y="13323"/>
                    </a:lnTo>
                    <a:lnTo>
                      <a:pt x="17999" y="13323"/>
                    </a:lnTo>
                    <a:lnTo>
                      <a:pt x="17999" y="9207"/>
                    </a:lnTo>
                    <a:lnTo>
                      <a:pt x="17975" y="8671"/>
                    </a:lnTo>
                    <a:lnTo>
                      <a:pt x="17877" y="8086"/>
                    </a:lnTo>
                    <a:lnTo>
                      <a:pt x="17755" y="7526"/>
                    </a:lnTo>
                    <a:lnTo>
                      <a:pt x="17609" y="7015"/>
                    </a:lnTo>
                    <a:lnTo>
                      <a:pt x="17293" y="6187"/>
                    </a:lnTo>
                    <a:lnTo>
                      <a:pt x="17731" y="6187"/>
                    </a:lnTo>
                    <a:lnTo>
                      <a:pt x="18121" y="6187"/>
                    </a:lnTo>
                    <a:lnTo>
                      <a:pt x="18291" y="6138"/>
                    </a:lnTo>
                    <a:lnTo>
                      <a:pt x="18462" y="6089"/>
                    </a:lnTo>
                    <a:lnTo>
                      <a:pt x="18583" y="6016"/>
                    </a:lnTo>
                    <a:lnTo>
                      <a:pt x="18681" y="5894"/>
                    </a:lnTo>
                    <a:lnTo>
                      <a:pt x="18730" y="5748"/>
                    </a:lnTo>
                    <a:lnTo>
                      <a:pt x="18754" y="5553"/>
                    </a:lnTo>
                  </a:path>
                </a:pathLst>
              </a:custGeom>
              <a:noFill/>
              <a:ln cap="rnd" w="12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91080" bIns="91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  <p:sp>
            <p:nvSpPr>
              <p:cNvPr id="1312" name="Google Shape;736;p43"/>
              <p:cNvSpPr/>
              <p:nvPr/>
            </p:nvSpPr>
            <p:spPr>
              <a:xfrm>
                <a:off x="5571720" y="1339560"/>
                <a:ext cx="394200" cy="194400"/>
              </a:xfrm>
              <a:custGeom>
                <a:avLst/>
                <a:gdLst/>
                <a:ahLst/>
                <a:rect l="l" t="t" r="r" b="b"/>
                <a:pathLst>
                  <a:path fill="none" w="12130" h="5993">
                    <a:moveTo>
                      <a:pt x="1" y="4628"/>
                    </a:moveTo>
                    <a:lnTo>
                      <a:pt x="1" y="4628"/>
                    </a:lnTo>
                    <a:lnTo>
                      <a:pt x="171" y="4019"/>
                    </a:lnTo>
                    <a:lnTo>
                      <a:pt x="585" y="2656"/>
                    </a:lnTo>
                    <a:lnTo>
                      <a:pt x="805" y="1925"/>
                    </a:lnTo>
                    <a:lnTo>
                      <a:pt x="1024" y="1292"/>
                    </a:lnTo>
                    <a:lnTo>
                      <a:pt x="1194" y="829"/>
                    </a:lnTo>
                    <a:lnTo>
                      <a:pt x="1267" y="707"/>
                    </a:lnTo>
                    <a:lnTo>
                      <a:pt x="1316" y="658"/>
                    </a:lnTo>
                    <a:lnTo>
                      <a:pt x="1535" y="561"/>
                    </a:lnTo>
                    <a:lnTo>
                      <a:pt x="1852" y="464"/>
                    </a:lnTo>
                    <a:lnTo>
                      <a:pt x="2315" y="342"/>
                    </a:lnTo>
                    <a:lnTo>
                      <a:pt x="2948" y="220"/>
                    </a:lnTo>
                    <a:lnTo>
                      <a:pt x="3776" y="98"/>
                    </a:lnTo>
                    <a:lnTo>
                      <a:pt x="4799" y="25"/>
                    </a:lnTo>
                    <a:lnTo>
                      <a:pt x="5408" y="1"/>
                    </a:lnTo>
                    <a:lnTo>
                      <a:pt x="6065" y="1"/>
                    </a:lnTo>
                    <a:lnTo>
                      <a:pt x="6723" y="1"/>
                    </a:lnTo>
                    <a:lnTo>
                      <a:pt x="7332" y="25"/>
                    </a:lnTo>
                    <a:lnTo>
                      <a:pt x="8355" y="98"/>
                    </a:lnTo>
                    <a:lnTo>
                      <a:pt x="9183" y="220"/>
                    </a:lnTo>
                    <a:lnTo>
                      <a:pt x="9816" y="342"/>
                    </a:lnTo>
                    <a:lnTo>
                      <a:pt x="10279" y="464"/>
                    </a:lnTo>
                    <a:lnTo>
                      <a:pt x="10595" y="561"/>
                    </a:lnTo>
                    <a:lnTo>
                      <a:pt x="10814" y="658"/>
                    </a:lnTo>
                    <a:lnTo>
                      <a:pt x="10863" y="707"/>
                    </a:lnTo>
                    <a:lnTo>
                      <a:pt x="10936" y="829"/>
                    </a:lnTo>
                    <a:lnTo>
                      <a:pt x="11107" y="1292"/>
                    </a:lnTo>
                    <a:lnTo>
                      <a:pt x="11326" y="1925"/>
                    </a:lnTo>
                    <a:lnTo>
                      <a:pt x="11545" y="2656"/>
                    </a:lnTo>
                    <a:lnTo>
                      <a:pt x="11959" y="4019"/>
                    </a:lnTo>
                    <a:lnTo>
                      <a:pt x="12130" y="4628"/>
                    </a:lnTo>
                    <a:lnTo>
                      <a:pt x="12105" y="4677"/>
                    </a:lnTo>
                    <a:lnTo>
                      <a:pt x="12057" y="4750"/>
                    </a:lnTo>
                    <a:lnTo>
                      <a:pt x="11959" y="4823"/>
                    </a:lnTo>
                    <a:lnTo>
                      <a:pt x="11813" y="4921"/>
                    </a:lnTo>
                    <a:lnTo>
                      <a:pt x="11618" y="5042"/>
                    </a:lnTo>
                    <a:lnTo>
                      <a:pt x="11375" y="5164"/>
                    </a:lnTo>
                    <a:lnTo>
                      <a:pt x="11058" y="5262"/>
                    </a:lnTo>
                    <a:lnTo>
                      <a:pt x="10717" y="5383"/>
                    </a:lnTo>
                    <a:lnTo>
                      <a:pt x="10327" y="5505"/>
                    </a:lnTo>
                    <a:lnTo>
                      <a:pt x="9865" y="5627"/>
                    </a:lnTo>
                    <a:lnTo>
                      <a:pt x="9377" y="5724"/>
                    </a:lnTo>
                    <a:lnTo>
                      <a:pt x="8817" y="5822"/>
                    </a:lnTo>
                    <a:lnTo>
                      <a:pt x="8208" y="5895"/>
                    </a:lnTo>
                    <a:lnTo>
                      <a:pt x="7551" y="5944"/>
                    </a:lnTo>
                    <a:lnTo>
                      <a:pt x="6845" y="5992"/>
                    </a:lnTo>
                    <a:lnTo>
                      <a:pt x="6065" y="5992"/>
                    </a:lnTo>
                    <a:lnTo>
                      <a:pt x="5286" y="5992"/>
                    </a:lnTo>
                    <a:lnTo>
                      <a:pt x="4580" y="5944"/>
                    </a:lnTo>
                    <a:lnTo>
                      <a:pt x="3922" y="5895"/>
                    </a:lnTo>
                    <a:lnTo>
                      <a:pt x="3313" y="5822"/>
                    </a:lnTo>
                    <a:lnTo>
                      <a:pt x="2753" y="5724"/>
                    </a:lnTo>
                    <a:lnTo>
                      <a:pt x="2266" y="5627"/>
                    </a:lnTo>
                    <a:lnTo>
                      <a:pt x="1803" y="5505"/>
                    </a:lnTo>
                    <a:lnTo>
                      <a:pt x="1413" y="5383"/>
                    </a:lnTo>
                    <a:lnTo>
                      <a:pt x="1072" y="5262"/>
                    </a:lnTo>
                    <a:lnTo>
                      <a:pt x="756" y="5164"/>
                    </a:lnTo>
                    <a:lnTo>
                      <a:pt x="512" y="5042"/>
                    </a:lnTo>
                    <a:lnTo>
                      <a:pt x="317" y="4921"/>
                    </a:lnTo>
                    <a:lnTo>
                      <a:pt x="171" y="4823"/>
                    </a:lnTo>
                    <a:lnTo>
                      <a:pt x="74" y="4750"/>
                    </a:lnTo>
                    <a:lnTo>
                      <a:pt x="25" y="4677"/>
                    </a:lnTo>
                    <a:lnTo>
                      <a:pt x="1" y="4628"/>
                    </a:lnTo>
                  </a:path>
                </a:pathLst>
              </a:custGeom>
              <a:noFill/>
              <a:ln cap="rnd" w="12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91080" bIns="91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  <p:sp>
            <p:nvSpPr>
              <p:cNvPr id="1313" name="Google Shape;737;p43"/>
              <p:cNvSpPr/>
              <p:nvPr/>
            </p:nvSpPr>
            <p:spPr>
              <a:xfrm>
                <a:off x="5540040" y="1591200"/>
                <a:ext cx="105120" cy="84600"/>
              </a:xfrm>
              <a:custGeom>
                <a:avLst/>
                <a:gdLst/>
                <a:ahLst/>
                <a:rect l="l" t="t" r="r" b="b"/>
                <a:pathLst>
                  <a:path fill="none" w="3240" h="2607">
                    <a:moveTo>
                      <a:pt x="1632" y="2607"/>
                    </a:moveTo>
                    <a:lnTo>
                      <a:pt x="1632" y="2607"/>
                    </a:lnTo>
                    <a:lnTo>
                      <a:pt x="1291" y="2582"/>
                    </a:lnTo>
                    <a:lnTo>
                      <a:pt x="999" y="2509"/>
                    </a:lnTo>
                    <a:lnTo>
                      <a:pt x="731" y="2388"/>
                    </a:lnTo>
                    <a:lnTo>
                      <a:pt x="488" y="2217"/>
                    </a:lnTo>
                    <a:lnTo>
                      <a:pt x="293" y="2047"/>
                    </a:lnTo>
                    <a:lnTo>
                      <a:pt x="122" y="1803"/>
                    </a:lnTo>
                    <a:lnTo>
                      <a:pt x="74" y="1706"/>
                    </a:lnTo>
                    <a:lnTo>
                      <a:pt x="49" y="1559"/>
                    </a:lnTo>
                    <a:lnTo>
                      <a:pt x="25" y="1438"/>
                    </a:lnTo>
                    <a:lnTo>
                      <a:pt x="1" y="1316"/>
                    </a:lnTo>
                    <a:lnTo>
                      <a:pt x="25" y="1170"/>
                    </a:lnTo>
                    <a:lnTo>
                      <a:pt x="49" y="1048"/>
                    </a:lnTo>
                    <a:lnTo>
                      <a:pt x="74" y="926"/>
                    </a:lnTo>
                    <a:lnTo>
                      <a:pt x="122" y="804"/>
                    </a:lnTo>
                    <a:lnTo>
                      <a:pt x="293" y="585"/>
                    </a:lnTo>
                    <a:lnTo>
                      <a:pt x="488" y="390"/>
                    </a:lnTo>
                    <a:lnTo>
                      <a:pt x="731" y="220"/>
                    </a:lnTo>
                    <a:lnTo>
                      <a:pt x="999" y="98"/>
                    </a:lnTo>
                    <a:lnTo>
                      <a:pt x="1291" y="25"/>
                    </a:lnTo>
                    <a:lnTo>
                      <a:pt x="1632" y="1"/>
                    </a:lnTo>
                    <a:lnTo>
                      <a:pt x="1803" y="1"/>
                    </a:lnTo>
                    <a:lnTo>
                      <a:pt x="1949" y="49"/>
                    </a:lnTo>
                    <a:lnTo>
                      <a:pt x="2120" y="98"/>
                    </a:lnTo>
                    <a:lnTo>
                      <a:pt x="2266" y="171"/>
                    </a:lnTo>
                    <a:lnTo>
                      <a:pt x="2412" y="269"/>
                    </a:lnTo>
                    <a:lnTo>
                      <a:pt x="2534" y="390"/>
                    </a:lnTo>
                    <a:lnTo>
                      <a:pt x="2777" y="634"/>
                    </a:lnTo>
                    <a:lnTo>
                      <a:pt x="2972" y="926"/>
                    </a:lnTo>
                    <a:lnTo>
                      <a:pt x="3118" y="1219"/>
                    </a:lnTo>
                    <a:lnTo>
                      <a:pt x="3215" y="1535"/>
                    </a:lnTo>
                    <a:lnTo>
                      <a:pt x="3240" y="1681"/>
                    </a:lnTo>
                    <a:lnTo>
                      <a:pt x="3240" y="1803"/>
                    </a:lnTo>
                    <a:lnTo>
                      <a:pt x="3240" y="1949"/>
                    </a:lnTo>
                    <a:lnTo>
                      <a:pt x="3215" y="2047"/>
                    </a:lnTo>
                    <a:lnTo>
                      <a:pt x="3167" y="2144"/>
                    </a:lnTo>
                    <a:lnTo>
                      <a:pt x="3118" y="2241"/>
                    </a:lnTo>
                    <a:lnTo>
                      <a:pt x="3045" y="2314"/>
                    </a:lnTo>
                    <a:lnTo>
                      <a:pt x="2972" y="2388"/>
                    </a:lnTo>
                    <a:lnTo>
                      <a:pt x="2777" y="2485"/>
                    </a:lnTo>
                    <a:lnTo>
                      <a:pt x="2534" y="2558"/>
                    </a:lnTo>
                    <a:lnTo>
                      <a:pt x="2266" y="2582"/>
                    </a:lnTo>
                    <a:lnTo>
                      <a:pt x="1949" y="2607"/>
                    </a:lnTo>
                    <a:lnTo>
                      <a:pt x="1632" y="2607"/>
                    </a:lnTo>
                  </a:path>
                </a:pathLst>
              </a:custGeom>
              <a:noFill/>
              <a:ln cap="rnd" w="12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-6480" bIns="-6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  <p:sp>
            <p:nvSpPr>
              <p:cNvPr id="1314" name="Google Shape;738;p43"/>
              <p:cNvSpPr/>
              <p:nvPr/>
            </p:nvSpPr>
            <p:spPr>
              <a:xfrm>
                <a:off x="5696640" y="1652400"/>
                <a:ext cx="144000" cy="360"/>
              </a:xfrm>
              <a:custGeom>
                <a:avLst/>
                <a:gdLst/>
                <a:ahLst/>
                <a:rect l="l" t="t" r="r" b="b"/>
                <a:pathLst>
                  <a:path fill="none" w="4434" h="1">
                    <a:moveTo>
                      <a:pt x="1" y="0"/>
                    </a:moveTo>
                    <a:lnTo>
                      <a:pt x="4434" y="0"/>
                    </a:lnTo>
                  </a:path>
                </a:pathLst>
              </a:custGeom>
              <a:noFill/>
              <a:ln cap="rnd" w="12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-90720" bIns="-90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  <p:sp>
            <p:nvSpPr>
              <p:cNvPr id="1315" name="Google Shape;739;p43"/>
              <p:cNvSpPr/>
              <p:nvPr/>
            </p:nvSpPr>
            <p:spPr>
              <a:xfrm>
                <a:off x="5687280" y="1617480"/>
                <a:ext cx="163080" cy="360"/>
              </a:xfrm>
              <a:custGeom>
                <a:avLst/>
                <a:gdLst/>
                <a:ahLst/>
                <a:rect l="l" t="t" r="r" b="b"/>
                <a:pathLst>
                  <a:path fill="none" w="5018" h="1">
                    <a:moveTo>
                      <a:pt x="1" y="0"/>
                    </a:moveTo>
                    <a:lnTo>
                      <a:pt x="5018" y="0"/>
                    </a:lnTo>
                  </a:path>
                </a:pathLst>
              </a:custGeom>
              <a:noFill/>
              <a:ln cap="rnd" w="12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-90720" bIns="-90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  <p:sp>
            <p:nvSpPr>
              <p:cNvPr id="1316" name="Google Shape;740;p43"/>
              <p:cNvSpPr/>
              <p:nvPr/>
            </p:nvSpPr>
            <p:spPr>
              <a:xfrm>
                <a:off x="5892480" y="1591200"/>
                <a:ext cx="105120" cy="84600"/>
              </a:xfrm>
              <a:custGeom>
                <a:avLst/>
                <a:gdLst/>
                <a:ahLst/>
                <a:rect l="l" t="t" r="r" b="b"/>
                <a:pathLst>
                  <a:path fill="none" w="3240" h="2607">
                    <a:moveTo>
                      <a:pt x="1608" y="2607"/>
                    </a:moveTo>
                    <a:lnTo>
                      <a:pt x="1608" y="2607"/>
                    </a:lnTo>
                    <a:lnTo>
                      <a:pt x="1291" y="2607"/>
                    </a:lnTo>
                    <a:lnTo>
                      <a:pt x="975" y="2582"/>
                    </a:lnTo>
                    <a:lnTo>
                      <a:pt x="707" y="2558"/>
                    </a:lnTo>
                    <a:lnTo>
                      <a:pt x="463" y="2485"/>
                    </a:lnTo>
                    <a:lnTo>
                      <a:pt x="268" y="2388"/>
                    </a:lnTo>
                    <a:lnTo>
                      <a:pt x="195" y="2314"/>
                    </a:lnTo>
                    <a:lnTo>
                      <a:pt x="122" y="2241"/>
                    </a:lnTo>
                    <a:lnTo>
                      <a:pt x="74" y="2144"/>
                    </a:lnTo>
                    <a:lnTo>
                      <a:pt x="25" y="2047"/>
                    </a:lnTo>
                    <a:lnTo>
                      <a:pt x="1" y="1949"/>
                    </a:lnTo>
                    <a:lnTo>
                      <a:pt x="1" y="1803"/>
                    </a:lnTo>
                    <a:lnTo>
                      <a:pt x="1" y="1681"/>
                    </a:lnTo>
                    <a:lnTo>
                      <a:pt x="25" y="1535"/>
                    </a:lnTo>
                    <a:lnTo>
                      <a:pt x="122" y="1219"/>
                    </a:lnTo>
                    <a:lnTo>
                      <a:pt x="268" y="926"/>
                    </a:lnTo>
                    <a:lnTo>
                      <a:pt x="463" y="634"/>
                    </a:lnTo>
                    <a:lnTo>
                      <a:pt x="707" y="390"/>
                    </a:lnTo>
                    <a:lnTo>
                      <a:pt x="829" y="269"/>
                    </a:lnTo>
                    <a:lnTo>
                      <a:pt x="975" y="171"/>
                    </a:lnTo>
                    <a:lnTo>
                      <a:pt x="1121" y="98"/>
                    </a:lnTo>
                    <a:lnTo>
                      <a:pt x="1291" y="49"/>
                    </a:lnTo>
                    <a:lnTo>
                      <a:pt x="1438" y="1"/>
                    </a:lnTo>
                    <a:lnTo>
                      <a:pt x="1608" y="1"/>
                    </a:lnTo>
                    <a:lnTo>
                      <a:pt x="1949" y="25"/>
                    </a:lnTo>
                    <a:lnTo>
                      <a:pt x="2241" y="98"/>
                    </a:lnTo>
                    <a:lnTo>
                      <a:pt x="2509" y="220"/>
                    </a:lnTo>
                    <a:lnTo>
                      <a:pt x="2753" y="390"/>
                    </a:lnTo>
                    <a:lnTo>
                      <a:pt x="2948" y="585"/>
                    </a:lnTo>
                    <a:lnTo>
                      <a:pt x="3118" y="804"/>
                    </a:lnTo>
                    <a:lnTo>
                      <a:pt x="3167" y="926"/>
                    </a:lnTo>
                    <a:lnTo>
                      <a:pt x="3191" y="1048"/>
                    </a:lnTo>
                    <a:lnTo>
                      <a:pt x="3215" y="1170"/>
                    </a:lnTo>
                    <a:lnTo>
                      <a:pt x="3240" y="1316"/>
                    </a:lnTo>
                    <a:lnTo>
                      <a:pt x="3215" y="1438"/>
                    </a:lnTo>
                    <a:lnTo>
                      <a:pt x="3191" y="1559"/>
                    </a:lnTo>
                    <a:lnTo>
                      <a:pt x="3167" y="1706"/>
                    </a:lnTo>
                    <a:lnTo>
                      <a:pt x="3118" y="1803"/>
                    </a:lnTo>
                    <a:lnTo>
                      <a:pt x="2948" y="2047"/>
                    </a:lnTo>
                    <a:lnTo>
                      <a:pt x="2753" y="2217"/>
                    </a:lnTo>
                    <a:lnTo>
                      <a:pt x="2509" y="2388"/>
                    </a:lnTo>
                    <a:lnTo>
                      <a:pt x="2241" y="2509"/>
                    </a:lnTo>
                    <a:lnTo>
                      <a:pt x="1949" y="2582"/>
                    </a:lnTo>
                    <a:lnTo>
                      <a:pt x="1608" y="2607"/>
                    </a:lnTo>
                  </a:path>
                </a:pathLst>
              </a:custGeom>
              <a:noFill/>
              <a:ln cap="rnd" w="12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-6480" bIns="-6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317" name="TextBox 40"/>
          <p:cNvSpPr/>
          <p:nvPr/>
        </p:nvSpPr>
        <p:spPr>
          <a:xfrm>
            <a:off x="3247920" y="4349880"/>
            <a:ext cx="27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info@chiro74.ru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18" name="TextBox 41"/>
          <p:cNvSpPr/>
          <p:nvPr/>
        </p:nvSpPr>
        <p:spPr>
          <a:xfrm>
            <a:off x="5226120" y="4356000"/>
            <a:ext cx="314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8 (351) 217 30 89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19" name="TextBox 43"/>
          <p:cNvSpPr/>
          <p:nvPr/>
        </p:nvSpPr>
        <p:spPr>
          <a:xfrm>
            <a:off x="2774880" y="2052720"/>
            <a:ext cx="6112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454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111, г. Челябинск, ул. Комсомольская, д. 20А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454087, г. Челябинск, ул. Блюхера, д. 9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454091, г. Челябинск, ул. Красноармейская, д. 88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454048, г. Челябинск, ул. Худякова, д. 20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0" name="Google Shape;59;g142ea23b5d2_0_0"/>
          <p:cNvSpPr/>
          <p:nvPr/>
        </p:nvSpPr>
        <p:spPr>
          <a:xfrm>
            <a:off x="3944880" y="4637160"/>
            <a:ext cx="36594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121680" bIns="121680" anchor="t">
            <a:spAutoFit/>
          </a:bodyPr>
          <a:p>
            <a:pPr marL="15840" algn="ctr">
              <a:lnSpc>
                <a:spcPct val="150000"/>
              </a:lnSpc>
              <a:spcBef>
                <a:spcPts val="1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03864"/>
                </a:solidFill>
                <a:latin typeface="Calibri"/>
                <a:ea typeface="Jost"/>
              </a:rPr>
              <a:t>МЫ В СОЦИАЛЬНЫХ СЕТЯХ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321" name="Группа 5"/>
          <p:cNvGrpSpPr/>
          <p:nvPr/>
        </p:nvGrpSpPr>
        <p:grpSpPr>
          <a:xfrm>
            <a:off x="6307200" y="3443400"/>
            <a:ext cx="984240" cy="903240"/>
            <a:chOff x="6307200" y="3443400"/>
            <a:chExt cx="984240" cy="903240"/>
          </a:xfrm>
        </p:grpSpPr>
        <p:sp>
          <p:nvSpPr>
            <p:cNvPr id="1322" name="Прямоугольник 53"/>
            <p:cNvSpPr/>
            <p:nvPr/>
          </p:nvSpPr>
          <p:spPr>
            <a:xfrm>
              <a:off x="6307200" y="3443400"/>
              <a:ext cx="984240" cy="903240"/>
            </a:xfrm>
            <a:prstGeom prst="rect">
              <a:avLst/>
            </a:prstGeom>
            <a:solidFill>
              <a:srgbClr val="264796"/>
            </a:solidFill>
            <a:ln w="6480">
              <a:solidFill>
                <a:srgbClr val="4472c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1323" name="Google Shape;653;p43"/>
            <p:cNvSpPr/>
            <p:nvPr/>
          </p:nvSpPr>
          <p:spPr>
            <a:xfrm>
              <a:off x="6585480" y="3562920"/>
              <a:ext cx="427320" cy="679320"/>
            </a:xfrm>
            <a:custGeom>
              <a:avLst/>
              <a:gdLst/>
              <a:ahLst/>
              <a:rect l="l" t="t" r="r" b="b"/>
              <a:pathLst>
                <a:path fill="none" w="11838" h="20508">
                  <a:moveTo>
                    <a:pt x="10547" y="1"/>
                  </a:moveTo>
                  <a:lnTo>
                    <a:pt x="1292" y="1"/>
                  </a:lnTo>
                  <a:lnTo>
                    <a:pt x="1024" y="25"/>
                  </a:lnTo>
                  <a:lnTo>
                    <a:pt x="780" y="98"/>
                  </a:lnTo>
                  <a:lnTo>
                    <a:pt x="561" y="220"/>
                  </a:lnTo>
                  <a:lnTo>
                    <a:pt x="366" y="366"/>
                  </a:lnTo>
                  <a:lnTo>
                    <a:pt x="220" y="561"/>
                  </a:lnTo>
                  <a:lnTo>
                    <a:pt x="98" y="780"/>
                  </a:lnTo>
                  <a:lnTo>
                    <a:pt x="25" y="1024"/>
                  </a:lnTo>
                  <a:lnTo>
                    <a:pt x="1" y="1292"/>
                  </a:lnTo>
                  <a:lnTo>
                    <a:pt x="1" y="19217"/>
                  </a:lnTo>
                  <a:lnTo>
                    <a:pt x="25" y="19485"/>
                  </a:lnTo>
                  <a:lnTo>
                    <a:pt x="98" y="19728"/>
                  </a:lnTo>
                  <a:lnTo>
                    <a:pt x="220" y="19948"/>
                  </a:lnTo>
                  <a:lnTo>
                    <a:pt x="366" y="20142"/>
                  </a:lnTo>
                  <a:lnTo>
                    <a:pt x="561" y="20289"/>
                  </a:lnTo>
                  <a:lnTo>
                    <a:pt x="780" y="20410"/>
                  </a:lnTo>
                  <a:lnTo>
                    <a:pt x="1024" y="20483"/>
                  </a:lnTo>
                  <a:lnTo>
                    <a:pt x="1292" y="20508"/>
                  </a:lnTo>
                  <a:lnTo>
                    <a:pt x="10547" y="20508"/>
                  </a:lnTo>
                  <a:lnTo>
                    <a:pt x="10814" y="20483"/>
                  </a:lnTo>
                  <a:lnTo>
                    <a:pt x="11058" y="20410"/>
                  </a:lnTo>
                  <a:lnTo>
                    <a:pt x="11277" y="20289"/>
                  </a:lnTo>
                  <a:lnTo>
                    <a:pt x="11472" y="20142"/>
                  </a:lnTo>
                  <a:lnTo>
                    <a:pt x="11618" y="19948"/>
                  </a:lnTo>
                  <a:lnTo>
                    <a:pt x="11740" y="19728"/>
                  </a:lnTo>
                  <a:lnTo>
                    <a:pt x="11813" y="19485"/>
                  </a:lnTo>
                  <a:lnTo>
                    <a:pt x="11837" y="19217"/>
                  </a:lnTo>
                  <a:lnTo>
                    <a:pt x="11837" y="1292"/>
                  </a:lnTo>
                  <a:lnTo>
                    <a:pt x="11813" y="1024"/>
                  </a:lnTo>
                  <a:lnTo>
                    <a:pt x="11740" y="780"/>
                  </a:lnTo>
                  <a:lnTo>
                    <a:pt x="11618" y="561"/>
                  </a:lnTo>
                  <a:lnTo>
                    <a:pt x="11472" y="366"/>
                  </a:lnTo>
                  <a:lnTo>
                    <a:pt x="11277" y="220"/>
                  </a:lnTo>
                  <a:lnTo>
                    <a:pt x="11058" y="98"/>
                  </a:lnTo>
                  <a:lnTo>
                    <a:pt x="10814" y="25"/>
                  </a:lnTo>
                  <a:lnTo>
                    <a:pt x="10547" y="1"/>
                  </a:lnTo>
                  <a:close/>
                  <a:moveTo>
                    <a:pt x="5554" y="975"/>
                  </a:moveTo>
                  <a:lnTo>
                    <a:pt x="6284" y="975"/>
                  </a:lnTo>
                  <a:lnTo>
                    <a:pt x="6406" y="999"/>
                  </a:lnTo>
                  <a:lnTo>
                    <a:pt x="6479" y="1073"/>
                  </a:lnTo>
                  <a:lnTo>
                    <a:pt x="6552" y="1146"/>
                  </a:lnTo>
                  <a:lnTo>
                    <a:pt x="6577" y="1267"/>
                  </a:lnTo>
                  <a:lnTo>
                    <a:pt x="6552" y="1365"/>
                  </a:lnTo>
                  <a:lnTo>
                    <a:pt x="6479" y="1462"/>
                  </a:lnTo>
                  <a:lnTo>
                    <a:pt x="6406" y="1511"/>
                  </a:lnTo>
                  <a:lnTo>
                    <a:pt x="6284" y="1535"/>
                  </a:lnTo>
                  <a:lnTo>
                    <a:pt x="5554" y="1535"/>
                  </a:lnTo>
                  <a:lnTo>
                    <a:pt x="5432" y="1511"/>
                  </a:lnTo>
                  <a:lnTo>
                    <a:pt x="5359" y="1462"/>
                  </a:lnTo>
                  <a:lnTo>
                    <a:pt x="5286" y="1365"/>
                  </a:lnTo>
                  <a:lnTo>
                    <a:pt x="5262" y="1267"/>
                  </a:lnTo>
                  <a:lnTo>
                    <a:pt x="5286" y="1146"/>
                  </a:lnTo>
                  <a:lnTo>
                    <a:pt x="5359" y="1073"/>
                  </a:lnTo>
                  <a:lnTo>
                    <a:pt x="5432" y="999"/>
                  </a:lnTo>
                  <a:lnTo>
                    <a:pt x="5554" y="975"/>
                  </a:lnTo>
                  <a:close/>
                  <a:moveTo>
                    <a:pt x="5919" y="19436"/>
                  </a:moveTo>
                  <a:lnTo>
                    <a:pt x="5919" y="19436"/>
                  </a:lnTo>
                  <a:lnTo>
                    <a:pt x="5749" y="19412"/>
                  </a:lnTo>
                  <a:lnTo>
                    <a:pt x="5578" y="19363"/>
                  </a:lnTo>
                  <a:lnTo>
                    <a:pt x="5432" y="19290"/>
                  </a:lnTo>
                  <a:lnTo>
                    <a:pt x="5310" y="19193"/>
                  </a:lnTo>
                  <a:lnTo>
                    <a:pt x="5213" y="19071"/>
                  </a:lnTo>
                  <a:lnTo>
                    <a:pt x="5140" y="18925"/>
                  </a:lnTo>
                  <a:lnTo>
                    <a:pt x="5091" y="18754"/>
                  </a:lnTo>
                  <a:lnTo>
                    <a:pt x="5067" y="18584"/>
                  </a:lnTo>
                  <a:lnTo>
                    <a:pt x="5091" y="18413"/>
                  </a:lnTo>
                  <a:lnTo>
                    <a:pt x="5140" y="18243"/>
                  </a:lnTo>
                  <a:lnTo>
                    <a:pt x="5213" y="18097"/>
                  </a:lnTo>
                  <a:lnTo>
                    <a:pt x="5310" y="17975"/>
                  </a:lnTo>
                  <a:lnTo>
                    <a:pt x="5432" y="17877"/>
                  </a:lnTo>
                  <a:lnTo>
                    <a:pt x="5578" y="17804"/>
                  </a:lnTo>
                  <a:lnTo>
                    <a:pt x="5749" y="17756"/>
                  </a:lnTo>
                  <a:lnTo>
                    <a:pt x="5919" y="17731"/>
                  </a:lnTo>
                  <a:lnTo>
                    <a:pt x="6090" y="17756"/>
                  </a:lnTo>
                  <a:lnTo>
                    <a:pt x="6260" y="17804"/>
                  </a:lnTo>
                  <a:lnTo>
                    <a:pt x="6406" y="17877"/>
                  </a:lnTo>
                  <a:lnTo>
                    <a:pt x="6528" y="17975"/>
                  </a:lnTo>
                  <a:lnTo>
                    <a:pt x="6625" y="18097"/>
                  </a:lnTo>
                  <a:lnTo>
                    <a:pt x="6699" y="18243"/>
                  </a:lnTo>
                  <a:lnTo>
                    <a:pt x="6747" y="18413"/>
                  </a:lnTo>
                  <a:lnTo>
                    <a:pt x="6772" y="18584"/>
                  </a:lnTo>
                  <a:lnTo>
                    <a:pt x="6747" y="18754"/>
                  </a:lnTo>
                  <a:lnTo>
                    <a:pt x="6699" y="18925"/>
                  </a:lnTo>
                  <a:lnTo>
                    <a:pt x="6625" y="19071"/>
                  </a:lnTo>
                  <a:lnTo>
                    <a:pt x="6528" y="19193"/>
                  </a:lnTo>
                  <a:lnTo>
                    <a:pt x="6406" y="19290"/>
                  </a:lnTo>
                  <a:lnTo>
                    <a:pt x="6260" y="19363"/>
                  </a:lnTo>
                  <a:lnTo>
                    <a:pt x="6090" y="19412"/>
                  </a:lnTo>
                  <a:lnTo>
                    <a:pt x="5919" y="19436"/>
                  </a:lnTo>
                  <a:close/>
                  <a:moveTo>
                    <a:pt x="10547" y="16660"/>
                  </a:moveTo>
                  <a:lnTo>
                    <a:pt x="1292" y="16660"/>
                  </a:lnTo>
                  <a:lnTo>
                    <a:pt x="1292" y="2558"/>
                  </a:lnTo>
                  <a:lnTo>
                    <a:pt x="10547" y="2558"/>
                  </a:lnTo>
                  <a:lnTo>
                    <a:pt x="10547" y="16660"/>
                  </a:lnTo>
                  <a:close/>
                </a:path>
              </a:pathLst>
            </a:custGeom>
            <a:noFill/>
            <a:ln cap="rnd" w="12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91080" bIns="91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grpSp>
        <p:nvGrpSpPr>
          <p:cNvPr id="1324" name="Группа 6"/>
          <p:cNvGrpSpPr/>
          <p:nvPr/>
        </p:nvGrpSpPr>
        <p:grpSpPr>
          <a:xfrm>
            <a:off x="2048760" y="5133960"/>
            <a:ext cx="8094960" cy="1638720"/>
            <a:chOff x="2048760" y="5133960"/>
            <a:chExt cx="8094960" cy="1638720"/>
          </a:xfrm>
        </p:grpSpPr>
        <p:pic>
          <p:nvPicPr>
            <p:cNvPr id="1325" name="Picture 2" descr="http://qrcoder.ru/code/?https%3A%2F%2Frcokio.ru%2F&amp;4&amp;0"/>
            <p:cNvPicPr/>
            <p:nvPr/>
          </p:nvPicPr>
          <p:blipFill>
            <a:blip r:embed="rId2"/>
            <a:stretch/>
          </p:blipFill>
          <p:spPr>
            <a:xfrm>
              <a:off x="2153160" y="5217480"/>
              <a:ext cx="1267200" cy="126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6" name="TextBox 1"/>
            <p:cNvSpPr/>
            <p:nvPr/>
          </p:nvSpPr>
          <p:spPr>
            <a:xfrm>
              <a:off x="2048760" y="6483240"/>
              <a:ext cx="1476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Calibri"/>
                </a:rPr>
                <a:t>сайт ГБУ ДПО ЧИРО</a:t>
              </a:r>
              <a:endParaRPr b="0" lang="en-US" sz="12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1327" name="TextBox 49"/>
            <p:cNvSpPr/>
            <p:nvPr/>
          </p:nvSpPr>
          <p:spPr>
            <a:xfrm>
              <a:off x="4250520" y="6483240"/>
              <a:ext cx="1244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Calibri"/>
                </a:rPr>
                <a:t>Телеграм-канал</a:t>
              </a:r>
              <a:endParaRPr b="0" lang="en-US" sz="12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1328" name="TextBox 50"/>
            <p:cNvSpPr/>
            <p:nvPr/>
          </p:nvSpPr>
          <p:spPr>
            <a:xfrm>
              <a:off x="6061320" y="6483240"/>
              <a:ext cx="1809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Calibri"/>
                </a:rPr>
                <a:t>Сообщество в ВКонтакте</a:t>
              </a:r>
              <a:endParaRPr b="0" lang="en-US" sz="12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pic>
          <p:nvPicPr>
            <p:cNvPr id="1329" name="Рисунок 2" descr=""/>
            <p:cNvPicPr/>
            <p:nvPr/>
          </p:nvPicPr>
          <p:blipFill>
            <a:blip r:embed="rId3">
              <a:biLevel thresh="50000"/>
            </a:blip>
            <a:stretch/>
          </p:blipFill>
          <p:spPr>
            <a:xfrm>
              <a:off x="6279480" y="5133960"/>
              <a:ext cx="1374480" cy="1374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0" name="Рисунок 3" descr=""/>
            <p:cNvPicPr/>
            <p:nvPr/>
          </p:nvPicPr>
          <p:blipFill>
            <a:blip r:embed="rId4"/>
            <a:srcRect l="17901" t="3970" r="16637" b="5413"/>
            <a:stretch/>
          </p:blipFill>
          <p:spPr>
            <a:xfrm>
              <a:off x="4239720" y="5231520"/>
              <a:ext cx="1267200" cy="117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1" name="Рисунок 4" descr=""/>
            <p:cNvPicPr/>
            <p:nvPr/>
          </p:nvPicPr>
          <p:blipFill>
            <a:blip r:embed="rId5"/>
            <a:stretch/>
          </p:blipFill>
          <p:spPr>
            <a:xfrm>
              <a:off x="8339760" y="5133960"/>
              <a:ext cx="1375200" cy="137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2" name="TextBox 42"/>
            <p:cNvSpPr/>
            <p:nvPr/>
          </p:nvSpPr>
          <p:spPr>
            <a:xfrm>
              <a:off x="7910280" y="6496200"/>
              <a:ext cx="2233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Calibri"/>
                </a:rPr>
                <a:t>Сообщество в Одноклассниках</a:t>
              </a:r>
              <a:endParaRPr b="0" lang="en-US" sz="12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pic>
        <p:nvPicPr>
          <p:cNvPr id="1333" name="Рисунок 12" descr=""/>
          <p:cNvPicPr/>
          <p:nvPr/>
        </p:nvPicPr>
        <p:blipFill>
          <a:blip r:embed="rId6"/>
          <a:stretch/>
        </p:blipFill>
        <p:spPr>
          <a:xfrm>
            <a:off x="9028080" y="157320"/>
            <a:ext cx="2594160" cy="1118880"/>
          </a:xfrm>
          <a:prstGeom prst="rect">
            <a:avLst/>
          </a:prstGeom>
          <a:ln w="0">
            <a:noFill/>
          </a:ln>
        </p:spPr>
      </p:pic>
      <p:sp>
        <p:nvSpPr>
          <p:cNvPr id="1334" name="PlaceHolder 1"/>
          <p:cNvSpPr>
            <a:spLocks noGrp="1"/>
          </p:cNvSpPr>
          <p:nvPr>
            <p:ph type="dt" idx="6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 type="ftr" idx="6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6" name="PlaceHolder 3"/>
          <p:cNvSpPr>
            <a:spLocks noGrp="1"/>
          </p:cNvSpPr>
          <p:nvPr>
            <p:ph type="sldNum" idx="6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F6476-623B-453F-99F5-AB792E93C569}" type="slidenum">
              <a:rPr b="0" lang="ru-RU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7"/>
    <p:sldLayoutId id="2147483936" r:id="rId8"/>
    <p:sldLayoutId id="2147483937" r:id="rId9"/>
    <p:sldLayoutId id="2147483938" r:id="rId10"/>
    <p:sldLayoutId id="2147483939" r:id="rId11"/>
    <p:sldLayoutId id="2147483940" r:id="rId12"/>
    <p:sldLayoutId id="2147483941" r:id="rId13"/>
    <p:sldLayoutId id="2147483942" r:id="rId14"/>
    <p:sldLayoutId id="2147483943" r:id="rId15"/>
    <p:sldLayoutId id="2147483944" r:id="rId16"/>
    <p:sldLayoutId id="2147483945" r:id="rId17"/>
    <p:sldLayoutId id="2147483946" r:id="rId18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3" name="Блок-схема: данные 4"/>
          <p:cNvSpPr/>
          <p:nvPr/>
        </p:nvSpPr>
        <p:spPr>
          <a:xfrm>
            <a:off x="0" y="0"/>
            <a:ext cx="8861400" cy="83988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0" y="10000"/>
                </a:moveTo>
                <a:cubicBezTo>
                  <a:pt x="12" y="6637"/>
                  <a:pt x="-4" y="3363"/>
                  <a:pt x="8" y="0"/>
                </a:cubicBezTo>
                <a:lnTo>
                  <a:pt x="10000" y="0"/>
                </a:lnTo>
                <a:lnTo>
                  <a:pt x="8563" y="10000"/>
                </a:lnTo>
                <a:lnTo>
                  <a:pt x="0" y="10000"/>
                </a:lnTo>
                <a:close/>
              </a:path>
            </a:pathLst>
          </a:custGeom>
          <a:solidFill>
            <a:srgbClr val="e31e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4" name="Блок-схема: данные 4"/>
          <p:cNvSpPr/>
          <p:nvPr/>
        </p:nvSpPr>
        <p:spPr>
          <a:xfrm>
            <a:off x="0" y="0"/>
            <a:ext cx="8791560" cy="80640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0" y="10000"/>
                </a:moveTo>
                <a:cubicBezTo>
                  <a:pt x="12" y="6637"/>
                  <a:pt x="-4" y="3363"/>
                  <a:pt x="8" y="0"/>
                </a:cubicBezTo>
                <a:lnTo>
                  <a:pt x="10000" y="0"/>
                </a:lnTo>
                <a:lnTo>
                  <a:pt x="8563" y="10000"/>
                </a:lnTo>
                <a:lnTo>
                  <a:pt x="0" y="10000"/>
                </a:lnTo>
                <a:close/>
              </a:path>
            </a:pathLst>
          </a:custGeom>
          <a:solidFill>
            <a:srgbClr val="2647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5" name="TextBox 10"/>
          <p:cNvSpPr/>
          <p:nvPr/>
        </p:nvSpPr>
        <p:spPr>
          <a:xfrm>
            <a:off x="-525600" y="157320"/>
            <a:ext cx="80582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Государственное бюджетное учреждение дополнительного профессионального образования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«Челябинский институт развития образования»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6" name="Прямоугольник 11"/>
          <p:cNvSpPr/>
          <p:nvPr/>
        </p:nvSpPr>
        <p:spPr>
          <a:xfrm>
            <a:off x="4119480" y="3444840"/>
            <a:ext cx="946080" cy="905040"/>
          </a:xfrm>
          <a:prstGeom prst="rect">
            <a:avLst/>
          </a:prstGeom>
          <a:solidFill>
            <a:srgbClr val="264796"/>
          </a:solidFill>
          <a:ln w="6480">
            <a:solidFill>
              <a:srgbClr val="4472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377" name="Google Shape;559;p43"/>
          <p:cNvGrpSpPr/>
          <p:nvPr/>
        </p:nvGrpSpPr>
        <p:grpSpPr>
          <a:xfrm>
            <a:off x="4321080" y="3598920"/>
            <a:ext cx="573120" cy="552240"/>
            <a:chOff x="4321080" y="3598920"/>
            <a:chExt cx="573120" cy="552240"/>
          </a:xfrm>
        </p:grpSpPr>
        <p:sp>
          <p:nvSpPr>
            <p:cNvPr id="1378" name="Google Shape;560;p43"/>
            <p:cNvSpPr/>
            <p:nvPr/>
          </p:nvSpPr>
          <p:spPr>
            <a:xfrm>
              <a:off x="4321080" y="3598920"/>
              <a:ext cx="573120" cy="540000"/>
            </a:xfrm>
            <a:custGeom>
              <a:avLst/>
              <a:gdLst/>
              <a:ahLst/>
              <a:rect l="l" t="t" r="r" b="b"/>
              <a:pathLst>
                <a:path fill="none" w="18608" h="17805">
                  <a:moveTo>
                    <a:pt x="13493" y="14127"/>
                  </a:moveTo>
                  <a:lnTo>
                    <a:pt x="18608" y="17804"/>
                  </a:lnTo>
                  <a:lnTo>
                    <a:pt x="18608" y="17731"/>
                  </a:lnTo>
                  <a:lnTo>
                    <a:pt x="18608" y="6723"/>
                  </a:lnTo>
                  <a:lnTo>
                    <a:pt x="9304" y="1"/>
                  </a:lnTo>
                  <a:lnTo>
                    <a:pt x="1" y="6723"/>
                  </a:lnTo>
                  <a:lnTo>
                    <a:pt x="1" y="17731"/>
                  </a:lnTo>
                  <a:lnTo>
                    <a:pt x="1" y="17804"/>
                  </a:lnTo>
                  <a:lnTo>
                    <a:pt x="5115" y="14127"/>
                  </a:lnTo>
                </a:path>
              </a:pathLst>
            </a:custGeom>
            <a:noFill/>
            <a:ln cap="rnd" w="12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91080" bIns="91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1379" name="Google Shape;561;p43"/>
            <p:cNvSpPr/>
            <p:nvPr/>
          </p:nvSpPr>
          <p:spPr>
            <a:xfrm>
              <a:off x="4330800" y="4150440"/>
              <a:ext cx="553680" cy="720"/>
            </a:xfrm>
            <a:custGeom>
              <a:avLst/>
              <a:gdLst/>
              <a:ahLst/>
              <a:rect l="l" t="t" r="r" b="b"/>
              <a:pathLst>
                <a:path fill="none" w="17975" h="25">
                  <a:moveTo>
                    <a:pt x="0" y="0"/>
                  </a:moveTo>
                  <a:lnTo>
                    <a:pt x="0" y="0"/>
                  </a:lnTo>
                  <a:lnTo>
                    <a:pt x="98" y="0"/>
                  </a:lnTo>
                  <a:lnTo>
                    <a:pt x="171" y="24"/>
                  </a:lnTo>
                  <a:lnTo>
                    <a:pt x="17804" y="24"/>
                  </a:lnTo>
                  <a:lnTo>
                    <a:pt x="17877" y="0"/>
                  </a:lnTo>
                  <a:lnTo>
                    <a:pt x="17974" y="0"/>
                  </a:lnTo>
                </a:path>
              </a:pathLst>
            </a:custGeom>
            <a:noFill/>
            <a:ln cap="rnd" w="12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90360" bIns="-90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1380" name="Google Shape;562;p43"/>
            <p:cNvSpPr/>
            <p:nvPr/>
          </p:nvSpPr>
          <p:spPr>
            <a:xfrm>
              <a:off x="4321080" y="3802680"/>
              <a:ext cx="573120" cy="208080"/>
            </a:xfrm>
            <a:custGeom>
              <a:avLst/>
              <a:gdLst/>
              <a:ahLst/>
              <a:rect l="l" t="t" r="r" b="b"/>
              <a:pathLst>
                <a:path fill="none" w="18608" h="6869">
                  <a:moveTo>
                    <a:pt x="18608" y="1"/>
                  </a:moveTo>
                  <a:lnTo>
                    <a:pt x="9450" y="6820"/>
                  </a:lnTo>
                  <a:lnTo>
                    <a:pt x="9377" y="6845"/>
                  </a:lnTo>
                  <a:lnTo>
                    <a:pt x="9304" y="6869"/>
                  </a:lnTo>
                  <a:lnTo>
                    <a:pt x="9231" y="6845"/>
                  </a:lnTo>
                  <a:lnTo>
                    <a:pt x="9158" y="6820"/>
                  </a:lnTo>
                  <a:lnTo>
                    <a:pt x="1" y="1"/>
                  </a:lnTo>
                </a:path>
              </a:pathLst>
            </a:custGeom>
            <a:noFill/>
            <a:ln cap="rnd" w="12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91080" bIns="91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1381" name="Google Shape;563;p43"/>
            <p:cNvSpPr/>
            <p:nvPr/>
          </p:nvSpPr>
          <p:spPr>
            <a:xfrm>
              <a:off x="4435560" y="3752280"/>
              <a:ext cx="343800" cy="134280"/>
            </a:xfrm>
            <a:custGeom>
              <a:avLst/>
              <a:gdLst/>
              <a:ahLst/>
              <a:rect l="l" t="t" r="r" b="b"/>
              <a:pathLst>
                <a:path fill="none" w="11156" h="4434">
                  <a:moveTo>
                    <a:pt x="1" y="4433"/>
                  </a:moveTo>
                  <a:lnTo>
                    <a:pt x="1" y="1"/>
                  </a:lnTo>
                  <a:lnTo>
                    <a:pt x="11155" y="1"/>
                  </a:lnTo>
                  <a:lnTo>
                    <a:pt x="11155" y="4433"/>
                  </a:lnTo>
                </a:path>
              </a:pathLst>
            </a:custGeom>
            <a:noFill/>
            <a:ln cap="rnd" w="12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3200" bIns="43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1382" name="Google Shape;564;p43"/>
            <p:cNvSpPr/>
            <p:nvPr/>
          </p:nvSpPr>
          <p:spPr>
            <a:xfrm>
              <a:off x="4525200" y="3824640"/>
              <a:ext cx="164880" cy="360"/>
            </a:xfrm>
            <a:custGeom>
              <a:avLst/>
              <a:gdLst/>
              <a:ahLst/>
              <a:rect l="l" t="t" r="r" b="b"/>
              <a:pathLst>
                <a:path fill="none" w="5359" h="1">
                  <a:moveTo>
                    <a:pt x="0" y="0"/>
                  </a:moveTo>
                  <a:lnTo>
                    <a:pt x="5358" y="0"/>
                  </a:lnTo>
                </a:path>
              </a:pathLst>
            </a:custGeom>
            <a:noFill/>
            <a:ln cap="rnd" w="12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90720" bIns="-90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1383" name="Google Shape;565;p43"/>
            <p:cNvSpPr/>
            <p:nvPr/>
          </p:nvSpPr>
          <p:spPr>
            <a:xfrm>
              <a:off x="4525200" y="3866040"/>
              <a:ext cx="164880" cy="360"/>
            </a:xfrm>
            <a:custGeom>
              <a:avLst/>
              <a:gdLst/>
              <a:ahLst/>
              <a:rect l="l" t="t" r="r" b="b"/>
              <a:pathLst>
                <a:path fill="none" w="5359" h="1">
                  <a:moveTo>
                    <a:pt x="0" y="0"/>
                  </a:moveTo>
                  <a:lnTo>
                    <a:pt x="5358" y="0"/>
                  </a:lnTo>
                </a:path>
              </a:pathLst>
            </a:custGeom>
            <a:noFill/>
            <a:ln cap="rnd" w="12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90720" bIns="-90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1384" name="Google Shape;566;p43"/>
            <p:cNvSpPr/>
            <p:nvPr/>
          </p:nvSpPr>
          <p:spPr>
            <a:xfrm>
              <a:off x="4525200" y="3907440"/>
              <a:ext cx="104760" cy="360"/>
            </a:xfrm>
            <a:custGeom>
              <a:avLst/>
              <a:gdLst/>
              <a:ahLst/>
              <a:rect l="l" t="t" r="r" b="b"/>
              <a:pathLst>
                <a:path fill="none" w="3410" h="1">
                  <a:moveTo>
                    <a:pt x="0" y="0"/>
                  </a:moveTo>
                  <a:lnTo>
                    <a:pt x="3410" y="0"/>
                  </a:lnTo>
                </a:path>
              </a:pathLst>
            </a:custGeom>
            <a:noFill/>
            <a:ln cap="rnd" w="12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90720" bIns="-90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grpSp>
        <p:nvGrpSpPr>
          <p:cNvPr id="1385" name="Группа 65"/>
          <p:cNvGrpSpPr/>
          <p:nvPr/>
        </p:nvGrpSpPr>
        <p:grpSpPr>
          <a:xfrm>
            <a:off x="5305320" y="1104840"/>
            <a:ext cx="916200" cy="835200"/>
            <a:chOff x="5305320" y="1104840"/>
            <a:chExt cx="916200" cy="835200"/>
          </a:xfrm>
        </p:grpSpPr>
        <p:sp>
          <p:nvSpPr>
            <p:cNvPr id="1386" name="Прямоугольник 23"/>
            <p:cNvSpPr/>
            <p:nvPr/>
          </p:nvSpPr>
          <p:spPr>
            <a:xfrm>
              <a:off x="5305320" y="1104840"/>
              <a:ext cx="916200" cy="835200"/>
            </a:xfrm>
            <a:prstGeom prst="rect">
              <a:avLst/>
            </a:prstGeom>
            <a:solidFill>
              <a:srgbClr val="264796"/>
            </a:solidFill>
            <a:ln w="0">
              <a:noFill/>
            </a:ln>
            <a:effectLst>
              <a:outerShdw dist="19080" dir="5400000" blurRad="0" rotWithShape="0">
                <a:srgbClr val="000000">
                  <a:alpha val="6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grpSp>
          <p:nvGrpSpPr>
            <p:cNvPr id="1387" name="Google Shape;732;p43"/>
            <p:cNvGrpSpPr/>
            <p:nvPr/>
          </p:nvGrpSpPr>
          <p:grpSpPr>
            <a:xfrm>
              <a:off x="5464080" y="1296360"/>
              <a:ext cx="609480" cy="502920"/>
              <a:chOff x="5464080" y="1296360"/>
              <a:chExt cx="609480" cy="502920"/>
            </a:xfrm>
          </p:grpSpPr>
          <p:sp>
            <p:nvSpPr>
              <p:cNvPr id="1388" name="Google Shape;733;p43"/>
              <p:cNvSpPr/>
              <p:nvPr/>
            </p:nvSpPr>
            <p:spPr>
              <a:xfrm>
                <a:off x="5963760" y="1731240"/>
                <a:ext cx="85320" cy="68040"/>
              </a:xfrm>
              <a:custGeom>
                <a:avLst/>
                <a:gdLst/>
                <a:ahLst/>
                <a:rect l="l" t="t" r="r" b="b"/>
                <a:pathLst>
                  <a:path fill="none" w="2631" h="2096">
                    <a:moveTo>
                      <a:pt x="1" y="1"/>
                    </a:moveTo>
                    <a:lnTo>
                      <a:pt x="1" y="780"/>
                    </a:lnTo>
                    <a:lnTo>
                      <a:pt x="25" y="1048"/>
                    </a:lnTo>
                    <a:lnTo>
                      <a:pt x="122" y="1291"/>
                    </a:lnTo>
                    <a:lnTo>
                      <a:pt x="244" y="1511"/>
                    </a:lnTo>
                    <a:lnTo>
                      <a:pt x="390" y="1705"/>
                    </a:lnTo>
                    <a:lnTo>
                      <a:pt x="585" y="1852"/>
                    </a:lnTo>
                    <a:lnTo>
                      <a:pt x="804" y="1973"/>
                    </a:lnTo>
                    <a:lnTo>
                      <a:pt x="1048" y="2071"/>
                    </a:lnTo>
                    <a:lnTo>
                      <a:pt x="1316" y="2095"/>
                    </a:lnTo>
                    <a:lnTo>
                      <a:pt x="1584" y="2071"/>
                    </a:lnTo>
                    <a:lnTo>
                      <a:pt x="1827" y="1973"/>
                    </a:lnTo>
                    <a:lnTo>
                      <a:pt x="2046" y="1852"/>
                    </a:lnTo>
                    <a:lnTo>
                      <a:pt x="2241" y="1705"/>
                    </a:lnTo>
                    <a:lnTo>
                      <a:pt x="2412" y="1511"/>
                    </a:lnTo>
                    <a:lnTo>
                      <a:pt x="2533" y="1291"/>
                    </a:lnTo>
                    <a:lnTo>
                      <a:pt x="2607" y="1048"/>
                    </a:lnTo>
                    <a:lnTo>
                      <a:pt x="2631" y="780"/>
                    </a:lnTo>
                    <a:lnTo>
                      <a:pt x="2631" y="1"/>
                    </a:lnTo>
                  </a:path>
                </a:pathLst>
              </a:custGeom>
              <a:noFill/>
              <a:ln cap="rnd" w="12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-23040" bIns="-23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  <p:sp>
            <p:nvSpPr>
              <p:cNvPr id="1389" name="Google Shape;734;p43"/>
              <p:cNvSpPr/>
              <p:nvPr/>
            </p:nvSpPr>
            <p:spPr>
              <a:xfrm>
                <a:off x="5488560" y="1731240"/>
                <a:ext cx="85320" cy="68040"/>
              </a:xfrm>
              <a:custGeom>
                <a:avLst/>
                <a:gdLst/>
                <a:ahLst/>
                <a:rect l="l" t="t" r="r" b="b"/>
                <a:pathLst>
                  <a:path fill="none" w="2631" h="2096">
                    <a:moveTo>
                      <a:pt x="1" y="1"/>
                    </a:moveTo>
                    <a:lnTo>
                      <a:pt x="1" y="780"/>
                    </a:lnTo>
                    <a:lnTo>
                      <a:pt x="25" y="1048"/>
                    </a:lnTo>
                    <a:lnTo>
                      <a:pt x="98" y="1291"/>
                    </a:lnTo>
                    <a:lnTo>
                      <a:pt x="220" y="1511"/>
                    </a:lnTo>
                    <a:lnTo>
                      <a:pt x="390" y="1705"/>
                    </a:lnTo>
                    <a:lnTo>
                      <a:pt x="585" y="1852"/>
                    </a:lnTo>
                    <a:lnTo>
                      <a:pt x="804" y="1973"/>
                    </a:lnTo>
                    <a:lnTo>
                      <a:pt x="1048" y="2071"/>
                    </a:lnTo>
                    <a:lnTo>
                      <a:pt x="1316" y="2095"/>
                    </a:lnTo>
                    <a:lnTo>
                      <a:pt x="1584" y="2071"/>
                    </a:lnTo>
                    <a:lnTo>
                      <a:pt x="1827" y="1973"/>
                    </a:lnTo>
                    <a:lnTo>
                      <a:pt x="2046" y="1852"/>
                    </a:lnTo>
                    <a:lnTo>
                      <a:pt x="2241" y="1705"/>
                    </a:lnTo>
                    <a:lnTo>
                      <a:pt x="2387" y="1511"/>
                    </a:lnTo>
                    <a:lnTo>
                      <a:pt x="2509" y="1291"/>
                    </a:lnTo>
                    <a:lnTo>
                      <a:pt x="2607" y="1048"/>
                    </a:lnTo>
                    <a:lnTo>
                      <a:pt x="2631" y="780"/>
                    </a:lnTo>
                    <a:lnTo>
                      <a:pt x="2631" y="1"/>
                    </a:lnTo>
                  </a:path>
                </a:pathLst>
              </a:custGeom>
              <a:noFill/>
              <a:ln cap="rnd" w="12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-23040" bIns="-23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  <p:sp>
            <p:nvSpPr>
              <p:cNvPr id="1390" name="Google Shape;735;p43"/>
              <p:cNvSpPr/>
              <p:nvPr/>
            </p:nvSpPr>
            <p:spPr>
              <a:xfrm>
                <a:off x="5464080" y="1296360"/>
                <a:ext cx="609480" cy="432720"/>
              </a:xfrm>
              <a:custGeom>
                <a:avLst/>
                <a:gdLst/>
                <a:ahLst/>
                <a:rect l="l" t="t" r="r" b="b"/>
                <a:pathLst>
                  <a:path fill="none" w="18754" h="13323">
                    <a:moveTo>
                      <a:pt x="18754" y="5553"/>
                    </a:moveTo>
                    <a:lnTo>
                      <a:pt x="18754" y="5553"/>
                    </a:lnTo>
                    <a:lnTo>
                      <a:pt x="18730" y="5334"/>
                    </a:lnTo>
                    <a:lnTo>
                      <a:pt x="18681" y="5091"/>
                    </a:lnTo>
                    <a:lnTo>
                      <a:pt x="18583" y="4847"/>
                    </a:lnTo>
                    <a:lnTo>
                      <a:pt x="18462" y="4628"/>
                    </a:lnTo>
                    <a:lnTo>
                      <a:pt x="18291" y="4433"/>
                    </a:lnTo>
                    <a:lnTo>
                      <a:pt x="18121" y="4287"/>
                    </a:lnTo>
                    <a:lnTo>
                      <a:pt x="18023" y="4214"/>
                    </a:lnTo>
                    <a:lnTo>
                      <a:pt x="17926" y="4165"/>
                    </a:lnTo>
                    <a:lnTo>
                      <a:pt x="17828" y="4141"/>
                    </a:lnTo>
                    <a:lnTo>
                      <a:pt x="17731" y="4141"/>
                    </a:lnTo>
                    <a:lnTo>
                      <a:pt x="16489" y="4141"/>
                    </a:lnTo>
                    <a:lnTo>
                      <a:pt x="15588" y="1803"/>
                    </a:lnTo>
                    <a:lnTo>
                      <a:pt x="15490" y="1583"/>
                    </a:lnTo>
                    <a:lnTo>
                      <a:pt x="15344" y="1364"/>
                    </a:lnTo>
                    <a:lnTo>
                      <a:pt x="15174" y="1169"/>
                    </a:lnTo>
                    <a:lnTo>
                      <a:pt x="15003" y="975"/>
                    </a:lnTo>
                    <a:lnTo>
                      <a:pt x="14784" y="804"/>
                    </a:lnTo>
                    <a:lnTo>
                      <a:pt x="14565" y="658"/>
                    </a:lnTo>
                    <a:lnTo>
                      <a:pt x="14346" y="536"/>
                    </a:lnTo>
                    <a:lnTo>
                      <a:pt x="14102" y="439"/>
                    </a:lnTo>
                    <a:lnTo>
                      <a:pt x="13810" y="390"/>
                    </a:lnTo>
                    <a:lnTo>
                      <a:pt x="13444" y="317"/>
                    </a:lnTo>
                    <a:lnTo>
                      <a:pt x="12933" y="220"/>
                    </a:lnTo>
                    <a:lnTo>
                      <a:pt x="12275" y="147"/>
                    </a:lnTo>
                    <a:lnTo>
                      <a:pt x="11472" y="73"/>
                    </a:lnTo>
                    <a:lnTo>
                      <a:pt x="10498" y="25"/>
                    </a:lnTo>
                    <a:lnTo>
                      <a:pt x="9377" y="0"/>
                    </a:lnTo>
                    <a:lnTo>
                      <a:pt x="8257" y="25"/>
                    </a:lnTo>
                    <a:lnTo>
                      <a:pt x="7283" y="73"/>
                    </a:lnTo>
                    <a:lnTo>
                      <a:pt x="6479" y="147"/>
                    </a:lnTo>
                    <a:lnTo>
                      <a:pt x="5821" y="220"/>
                    </a:lnTo>
                    <a:lnTo>
                      <a:pt x="5310" y="317"/>
                    </a:lnTo>
                    <a:lnTo>
                      <a:pt x="4945" y="390"/>
                    </a:lnTo>
                    <a:lnTo>
                      <a:pt x="4652" y="439"/>
                    </a:lnTo>
                    <a:lnTo>
                      <a:pt x="4409" y="536"/>
                    </a:lnTo>
                    <a:lnTo>
                      <a:pt x="4190" y="658"/>
                    </a:lnTo>
                    <a:lnTo>
                      <a:pt x="3970" y="804"/>
                    </a:lnTo>
                    <a:lnTo>
                      <a:pt x="3751" y="975"/>
                    </a:lnTo>
                    <a:lnTo>
                      <a:pt x="3581" y="1169"/>
                    </a:lnTo>
                    <a:lnTo>
                      <a:pt x="3410" y="1364"/>
                    </a:lnTo>
                    <a:lnTo>
                      <a:pt x="3264" y="1583"/>
                    </a:lnTo>
                    <a:lnTo>
                      <a:pt x="3167" y="1803"/>
                    </a:lnTo>
                    <a:lnTo>
                      <a:pt x="2266" y="4141"/>
                    </a:lnTo>
                    <a:lnTo>
                      <a:pt x="1023" y="4141"/>
                    </a:lnTo>
                    <a:lnTo>
                      <a:pt x="926" y="4141"/>
                    </a:lnTo>
                    <a:lnTo>
                      <a:pt x="829" y="4165"/>
                    </a:lnTo>
                    <a:lnTo>
                      <a:pt x="731" y="4214"/>
                    </a:lnTo>
                    <a:lnTo>
                      <a:pt x="634" y="4287"/>
                    </a:lnTo>
                    <a:lnTo>
                      <a:pt x="463" y="4433"/>
                    </a:lnTo>
                    <a:lnTo>
                      <a:pt x="293" y="4628"/>
                    </a:lnTo>
                    <a:lnTo>
                      <a:pt x="171" y="4847"/>
                    </a:lnTo>
                    <a:lnTo>
                      <a:pt x="74" y="5091"/>
                    </a:lnTo>
                    <a:lnTo>
                      <a:pt x="25" y="5334"/>
                    </a:lnTo>
                    <a:lnTo>
                      <a:pt x="1" y="5553"/>
                    </a:lnTo>
                    <a:lnTo>
                      <a:pt x="25" y="5748"/>
                    </a:lnTo>
                    <a:lnTo>
                      <a:pt x="74" y="5894"/>
                    </a:lnTo>
                    <a:lnTo>
                      <a:pt x="171" y="6016"/>
                    </a:lnTo>
                    <a:lnTo>
                      <a:pt x="293" y="6089"/>
                    </a:lnTo>
                    <a:lnTo>
                      <a:pt x="463" y="6138"/>
                    </a:lnTo>
                    <a:lnTo>
                      <a:pt x="634" y="6187"/>
                    </a:lnTo>
                    <a:lnTo>
                      <a:pt x="1023" y="6187"/>
                    </a:lnTo>
                    <a:lnTo>
                      <a:pt x="1462" y="6187"/>
                    </a:lnTo>
                    <a:lnTo>
                      <a:pt x="1145" y="7015"/>
                    </a:lnTo>
                    <a:lnTo>
                      <a:pt x="999" y="7526"/>
                    </a:lnTo>
                    <a:lnTo>
                      <a:pt x="877" y="8086"/>
                    </a:lnTo>
                    <a:lnTo>
                      <a:pt x="780" y="8671"/>
                    </a:lnTo>
                    <a:lnTo>
                      <a:pt x="756" y="9207"/>
                    </a:lnTo>
                    <a:lnTo>
                      <a:pt x="756" y="13323"/>
                    </a:lnTo>
                    <a:lnTo>
                      <a:pt x="17999" y="13323"/>
                    </a:lnTo>
                    <a:lnTo>
                      <a:pt x="17999" y="9207"/>
                    </a:lnTo>
                    <a:lnTo>
                      <a:pt x="17975" y="8671"/>
                    </a:lnTo>
                    <a:lnTo>
                      <a:pt x="17877" y="8086"/>
                    </a:lnTo>
                    <a:lnTo>
                      <a:pt x="17755" y="7526"/>
                    </a:lnTo>
                    <a:lnTo>
                      <a:pt x="17609" y="7015"/>
                    </a:lnTo>
                    <a:lnTo>
                      <a:pt x="17293" y="6187"/>
                    </a:lnTo>
                    <a:lnTo>
                      <a:pt x="17731" y="6187"/>
                    </a:lnTo>
                    <a:lnTo>
                      <a:pt x="18121" y="6187"/>
                    </a:lnTo>
                    <a:lnTo>
                      <a:pt x="18291" y="6138"/>
                    </a:lnTo>
                    <a:lnTo>
                      <a:pt x="18462" y="6089"/>
                    </a:lnTo>
                    <a:lnTo>
                      <a:pt x="18583" y="6016"/>
                    </a:lnTo>
                    <a:lnTo>
                      <a:pt x="18681" y="5894"/>
                    </a:lnTo>
                    <a:lnTo>
                      <a:pt x="18730" y="5748"/>
                    </a:lnTo>
                    <a:lnTo>
                      <a:pt x="18754" y="5553"/>
                    </a:lnTo>
                  </a:path>
                </a:pathLst>
              </a:custGeom>
              <a:noFill/>
              <a:ln cap="rnd" w="12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91080" bIns="91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  <p:sp>
            <p:nvSpPr>
              <p:cNvPr id="1391" name="Google Shape;736;p43"/>
              <p:cNvSpPr/>
              <p:nvPr/>
            </p:nvSpPr>
            <p:spPr>
              <a:xfrm>
                <a:off x="5571720" y="1339560"/>
                <a:ext cx="394200" cy="194400"/>
              </a:xfrm>
              <a:custGeom>
                <a:avLst/>
                <a:gdLst/>
                <a:ahLst/>
                <a:rect l="l" t="t" r="r" b="b"/>
                <a:pathLst>
                  <a:path fill="none" w="12130" h="5993">
                    <a:moveTo>
                      <a:pt x="1" y="4628"/>
                    </a:moveTo>
                    <a:lnTo>
                      <a:pt x="1" y="4628"/>
                    </a:lnTo>
                    <a:lnTo>
                      <a:pt x="171" y="4019"/>
                    </a:lnTo>
                    <a:lnTo>
                      <a:pt x="585" y="2656"/>
                    </a:lnTo>
                    <a:lnTo>
                      <a:pt x="805" y="1925"/>
                    </a:lnTo>
                    <a:lnTo>
                      <a:pt x="1024" y="1292"/>
                    </a:lnTo>
                    <a:lnTo>
                      <a:pt x="1194" y="829"/>
                    </a:lnTo>
                    <a:lnTo>
                      <a:pt x="1267" y="707"/>
                    </a:lnTo>
                    <a:lnTo>
                      <a:pt x="1316" y="658"/>
                    </a:lnTo>
                    <a:lnTo>
                      <a:pt x="1535" y="561"/>
                    </a:lnTo>
                    <a:lnTo>
                      <a:pt x="1852" y="464"/>
                    </a:lnTo>
                    <a:lnTo>
                      <a:pt x="2315" y="342"/>
                    </a:lnTo>
                    <a:lnTo>
                      <a:pt x="2948" y="220"/>
                    </a:lnTo>
                    <a:lnTo>
                      <a:pt x="3776" y="98"/>
                    </a:lnTo>
                    <a:lnTo>
                      <a:pt x="4799" y="25"/>
                    </a:lnTo>
                    <a:lnTo>
                      <a:pt x="5408" y="1"/>
                    </a:lnTo>
                    <a:lnTo>
                      <a:pt x="6065" y="1"/>
                    </a:lnTo>
                    <a:lnTo>
                      <a:pt x="6723" y="1"/>
                    </a:lnTo>
                    <a:lnTo>
                      <a:pt x="7332" y="25"/>
                    </a:lnTo>
                    <a:lnTo>
                      <a:pt x="8355" y="98"/>
                    </a:lnTo>
                    <a:lnTo>
                      <a:pt x="9183" y="220"/>
                    </a:lnTo>
                    <a:lnTo>
                      <a:pt x="9816" y="342"/>
                    </a:lnTo>
                    <a:lnTo>
                      <a:pt x="10279" y="464"/>
                    </a:lnTo>
                    <a:lnTo>
                      <a:pt x="10595" y="561"/>
                    </a:lnTo>
                    <a:lnTo>
                      <a:pt x="10814" y="658"/>
                    </a:lnTo>
                    <a:lnTo>
                      <a:pt x="10863" y="707"/>
                    </a:lnTo>
                    <a:lnTo>
                      <a:pt x="10936" y="829"/>
                    </a:lnTo>
                    <a:lnTo>
                      <a:pt x="11107" y="1292"/>
                    </a:lnTo>
                    <a:lnTo>
                      <a:pt x="11326" y="1925"/>
                    </a:lnTo>
                    <a:lnTo>
                      <a:pt x="11545" y="2656"/>
                    </a:lnTo>
                    <a:lnTo>
                      <a:pt x="11959" y="4019"/>
                    </a:lnTo>
                    <a:lnTo>
                      <a:pt x="12130" y="4628"/>
                    </a:lnTo>
                    <a:lnTo>
                      <a:pt x="12105" y="4677"/>
                    </a:lnTo>
                    <a:lnTo>
                      <a:pt x="12057" y="4750"/>
                    </a:lnTo>
                    <a:lnTo>
                      <a:pt x="11959" y="4823"/>
                    </a:lnTo>
                    <a:lnTo>
                      <a:pt x="11813" y="4921"/>
                    </a:lnTo>
                    <a:lnTo>
                      <a:pt x="11618" y="5042"/>
                    </a:lnTo>
                    <a:lnTo>
                      <a:pt x="11375" y="5164"/>
                    </a:lnTo>
                    <a:lnTo>
                      <a:pt x="11058" y="5262"/>
                    </a:lnTo>
                    <a:lnTo>
                      <a:pt x="10717" y="5383"/>
                    </a:lnTo>
                    <a:lnTo>
                      <a:pt x="10327" y="5505"/>
                    </a:lnTo>
                    <a:lnTo>
                      <a:pt x="9865" y="5627"/>
                    </a:lnTo>
                    <a:lnTo>
                      <a:pt x="9377" y="5724"/>
                    </a:lnTo>
                    <a:lnTo>
                      <a:pt x="8817" y="5822"/>
                    </a:lnTo>
                    <a:lnTo>
                      <a:pt x="8208" y="5895"/>
                    </a:lnTo>
                    <a:lnTo>
                      <a:pt x="7551" y="5944"/>
                    </a:lnTo>
                    <a:lnTo>
                      <a:pt x="6845" y="5992"/>
                    </a:lnTo>
                    <a:lnTo>
                      <a:pt x="6065" y="5992"/>
                    </a:lnTo>
                    <a:lnTo>
                      <a:pt x="5286" y="5992"/>
                    </a:lnTo>
                    <a:lnTo>
                      <a:pt x="4580" y="5944"/>
                    </a:lnTo>
                    <a:lnTo>
                      <a:pt x="3922" y="5895"/>
                    </a:lnTo>
                    <a:lnTo>
                      <a:pt x="3313" y="5822"/>
                    </a:lnTo>
                    <a:lnTo>
                      <a:pt x="2753" y="5724"/>
                    </a:lnTo>
                    <a:lnTo>
                      <a:pt x="2266" y="5627"/>
                    </a:lnTo>
                    <a:lnTo>
                      <a:pt x="1803" y="5505"/>
                    </a:lnTo>
                    <a:lnTo>
                      <a:pt x="1413" y="5383"/>
                    </a:lnTo>
                    <a:lnTo>
                      <a:pt x="1072" y="5262"/>
                    </a:lnTo>
                    <a:lnTo>
                      <a:pt x="756" y="5164"/>
                    </a:lnTo>
                    <a:lnTo>
                      <a:pt x="512" y="5042"/>
                    </a:lnTo>
                    <a:lnTo>
                      <a:pt x="317" y="4921"/>
                    </a:lnTo>
                    <a:lnTo>
                      <a:pt x="171" y="4823"/>
                    </a:lnTo>
                    <a:lnTo>
                      <a:pt x="74" y="4750"/>
                    </a:lnTo>
                    <a:lnTo>
                      <a:pt x="25" y="4677"/>
                    </a:lnTo>
                    <a:lnTo>
                      <a:pt x="1" y="4628"/>
                    </a:lnTo>
                  </a:path>
                </a:pathLst>
              </a:custGeom>
              <a:noFill/>
              <a:ln cap="rnd" w="12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91080" bIns="91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  <p:sp>
            <p:nvSpPr>
              <p:cNvPr id="1392" name="Google Shape;737;p43"/>
              <p:cNvSpPr/>
              <p:nvPr/>
            </p:nvSpPr>
            <p:spPr>
              <a:xfrm>
                <a:off x="5540040" y="1591200"/>
                <a:ext cx="105120" cy="84600"/>
              </a:xfrm>
              <a:custGeom>
                <a:avLst/>
                <a:gdLst/>
                <a:ahLst/>
                <a:rect l="l" t="t" r="r" b="b"/>
                <a:pathLst>
                  <a:path fill="none" w="3240" h="2607">
                    <a:moveTo>
                      <a:pt x="1632" y="2607"/>
                    </a:moveTo>
                    <a:lnTo>
                      <a:pt x="1632" y="2607"/>
                    </a:lnTo>
                    <a:lnTo>
                      <a:pt x="1291" y="2582"/>
                    </a:lnTo>
                    <a:lnTo>
                      <a:pt x="999" y="2509"/>
                    </a:lnTo>
                    <a:lnTo>
                      <a:pt x="731" y="2388"/>
                    </a:lnTo>
                    <a:lnTo>
                      <a:pt x="488" y="2217"/>
                    </a:lnTo>
                    <a:lnTo>
                      <a:pt x="293" y="2047"/>
                    </a:lnTo>
                    <a:lnTo>
                      <a:pt x="122" y="1803"/>
                    </a:lnTo>
                    <a:lnTo>
                      <a:pt x="74" y="1706"/>
                    </a:lnTo>
                    <a:lnTo>
                      <a:pt x="49" y="1559"/>
                    </a:lnTo>
                    <a:lnTo>
                      <a:pt x="25" y="1438"/>
                    </a:lnTo>
                    <a:lnTo>
                      <a:pt x="1" y="1316"/>
                    </a:lnTo>
                    <a:lnTo>
                      <a:pt x="25" y="1170"/>
                    </a:lnTo>
                    <a:lnTo>
                      <a:pt x="49" y="1048"/>
                    </a:lnTo>
                    <a:lnTo>
                      <a:pt x="74" y="926"/>
                    </a:lnTo>
                    <a:lnTo>
                      <a:pt x="122" y="804"/>
                    </a:lnTo>
                    <a:lnTo>
                      <a:pt x="293" y="585"/>
                    </a:lnTo>
                    <a:lnTo>
                      <a:pt x="488" y="390"/>
                    </a:lnTo>
                    <a:lnTo>
                      <a:pt x="731" y="220"/>
                    </a:lnTo>
                    <a:lnTo>
                      <a:pt x="999" y="98"/>
                    </a:lnTo>
                    <a:lnTo>
                      <a:pt x="1291" y="25"/>
                    </a:lnTo>
                    <a:lnTo>
                      <a:pt x="1632" y="1"/>
                    </a:lnTo>
                    <a:lnTo>
                      <a:pt x="1803" y="1"/>
                    </a:lnTo>
                    <a:lnTo>
                      <a:pt x="1949" y="49"/>
                    </a:lnTo>
                    <a:lnTo>
                      <a:pt x="2120" y="98"/>
                    </a:lnTo>
                    <a:lnTo>
                      <a:pt x="2266" y="171"/>
                    </a:lnTo>
                    <a:lnTo>
                      <a:pt x="2412" y="269"/>
                    </a:lnTo>
                    <a:lnTo>
                      <a:pt x="2534" y="390"/>
                    </a:lnTo>
                    <a:lnTo>
                      <a:pt x="2777" y="634"/>
                    </a:lnTo>
                    <a:lnTo>
                      <a:pt x="2972" y="926"/>
                    </a:lnTo>
                    <a:lnTo>
                      <a:pt x="3118" y="1219"/>
                    </a:lnTo>
                    <a:lnTo>
                      <a:pt x="3215" y="1535"/>
                    </a:lnTo>
                    <a:lnTo>
                      <a:pt x="3240" y="1681"/>
                    </a:lnTo>
                    <a:lnTo>
                      <a:pt x="3240" y="1803"/>
                    </a:lnTo>
                    <a:lnTo>
                      <a:pt x="3240" y="1949"/>
                    </a:lnTo>
                    <a:lnTo>
                      <a:pt x="3215" y="2047"/>
                    </a:lnTo>
                    <a:lnTo>
                      <a:pt x="3167" y="2144"/>
                    </a:lnTo>
                    <a:lnTo>
                      <a:pt x="3118" y="2241"/>
                    </a:lnTo>
                    <a:lnTo>
                      <a:pt x="3045" y="2314"/>
                    </a:lnTo>
                    <a:lnTo>
                      <a:pt x="2972" y="2388"/>
                    </a:lnTo>
                    <a:lnTo>
                      <a:pt x="2777" y="2485"/>
                    </a:lnTo>
                    <a:lnTo>
                      <a:pt x="2534" y="2558"/>
                    </a:lnTo>
                    <a:lnTo>
                      <a:pt x="2266" y="2582"/>
                    </a:lnTo>
                    <a:lnTo>
                      <a:pt x="1949" y="2607"/>
                    </a:lnTo>
                    <a:lnTo>
                      <a:pt x="1632" y="2607"/>
                    </a:lnTo>
                  </a:path>
                </a:pathLst>
              </a:custGeom>
              <a:noFill/>
              <a:ln cap="rnd" w="12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-6480" bIns="-6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  <p:sp>
            <p:nvSpPr>
              <p:cNvPr id="1393" name="Google Shape;738;p43"/>
              <p:cNvSpPr/>
              <p:nvPr/>
            </p:nvSpPr>
            <p:spPr>
              <a:xfrm>
                <a:off x="5696640" y="1652400"/>
                <a:ext cx="144000" cy="360"/>
              </a:xfrm>
              <a:custGeom>
                <a:avLst/>
                <a:gdLst/>
                <a:ahLst/>
                <a:rect l="l" t="t" r="r" b="b"/>
                <a:pathLst>
                  <a:path fill="none" w="4434" h="1">
                    <a:moveTo>
                      <a:pt x="1" y="0"/>
                    </a:moveTo>
                    <a:lnTo>
                      <a:pt x="4434" y="0"/>
                    </a:lnTo>
                  </a:path>
                </a:pathLst>
              </a:custGeom>
              <a:noFill/>
              <a:ln cap="rnd" w="12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-90720" bIns="-90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  <p:sp>
            <p:nvSpPr>
              <p:cNvPr id="1394" name="Google Shape;739;p43"/>
              <p:cNvSpPr/>
              <p:nvPr/>
            </p:nvSpPr>
            <p:spPr>
              <a:xfrm>
                <a:off x="5687280" y="1617480"/>
                <a:ext cx="163080" cy="360"/>
              </a:xfrm>
              <a:custGeom>
                <a:avLst/>
                <a:gdLst/>
                <a:ahLst/>
                <a:rect l="l" t="t" r="r" b="b"/>
                <a:pathLst>
                  <a:path fill="none" w="5018" h="1">
                    <a:moveTo>
                      <a:pt x="1" y="0"/>
                    </a:moveTo>
                    <a:lnTo>
                      <a:pt x="5018" y="0"/>
                    </a:lnTo>
                  </a:path>
                </a:pathLst>
              </a:custGeom>
              <a:noFill/>
              <a:ln cap="rnd" w="12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-90720" bIns="-90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  <p:sp>
            <p:nvSpPr>
              <p:cNvPr id="1395" name="Google Shape;740;p43"/>
              <p:cNvSpPr/>
              <p:nvPr/>
            </p:nvSpPr>
            <p:spPr>
              <a:xfrm>
                <a:off x="5892480" y="1591200"/>
                <a:ext cx="105120" cy="84600"/>
              </a:xfrm>
              <a:custGeom>
                <a:avLst/>
                <a:gdLst/>
                <a:ahLst/>
                <a:rect l="l" t="t" r="r" b="b"/>
                <a:pathLst>
                  <a:path fill="none" w="3240" h="2607">
                    <a:moveTo>
                      <a:pt x="1608" y="2607"/>
                    </a:moveTo>
                    <a:lnTo>
                      <a:pt x="1608" y="2607"/>
                    </a:lnTo>
                    <a:lnTo>
                      <a:pt x="1291" y="2607"/>
                    </a:lnTo>
                    <a:lnTo>
                      <a:pt x="975" y="2582"/>
                    </a:lnTo>
                    <a:lnTo>
                      <a:pt x="707" y="2558"/>
                    </a:lnTo>
                    <a:lnTo>
                      <a:pt x="463" y="2485"/>
                    </a:lnTo>
                    <a:lnTo>
                      <a:pt x="268" y="2388"/>
                    </a:lnTo>
                    <a:lnTo>
                      <a:pt x="195" y="2314"/>
                    </a:lnTo>
                    <a:lnTo>
                      <a:pt x="122" y="2241"/>
                    </a:lnTo>
                    <a:lnTo>
                      <a:pt x="74" y="2144"/>
                    </a:lnTo>
                    <a:lnTo>
                      <a:pt x="25" y="2047"/>
                    </a:lnTo>
                    <a:lnTo>
                      <a:pt x="1" y="1949"/>
                    </a:lnTo>
                    <a:lnTo>
                      <a:pt x="1" y="1803"/>
                    </a:lnTo>
                    <a:lnTo>
                      <a:pt x="1" y="1681"/>
                    </a:lnTo>
                    <a:lnTo>
                      <a:pt x="25" y="1535"/>
                    </a:lnTo>
                    <a:lnTo>
                      <a:pt x="122" y="1219"/>
                    </a:lnTo>
                    <a:lnTo>
                      <a:pt x="268" y="926"/>
                    </a:lnTo>
                    <a:lnTo>
                      <a:pt x="463" y="634"/>
                    </a:lnTo>
                    <a:lnTo>
                      <a:pt x="707" y="390"/>
                    </a:lnTo>
                    <a:lnTo>
                      <a:pt x="829" y="269"/>
                    </a:lnTo>
                    <a:lnTo>
                      <a:pt x="975" y="171"/>
                    </a:lnTo>
                    <a:lnTo>
                      <a:pt x="1121" y="98"/>
                    </a:lnTo>
                    <a:lnTo>
                      <a:pt x="1291" y="49"/>
                    </a:lnTo>
                    <a:lnTo>
                      <a:pt x="1438" y="1"/>
                    </a:lnTo>
                    <a:lnTo>
                      <a:pt x="1608" y="1"/>
                    </a:lnTo>
                    <a:lnTo>
                      <a:pt x="1949" y="25"/>
                    </a:lnTo>
                    <a:lnTo>
                      <a:pt x="2241" y="98"/>
                    </a:lnTo>
                    <a:lnTo>
                      <a:pt x="2509" y="220"/>
                    </a:lnTo>
                    <a:lnTo>
                      <a:pt x="2753" y="390"/>
                    </a:lnTo>
                    <a:lnTo>
                      <a:pt x="2948" y="585"/>
                    </a:lnTo>
                    <a:lnTo>
                      <a:pt x="3118" y="804"/>
                    </a:lnTo>
                    <a:lnTo>
                      <a:pt x="3167" y="926"/>
                    </a:lnTo>
                    <a:lnTo>
                      <a:pt x="3191" y="1048"/>
                    </a:lnTo>
                    <a:lnTo>
                      <a:pt x="3215" y="1170"/>
                    </a:lnTo>
                    <a:lnTo>
                      <a:pt x="3240" y="1316"/>
                    </a:lnTo>
                    <a:lnTo>
                      <a:pt x="3215" y="1438"/>
                    </a:lnTo>
                    <a:lnTo>
                      <a:pt x="3191" y="1559"/>
                    </a:lnTo>
                    <a:lnTo>
                      <a:pt x="3167" y="1706"/>
                    </a:lnTo>
                    <a:lnTo>
                      <a:pt x="3118" y="1803"/>
                    </a:lnTo>
                    <a:lnTo>
                      <a:pt x="2948" y="2047"/>
                    </a:lnTo>
                    <a:lnTo>
                      <a:pt x="2753" y="2217"/>
                    </a:lnTo>
                    <a:lnTo>
                      <a:pt x="2509" y="2388"/>
                    </a:lnTo>
                    <a:lnTo>
                      <a:pt x="2241" y="2509"/>
                    </a:lnTo>
                    <a:lnTo>
                      <a:pt x="1949" y="2582"/>
                    </a:lnTo>
                    <a:lnTo>
                      <a:pt x="1608" y="2607"/>
                    </a:lnTo>
                  </a:path>
                </a:pathLst>
              </a:custGeom>
              <a:noFill/>
              <a:ln cap="rnd" w="12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-6480" bIns="-6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396" name="TextBox 40"/>
          <p:cNvSpPr/>
          <p:nvPr/>
        </p:nvSpPr>
        <p:spPr>
          <a:xfrm>
            <a:off x="3247920" y="4349880"/>
            <a:ext cx="27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info@chiro74.ru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97" name="TextBox 41"/>
          <p:cNvSpPr/>
          <p:nvPr/>
        </p:nvSpPr>
        <p:spPr>
          <a:xfrm>
            <a:off x="5226120" y="4356000"/>
            <a:ext cx="314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8 (351) 217 30 89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98" name="TextBox 43"/>
          <p:cNvSpPr/>
          <p:nvPr/>
        </p:nvSpPr>
        <p:spPr>
          <a:xfrm>
            <a:off x="2774880" y="2052720"/>
            <a:ext cx="6112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454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111, г. Челябинск, ул. Комсомольская, д. 20А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454087, г. Челябинск, ул. Блюхера, д. 9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454091, г. Челябинск, ул. Красноармейская, д. 88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454048, г. Челябинск, ул. Худякова, д. 20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99" name="Google Shape;59;g142ea23b5d2_0_0"/>
          <p:cNvSpPr/>
          <p:nvPr/>
        </p:nvSpPr>
        <p:spPr>
          <a:xfrm>
            <a:off x="3944880" y="4637160"/>
            <a:ext cx="36594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121680" bIns="121680" anchor="t">
            <a:spAutoFit/>
          </a:bodyPr>
          <a:p>
            <a:pPr marL="15840" algn="ctr">
              <a:lnSpc>
                <a:spcPct val="150000"/>
              </a:lnSpc>
              <a:spcBef>
                <a:spcPts val="1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03864"/>
                </a:solidFill>
                <a:latin typeface="Calibri"/>
                <a:ea typeface="Jost"/>
              </a:rPr>
              <a:t>МЫ В СОЦИАЛЬНЫХ СЕТЯХ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400" name="Группа 5"/>
          <p:cNvGrpSpPr/>
          <p:nvPr/>
        </p:nvGrpSpPr>
        <p:grpSpPr>
          <a:xfrm>
            <a:off x="6307200" y="3443400"/>
            <a:ext cx="984240" cy="903240"/>
            <a:chOff x="6307200" y="3443400"/>
            <a:chExt cx="984240" cy="903240"/>
          </a:xfrm>
        </p:grpSpPr>
        <p:sp>
          <p:nvSpPr>
            <p:cNvPr id="1401" name="Прямоугольник 53"/>
            <p:cNvSpPr/>
            <p:nvPr/>
          </p:nvSpPr>
          <p:spPr>
            <a:xfrm>
              <a:off x="6307200" y="3443400"/>
              <a:ext cx="984240" cy="903240"/>
            </a:xfrm>
            <a:prstGeom prst="rect">
              <a:avLst/>
            </a:prstGeom>
            <a:solidFill>
              <a:srgbClr val="264796"/>
            </a:solidFill>
            <a:ln w="6480">
              <a:solidFill>
                <a:srgbClr val="4472c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1402" name="Google Shape;653;p43"/>
            <p:cNvSpPr/>
            <p:nvPr/>
          </p:nvSpPr>
          <p:spPr>
            <a:xfrm>
              <a:off x="6585480" y="3562920"/>
              <a:ext cx="427320" cy="679320"/>
            </a:xfrm>
            <a:custGeom>
              <a:avLst/>
              <a:gdLst/>
              <a:ahLst/>
              <a:rect l="l" t="t" r="r" b="b"/>
              <a:pathLst>
                <a:path fill="none" w="11838" h="20508">
                  <a:moveTo>
                    <a:pt x="10547" y="1"/>
                  </a:moveTo>
                  <a:lnTo>
                    <a:pt x="1292" y="1"/>
                  </a:lnTo>
                  <a:lnTo>
                    <a:pt x="1024" y="25"/>
                  </a:lnTo>
                  <a:lnTo>
                    <a:pt x="780" y="98"/>
                  </a:lnTo>
                  <a:lnTo>
                    <a:pt x="561" y="220"/>
                  </a:lnTo>
                  <a:lnTo>
                    <a:pt x="366" y="366"/>
                  </a:lnTo>
                  <a:lnTo>
                    <a:pt x="220" y="561"/>
                  </a:lnTo>
                  <a:lnTo>
                    <a:pt x="98" y="780"/>
                  </a:lnTo>
                  <a:lnTo>
                    <a:pt x="25" y="1024"/>
                  </a:lnTo>
                  <a:lnTo>
                    <a:pt x="1" y="1292"/>
                  </a:lnTo>
                  <a:lnTo>
                    <a:pt x="1" y="19217"/>
                  </a:lnTo>
                  <a:lnTo>
                    <a:pt x="25" y="19485"/>
                  </a:lnTo>
                  <a:lnTo>
                    <a:pt x="98" y="19728"/>
                  </a:lnTo>
                  <a:lnTo>
                    <a:pt x="220" y="19948"/>
                  </a:lnTo>
                  <a:lnTo>
                    <a:pt x="366" y="20142"/>
                  </a:lnTo>
                  <a:lnTo>
                    <a:pt x="561" y="20289"/>
                  </a:lnTo>
                  <a:lnTo>
                    <a:pt x="780" y="20410"/>
                  </a:lnTo>
                  <a:lnTo>
                    <a:pt x="1024" y="20483"/>
                  </a:lnTo>
                  <a:lnTo>
                    <a:pt x="1292" y="20508"/>
                  </a:lnTo>
                  <a:lnTo>
                    <a:pt x="10547" y="20508"/>
                  </a:lnTo>
                  <a:lnTo>
                    <a:pt x="10814" y="20483"/>
                  </a:lnTo>
                  <a:lnTo>
                    <a:pt x="11058" y="20410"/>
                  </a:lnTo>
                  <a:lnTo>
                    <a:pt x="11277" y="20289"/>
                  </a:lnTo>
                  <a:lnTo>
                    <a:pt x="11472" y="20142"/>
                  </a:lnTo>
                  <a:lnTo>
                    <a:pt x="11618" y="19948"/>
                  </a:lnTo>
                  <a:lnTo>
                    <a:pt x="11740" y="19728"/>
                  </a:lnTo>
                  <a:lnTo>
                    <a:pt x="11813" y="19485"/>
                  </a:lnTo>
                  <a:lnTo>
                    <a:pt x="11837" y="19217"/>
                  </a:lnTo>
                  <a:lnTo>
                    <a:pt x="11837" y="1292"/>
                  </a:lnTo>
                  <a:lnTo>
                    <a:pt x="11813" y="1024"/>
                  </a:lnTo>
                  <a:lnTo>
                    <a:pt x="11740" y="780"/>
                  </a:lnTo>
                  <a:lnTo>
                    <a:pt x="11618" y="561"/>
                  </a:lnTo>
                  <a:lnTo>
                    <a:pt x="11472" y="366"/>
                  </a:lnTo>
                  <a:lnTo>
                    <a:pt x="11277" y="220"/>
                  </a:lnTo>
                  <a:lnTo>
                    <a:pt x="11058" y="98"/>
                  </a:lnTo>
                  <a:lnTo>
                    <a:pt x="10814" y="25"/>
                  </a:lnTo>
                  <a:lnTo>
                    <a:pt x="10547" y="1"/>
                  </a:lnTo>
                  <a:close/>
                  <a:moveTo>
                    <a:pt x="5554" y="975"/>
                  </a:moveTo>
                  <a:lnTo>
                    <a:pt x="6284" y="975"/>
                  </a:lnTo>
                  <a:lnTo>
                    <a:pt x="6406" y="999"/>
                  </a:lnTo>
                  <a:lnTo>
                    <a:pt x="6479" y="1073"/>
                  </a:lnTo>
                  <a:lnTo>
                    <a:pt x="6552" y="1146"/>
                  </a:lnTo>
                  <a:lnTo>
                    <a:pt x="6577" y="1267"/>
                  </a:lnTo>
                  <a:lnTo>
                    <a:pt x="6552" y="1365"/>
                  </a:lnTo>
                  <a:lnTo>
                    <a:pt x="6479" y="1462"/>
                  </a:lnTo>
                  <a:lnTo>
                    <a:pt x="6406" y="1511"/>
                  </a:lnTo>
                  <a:lnTo>
                    <a:pt x="6284" y="1535"/>
                  </a:lnTo>
                  <a:lnTo>
                    <a:pt x="5554" y="1535"/>
                  </a:lnTo>
                  <a:lnTo>
                    <a:pt x="5432" y="1511"/>
                  </a:lnTo>
                  <a:lnTo>
                    <a:pt x="5359" y="1462"/>
                  </a:lnTo>
                  <a:lnTo>
                    <a:pt x="5286" y="1365"/>
                  </a:lnTo>
                  <a:lnTo>
                    <a:pt x="5262" y="1267"/>
                  </a:lnTo>
                  <a:lnTo>
                    <a:pt x="5286" y="1146"/>
                  </a:lnTo>
                  <a:lnTo>
                    <a:pt x="5359" y="1073"/>
                  </a:lnTo>
                  <a:lnTo>
                    <a:pt x="5432" y="999"/>
                  </a:lnTo>
                  <a:lnTo>
                    <a:pt x="5554" y="975"/>
                  </a:lnTo>
                  <a:close/>
                  <a:moveTo>
                    <a:pt x="5919" y="19436"/>
                  </a:moveTo>
                  <a:lnTo>
                    <a:pt x="5919" y="19436"/>
                  </a:lnTo>
                  <a:lnTo>
                    <a:pt x="5749" y="19412"/>
                  </a:lnTo>
                  <a:lnTo>
                    <a:pt x="5578" y="19363"/>
                  </a:lnTo>
                  <a:lnTo>
                    <a:pt x="5432" y="19290"/>
                  </a:lnTo>
                  <a:lnTo>
                    <a:pt x="5310" y="19193"/>
                  </a:lnTo>
                  <a:lnTo>
                    <a:pt x="5213" y="19071"/>
                  </a:lnTo>
                  <a:lnTo>
                    <a:pt x="5140" y="18925"/>
                  </a:lnTo>
                  <a:lnTo>
                    <a:pt x="5091" y="18754"/>
                  </a:lnTo>
                  <a:lnTo>
                    <a:pt x="5067" y="18584"/>
                  </a:lnTo>
                  <a:lnTo>
                    <a:pt x="5091" y="18413"/>
                  </a:lnTo>
                  <a:lnTo>
                    <a:pt x="5140" y="18243"/>
                  </a:lnTo>
                  <a:lnTo>
                    <a:pt x="5213" y="18097"/>
                  </a:lnTo>
                  <a:lnTo>
                    <a:pt x="5310" y="17975"/>
                  </a:lnTo>
                  <a:lnTo>
                    <a:pt x="5432" y="17877"/>
                  </a:lnTo>
                  <a:lnTo>
                    <a:pt x="5578" y="17804"/>
                  </a:lnTo>
                  <a:lnTo>
                    <a:pt x="5749" y="17756"/>
                  </a:lnTo>
                  <a:lnTo>
                    <a:pt x="5919" y="17731"/>
                  </a:lnTo>
                  <a:lnTo>
                    <a:pt x="6090" y="17756"/>
                  </a:lnTo>
                  <a:lnTo>
                    <a:pt x="6260" y="17804"/>
                  </a:lnTo>
                  <a:lnTo>
                    <a:pt x="6406" y="17877"/>
                  </a:lnTo>
                  <a:lnTo>
                    <a:pt x="6528" y="17975"/>
                  </a:lnTo>
                  <a:lnTo>
                    <a:pt x="6625" y="18097"/>
                  </a:lnTo>
                  <a:lnTo>
                    <a:pt x="6699" y="18243"/>
                  </a:lnTo>
                  <a:lnTo>
                    <a:pt x="6747" y="18413"/>
                  </a:lnTo>
                  <a:lnTo>
                    <a:pt x="6772" y="18584"/>
                  </a:lnTo>
                  <a:lnTo>
                    <a:pt x="6747" y="18754"/>
                  </a:lnTo>
                  <a:lnTo>
                    <a:pt x="6699" y="18925"/>
                  </a:lnTo>
                  <a:lnTo>
                    <a:pt x="6625" y="19071"/>
                  </a:lnTo>
                  <a:lnTo>
                    <a:pt x="6528" y="19193"/>
                  </a:lnTo>
                  <a:lnTo>
                    <a:pt x="6406" y="19290"/>
                  </a:lnTo>
                  <a:lnTo>
                    <a:pt x="6260" y="19363"/>
                  </a:lnTo>
                  <a:lnTo>
                    <a:pt x="6090" y="19412"/>
                  </a:lnTo>
                  <a:lnTo>
                    <a:pt x="5919" y="19436"/>
                  </a:lnTo>
                  <a:close/>
                  <a:moveTo>
                    <a:pt x="10547" y="16660"/>
                  </a:moveTo>
                  <a:lnTo>
                    <a:pt x="1292" y="16660"/>
                  </a:lnTo>
                  <a:lnTo>
                    <a:pt x="1292" y="2558"/>
                  </a:lnTo>
                  <a:lnTo>
                    <a:pt x="10547" y="2558"/>
                  </a:lnTo>
                  <a:lnTo>
                    <a:pt x="10547" y="16660"/>
                  </a:lnTo>
                  <a:close/>
                </a:path>
              </a:pathLst>
            </a:custGeom>
            <a:noFill/>
            <a:ln cap="rnd" w="12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91080" bIns="91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grpSp>
        <p:nvGrpSpPr>
          <p:cNvPr id="1403" name="Группа 6"/>
          <p:cNvGrpSpPr/>
          <p:nvPr/>
        </p:nvGrpSpPr>
        <p:grpSpPr>
          <a:xfrm>
            <a:off x="2048760" y="5133960"/>
            <a:ext cx="8094960" cy="1638720"/>
            <a:chOff x="2048760" y="5133960"/>
            <a:chExt cx="8094960" cy="1638720"/>
          </a:xfrm>
        </p:grpSpPr>
        <p:pic>
          <p:nvPicPr>
            <p:cNvPr id="1404" name="Picture 2" descr="http://qrcoder.ru/code/?https%3A%2F%2Frcokio.ru%2F&amp;4&amp;0"/>
            <p:cNvPicPr/>
            <p:nvPr/>
          </p:nvPicPr>
          <p:blipFill>
            <a:blip r:embed="rId2"/>
            <a:stretch/>
          </p:blipFill>
          <p:spPr>
            <a:xfrm>
              <a:off x="2153160" y="5217480"/>
              <a:ext cx="1267200" cy="126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5" name="TextBox 1"/>
            <p:cNvSpPr/>
            <p:nvPr/>
          </p:nvSpPr>
          <p:spPr>
            <a:xfrm>
              <a:off x="2048760" y="6483240"/>
              <a:ext cx="1476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Calibri"/>
                </a:rPr>
                <a:t>сайт ГБУ ДПО ЧИРО</a:t>
              </a:r>
              <a:endParaRPr b="0" lang="en-US" sz="12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1406" name="TextBox 49"/>
            <p:cNvSpPr/>
            <p:nvPr/>
          </p:nvSpPr>
          <p:spPr>
            <a:xfrm>
              <a:off x="4250520" y="6483240"/>
              <a:ext cx="1244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Calibri"/>
                </a:rPr>
                <a:t>Телеграм-канал</a:t>
              </a:r>
              <a:endParaRPr b="0" lang="en-US" sz="12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1407" name="TextBox 50"/>
            <p:cNvSpPr/>
            <p:nvPr/>
          </p:nvSpPr>
          <p:spPr>
            <a:xfrm>
              <a:off x="6061320" y="6483240"/>
              <a:ext cx="1809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Calibri"/>
                </a:rPr>
                <a:t>Сообщество в ВКонтакте</a:t>
              </a:r>
              <a:endParaRPr b="0" lang="en-US" sz="12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pic>
          <p:nvPicPr>
            <p:cNvPr id="1408" name="Рисунок 2" descr=""/>
            <p:cNvPicPr/>
            <p:nvPr/>
          </p:nvPicPr>
          <p:blipFill>
            <a:blip r:embed="rId3">
              <a:biLevel thresh="50000"/>
            </a:blip>
            <a:stretch/>
          </p:blipFill>
          <p:spPr>
            <a:xfrm>
              <a:off x="6279480" y="5133960"/>
              <a:ext cx="1374480" cy="1374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9" name="Рисунок 3" descr=""/>
            <p:cNvPicPr/>
            <p:nvPr/>
          </p:nvPicPr>
          <p:blipFill>
            <a:blip r:embed="rId4"/>
            <a:srcRect l="17901" t="3970" r="16637" b="5413"/>
            <a:stretch/>
          </p:blipFill>
          <p:spPr>
            <a:xfrm>
              <a:off x="4239720" y="5231520"/>
              <a:ext cx="1267200" cy="117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0" name="Рисунок 4" descr=""/>
            <p:cNvPicPr/>
            <p:nvPr/>
          </p:nvPicPr>
          <p:blipFill>
            <a:blip r:embed="rId5"/>
            <a:stretch/>
          </p:blipFill>
          <p:spPr>
            <a:xfrm>
              <a:off x="8339760" y="5133960"/>
              <a:ext cx="1375200" cy="137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1" name="TextBox 42"/>
            <p:cNvSpPr/>
            <p:nvPr/>
          </p:nvSpPr>
          <p:spPr>
            <a:xfrm>
              <a:off x="7910280" y="6496200"/>
              <a:ext cx="2233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Calibri"/>
                </a:rPr>
                <a:t>Сообщество в Одноклассниках</a:t>
              </a:r>
              <a:endParaRPr b="0" lang="en-US" sz="12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pic>
        <p:nvPicPr>
          <p:cNvPr id="1412" name="Рисунок 12" descr=""/>
          <p:cNvPicPr/>
          <p:nvPr/>
        </p:nvPicPr>
        <p:blipFill>
          <a:blip r:embed="rId6"/>
          <a:stretch/>
        </p:blipFill>
        <p:spPr>
          <a:xfrm>
            <a:off x="9028080" y="157320"/>
            <a:ext cx="2594160" cy="1118880"/>
          </a:xfrm>
          <a:prstGeom prst="rect">
            <a:avLst/>
          </a:prstGeom>
          <a:ln w="0">
            <a:noFill/>
          </a:ln>
        </p:spPr>
      </p:pic>
      <p:sp>
        <p:nvSpPr>
          <p:cNvPr id="1413" name="PlaceHolder 1"/>
          <p:cNvSpPr>
            <a:spLocks noGrp="1"/>
          </p:cNvSpPr>
          <p:nvPr>
            <p:ph type="dt" idx="6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4" name="PlaceHolder 2"/>
          <p:cNvSpPr>
            <a:spLocks noGrp="1"/>
          </p:cNvSpPr>
          <p:nvPr>
            <p:ph type="ftr" idx="6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5" name="PlaceHolder 3"/>
          <p:cNvSpPr>
            <a:spLocks noGrp="1"/>
          </p:cNvSpPr>
          <p:nvPr>
            <p:ph type="sldNum" idx="6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71926-8657-496C-94FB-0E89D1C0AB51}" type="slidenum">
              <a:rPr b="0" lang="ru-RU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7"/>
    <p:sldLayoutId id="2147483949" r:id="rId8"/>
    <p:sldLayoutId id="2147483950" r:id="rId9"/>
    <p:sldLayoutId id="2147483951" r:id="rId10"/>
    <p:sldLayoutId id="2147483952" r:id="rId11"/>
    <p:sldLayoutId id="2147483953" r:id="rId12"/>
    <p:sldLayoutId id="2147483954" r:id="rId13"/>
    <p:sldLayoutId id="2147483955" r:id="rId14"/>
    <p:sldLayoutId id="2147483956" r:id="rId15"/>
    <p:sldLayoutId id="2147483957" r:id="rId16"/>
    <p:sldLayoutId id="2147483958" r:id="rId17"/>
    <p:sldLayoutId id="2147483959" r:id="rId18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Блок-схема: данные 4"/>
          <p:cNvSpPr/>
          <p:nvPr/>
        </p:nvSpPr>
        <p:spPr>
          <a:xfrm>
            <a:off x="0" y="0"/>
            <a:ext cx="8861400" cy="83988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0" y="10000"/>
                </a:moveTo>
                <a:cubicBezTo>
                  <a:pt x="12" y="6637"/>
                  <a:pt x="-4" y="3363"/>
                  <a:pt x="8" y="0"/>
                </a:cubicBezTo>
                <a:lnTo>
                  <a:pt x="10000" y="0"/>
                </a:lnTo>
                <a:lnTo>
                  <a:pt x="8563" y="10000"/>
                </a:lnTo>
                <a:lnTo>
                  <a:pt x="0" y="10000"/>
                </a:lnTo>
                <a:close/>
              </a:path>
            </a:pathLst>
          </a:custGeom>
          <a:solidFill>
            <a:srgbClr val="e31e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3" name="Блок-схема: данные 4"/>
          <p:cNvSpPr/>
          <p:nvPr/>
        </p:nvSpPr>
        <p:spPr>
          <a:xfrm>
            <a:off x="0" y="0"/>
            <a:ext cx="8791560" cy="80640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0" y="10000"/>
                </a:moveTo>
                <a:cubicBezTo>
                  <a:pt x="12" y="6637"/>
                  <a:pt x="-4" y="3363"/>
                  <a:pt x="8" y="0"/>
                </a:cubicBezTo>
                <a:lnTo>
                  <a:pt x="10000" y="0"/>
                </a:lnTo>
                <a:lnTo>
                  <a:pt x="8563" y="10000"/>
                </a:lnTo>
                <a:lnTo>
                  <a:pt x="0" y="10000"/>
                </a:lnTo>
                <a:close/>
              </a:path>
            </a:pathLst>
          </a:custGeom>
          <a:solidFill>
            <a:srgbClr val="2647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4" name="TextBox 10"/>
          <p:cNvSpPr/>
          <p:nvPr/>
        </p:nvSpPr>
        <p:spPr>
          <a:xfrm>
            <a:off x="-525600" y="157320"/>
            <a:ext cx="80582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Государственное бюджетное учреждение дополнительного профессионального образования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«Челябинский институт развития образования»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5" name="Прямоугольник 11"/>
          <p:cNvSpPr/>
          <p:nvPr/>
        </p:nvSpPr>
        <p:spPr>
          <a:xfrm>
            <a:off x="4119480" y="3444840"/>
            <a:ext cx="946080" cy="905040"/>
          </a:xfrm>
          <a:prstGeom prst="rect">
            <a:avLst/>
          </a:prstGeom>
          <a:solidFill>
            <a:srgbClr val="264796"/>
          </a:solidFill>
          <a:ln w="6480">
            <a:solidFill>
              <a:srgbClr val="4472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456" name="Google Shape;559;p43"/>
          <p:cNvGrpSpPr/>
          <p:nvPr/>
        </p:nvGrpSpPr>
        <p:grpSpPr>
          <a:xfrm>
            <a:off x="4321080" y="3598920"/>
            <a:ext cx="573120" cy="552240"/>
            <a:chOff x="4321080" y="3598920"/>
            <a:chExt cx="573120" cy="552240"/>
          </a:xfrm>
        </p:grpSpPr>
        <p:sp>
          <p:nvSpPr>
            <p:cNvPr id="1457" name="Google Shape;560;p43"/>
            <p:cNvSpPr/>
            <p:nvPr/>
          </p:nvSpPr>
          <p:spPr>
            <a:xfrm>
              <a:off x="4321080" y="3598920"/>
              <a:ext cx="573120" cy="540000"/>
            </a:xfrm>
            <a:custGeom>
              <a:avLst/>
              <a:gdLst/>
              <a:ahLst/>
              <a:rect l="l" t="t" r="r" b="b"/>
              <a:pathLst>
                <a:path fill="none" w="18608" h="17805">
                  <a:moveTo>
                    <a:pt x="13493" y="14127"/>
                  </a:moveTo>
                  <a:lnTo>
                    <a:pt x="18608" y="17804"/>
                  </a:lnTo>
                  <a:lnTo>
                    <a:pt x="18608" y="17731"/>
                  </a:lnTo>
                  <a:lnTo>
                    <a:pt x="18608" y="6723"/>
                  </a:lnTo>
                  <a:lnTo>
                    <a:pt x="9304" y="1"/>
                  </a:lnTo>
                  <a:lnTo>
                    <a:pt x="1" y="6723"/>
                  </a:lnTo>
                  <a:lnTo>
                    <a:pt x="1" y="17731"/>
                  </a:lnTo>
                  <a:lnTo>
                    <a:pt x="1" y="17804"/>
                  </a:lnTo>
                  <a:lnTo>
                    <a:pt x="5115" y="14127"/>
                  </a:lnTo>
                </a:path>
              </a:pathLst>
            </a:custGeom>
            <a:noFill/>
            <a:ln cap="rnd" w="12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91080" bIns="91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1458" name="Google Shape;561;p43"/>
            <p:cNvSpPr/>
            <p:nvPr/>
          </p:nvSpPr>
          <p:spPr>
            <a:xfrm>
              <a:off x="4330800" y="4150440"/>
              <a:ext cx="553680" cy="720"/>
            </a:xfrm>
            <a:custGeom>
              <a:avLst/>
              <a:gdLst/>
              <a:ahLst/>
              <a:rect l="l" t="t" r="r" b="b"/>
              <a:pathLst>
                <a:path fill="none" w="17975" h="25">
                  <a:moveTo>
                    <a:pt x="0" y="0"/>
                  </a:moveTo>
                  <a:lnTo>
                    <a:pt x="0" y="0"/>
                  </a:lnTo>
                  <a:lnTo>
                    <a:pt x="98" y="0"/>
                  </a:lnTo>
                  <a:lnTo>
                    <a:pt x="171" y="24"/>
                  </a:lnTo>
                  <a:lnTo>
                    <a:pt x="17804" y="24"/>
                  </a:lnTo>
                  <a:lnTo>
                    <a:pt x="17877" y="0"/>
                  </a:lnTo>
                  <a:lnTo>
                    <a:pt x="17974" y="0"/>
                  </a:lnTo>
                </a:path>
              </a:pathLst>
            </a:custGeom>
            <a:noFill/>
            <a:ln cap="rnd" w="12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90360" bIns="-90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1459" name="Google Shape;562;p43"/>
            <p:cNvSpPr/>
            <p:nvPr/>
          </p:nvSpPr>
          <p:spPr>
            <a:xfrm>
              <a:off x="4321080" y="3802680"/>
              <a:ext cx="573120" cy="208080"/>
            </a:xfrm>
            <a:custGeom>
              <a:avLst/>
              <a:gdLst/>
              <a:ahLst/>
              <a:rect l="l" t="t" r="r" b="b"/>
              <a:pathLst>
                <a:path fill="none" w="18608" h="6869">
                  <a:moveTo>
                    <a:pt x="18608" y="1"/>
                  </a:moveTo>
                  <a:lnTo>
                    <a:pt x="9450" y="6820"/>
                  </a:lnTo>
                  <a:lnTo>
                    <a:pt x="9377" y="6845"/>
                  </a:lnTo>
                  <a:lnTo>
                    <a:pt x="9304" y="6869"/>
                  </a:lnTo>
                  <a:lnTo>
                    <a:pt x="9231" y="6845"/>
                  </a:lnTo>
                  <a:lnTo>
                    <a:pt x="9158" y="6820"/>
                  </a:lnTo>
                  <a:lnTo>
                    <a:pt x="1" y="1"/>
                  </a:lnTo>
                </a:path>
              </a:pathLst>
            </a:custGeom>
            <a:noFill/>
            <a:ln cap="rnd" w="12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91080" bIns="91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1460" name="Google Shape;563;p43"/>
            <p:cNvSpPr/>
            <p:nvPr/>
          </p:nvSpPr>
          <p:spPr>
            <a:xfrm>
              <a:off x="4435560" y="3752280"/>
              <a:ext cx="343800" cy="134280"/>
            </a:xfrm>
            <a:custGeom>
              <a:avLst/>
              <a:gdLst/>
              <a:ahLst/>
              <a:rect l="l" t="t" r="r" b="b"/>
              <a:pathLst>
                <a:path fill="none" w="11156" h="4434">
                  <a:moveTo>
                    <a:pt x="1" y="4433"/>
                  </a:moveTo>
                  <a:lnTo>
                    <a:pt x="1" y="1"/>
                  </a:lnTo>
                  <a:lnTo>
                    <a:pt x="11155" y="1"/>
                  </a:lnTo>
                  <a:lnTo>
                    <a:pt x="11155" y="4433"/>
                  </a:lnTo>
                </a:path>
              </a:pathLst>
            </a:custGeom>
            <a:noFill/>
            <a:ln cap="rnd" w="12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3200" bIns="43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1461" name="Google Shape;564;p43"/>
            <p:cNvSpPr/>
            <p:nvPr/>
          </p:nvSpPr>
          <p:spPr>
            <a:xfrm>
              <a:off x="4525200" y="3824640"/>
              <a:ext cx="164880" cy="360"/>
            </a:xfrm>
            <a:custGeom>
              <a:avLst/>
              <a:gdLst/>
              <a:ahLst/>
              <a:rect l="l" t="t" r="r" b="b"/>
              <a:pathLst>
                <a:path fill="none" w="5359" h="1">
                  <a:moveTo>
                    <a:pt x="0" y="0"/>
                  </a:moveTo>
                  <a:lnTo>
                    <a:pt x="5358" y="0"/>
                  </a:lnTo>
                </a:path>
              </a:pathLst>
            </a:custGeom>
            <a:noFill/>
            <a:ln cap="rnd" w="12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90720" bIns="-90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1462" name="Google Shape;565;p43"/>
            <p:cNvSpPr/>
            <p:nvPr/>
          </p:nvSpPr>
          <p:spPr>
            <a:xfrm>
              <a:off x="4525200" y="3866040"/>
              <a:ext cx="164880" cy="360"/>
            </a:xfrm>
            <a:custGeom>
              <a:avLst/>
              <a:gdLst/>
              <a:ahLst/>
              <a:rect l="l" t="t" r="r" b="b"/>
              <a:pathLst>
                <a:path fill="none" w="5359" h="1">
                  <a:moveTo>
                    <a:pt x="0" y="0"/>
                  </a:moveTo>
                  <a:lnTo>
                    <a:pt x="5358" y="0"/>
                  </a:lnTo>
                </a:path>
              </a:pathLst>
            </a:custGeom>
            <a:noFill/>
            <a:ln cap="rnd" w="12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90720" bIns="-90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1463" name="Google Shape;566;p43"/>
            <p:cNvSpPr/>
            <p:nvPr/>
          </p:nvSpPr>
          <p:spPr>
            <a:xfrm>
              <a:off x="4525200" y="3907440"/>
              <a:ext cx="104760" cy="360"/>
            </a:xfrm>
            <a:custGeom>
              <a:avLst/>
              <a:gdLst/>
              <a:ahLst/>
              <a:rect l="l" t="t" r="r" b="b"/>
              <a:pathLst>
                <a:path fill="none" w="3410" h="1">
                  <a:moveTo>
                    <a:pt x="0" y="0"/>
                  </a:moveTo>
                  <a:lnTo>
                    <a:pt x="3410" y="0"/>
                  </a:lnTo>
                </a:path>
              </a:pathLst>
            </a:custGeom>
            <a:noFill/>
            <a:ln cap="rnd" w="12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90720" bIns="-90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grpSp>
        <p:nvGrpSpPr>
          <p:cNvPr id="1464" name="Группа 65"/>
          <p:cNvGrpSpPr/>
          <p:nvPr/>
        </p:nvGrpSpPr>
        <p:grpSpPr>
          <a:xfrm>
            <a:off x="5305320" y="1104840"/>
            <a:ext cx="916200" cy="835200"/>
            <a:chOff x="5305320" y="1104840"/>
            <a:chExt cx="916200" cy="835200"/>
          </a:xfrm>
        </p:grpSpPr>
        <p:sp>
          <p:nvSpPr>
            <p:cNvPr id="1465" name="Прямоугольник 23"/>
            <p:cNvSpPr/>
            <p:nvPr/>
          </p:nvSpPr>
          <p:spPr>
            <a:xfrm>
              <a:off x="5305320" y="1104840"/>
              <a:ext cx="916200" cy="835200"/>
            </a:xfrm>
            <a:prstGeom prst="rect">
              <a:avLst/>
            </a:prstGeom>
            <a:solidFill>
              <a:srgbClr val="264796"/>
            </a:solidFill>
            <a:ln w="0">
              <a:noFill/>
            </a:ln>
            <a:effectLst>
              <a:outerShdw dist="19080" dir="5400000" blurRad="0" rotWithShape="0">
                <a:srgbClr val="000000">
                  <a:alpha val="6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grpSp>
          <p:nvGrpSpPr>
            <p:cNvPr id="1466" name="Google Shape;732;p43"/>
            <p:cNvGrpSpPr/>
            <p:nvPr/>
          </p:nvGrpSpPr>
          <p:grpSpPr>
            <a:xfrm>
              <a:off x="5464080" y="1296360"/>
              <a:ext cx="609480" cy="502920"/>
              <a:chOff x="5464080" y="1296360"/>
              <a:chExt cx="609480" cy="502920"/>
            </a:xfrm>
          </p:grpSpPr>
          <p:sp>
            <p:nvSpPr>
              <p:cNvPr id="1467" name="Google Shape;733;p43"/>
              <p:cNvSpPr/>
              <p:nvPr/>
            </p:nvSpPr>
            <p:spPr>
              <a:xfrm>
                <a:off x="5963760" y="1731240"/>
                <a:ext cx="85320" cy="68040"/>
              </a:xfrm>
              <a:custGeom>
                <a:avLst/>
                <a:gdLst/>
                <a:ahLst/>
                <a:rect l="l" t="t" r="r" b="b"/>
                <a:pathLst>
                  <a:path fill="none" w="2631" h="2096">
                    <a:moveTo>
                      <a:pt x="1" y="1"/>
                    </a:moveTo>
                    <a:lnTo>
                      <a:pt x="1" y="780"/>
                    </a:lnTo>
                    <a:lnTo>
                      <a:pt x="25" y="1048"/>
                    </a:lnTo>
                    <a:lnTo>
                      <a:pt x="122" y="1291"/>
                    </a:lnTo>
                    <a:lnTo>
                      <a:pt x="244" y="1511"/>
                    </a:lnTo>
                    <a:lnTo>
                      <a:pt x="390" y="1705"/>
                    </a:lnTo>
                    <a:lnTo>
                      <a:pt x="585" y="1852"/>
                    </a:lnTo>
                    <a:lnTo>
                      <a:pt x="804" y="1973"/>
                    </a:lnTo>
                    <a:lnTo>
                      <a:pt x="1048" y="2071"/>
                    </a:lnTo>
                    <a:lnTo>
                      <a:pt x="1316" y="2095"/>
                    </a:lnTo>
                    <a:lnTo>
                      <a:pt x="1584" y="2071"/>
                    </a:lnTo>
                    <a:lnTo>
                      <a:pt x="1827" y="1973"/>
                    </a:lnTo>
                    <a:lnTo>
                      <a:pt x="2046" y="1852"/>
                    </a:lnTo>
                    <a:lnTo>
                      <a:pt x="2241" y="1705"/>
                    </a:lnTo>
                    <a:lnTo>
                      <a:pt x="2412" y="1511"/>
                    </a:lnTo>
                    <a:lnTo>
                      <a:pt x="2533" y="1291"/>
                    </a:lnTo>
                    <a:lnTo>
                      <a:pt x="2607" y="1048"/>
                    </a:lnTo>
                    <a:lnTo>
                      <a:pt x="2631" y="780"/>
                    </a:lnTo>
                    <a:lnTo>
                      <a:pt x="2631" y="1"/>
                    </a:lnTo>
                  </a:path>
                </a:pathLst>
              </a:custGeom>
              <a:noFill/>
              <a:ln cap="rnd" w="12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-23040" bIns="-23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  <p:sp>
            <p:nvSpPr>
              <p:cNvPr id="1468" name="Google Shape;734;p43"/>
              <p:cNvSpPr/>
              <p:nvPr/>
            </p:nvSpPr>
            <p:spPr>
              <a:xfrm>
                <a:off x="5488560" y="1731240"/>
                <a:ext cx="85320" cy="68040"/>
              </a:xfrm>
              <a:custGeom>
                <a:avLst/>
                <a:gdLst/>
                <a:ahLst/>
                <a:rect l="l" t="t" r="r" b="b"/>
                <a:pathLst>
                  <a:path fill="none" w="2631" h="2096">
                    <a:moveTo>
                      <a:pt x="1" y="1"/>
                    </a:moveTo>
                    <a:lnTo>
                      <a:pt x="1" y="780"/>
                    </a:lnTo>
                    <a:lnTo>
                      <a:pt x="25" y="1048"/>
                    </a:lnTo>
                    <a:lnTo>
                      <a:pt x="98" y="1291"/>
                    </a:lnTo>
                    <a:lnTo>
                      <a:pt x="220" y="1511"/>
                    </a:lnTo>
                    <a:lnTo>
                      <a:pt x="390" y="1705"/>
                    </a:lnTo>
                    <a:lnTo>
                      <a:pt x="585" y="1852"/>
                    </a:lnTo>
                    <a:lnTo>
                      <a:pt x="804" y="1973"/>
                    </a:lnTo>
                    <a:lnTo>
                      <a:pt x="1048" y="2071"/>
                    </a:lnTo>
                    <a:lnTo>
                      <a:pt x="1316" y="2095"/>
                    </a:lnTo>
                    <a:lnTo>
                      <a:pt x="1584" y="2071"/>
                    </a:lnTo>
                    <a:lnTo>
                      <a:pt x="1827" y="1973"/>
                    </a:lnTo>
                    <a:lnTo>
                      <a:pt x="2046" y="1852"/>
                    </a:lnTo>
                    <a:lnTo>
                      <a:pt x="2241" y="1705"/>
                    </a:lnTo>
                    <a:lnTo>
                      <a:pt x="2387" y="1511"/>
                    </a:lnTo>
                    <a:lnTo>
                      <a:pt x="2509" y="1291"/>
                    </a:lnTo>
                    <a:lnTo>
                      <a:pt x="2607" y="1048"/>
                    </a:lnTo>
                    <a:lnTo>
                      <a:pt x="2631" y="780"/>
                    </a:lnTo>
                    <a:lnTo>
                      <a:pt x="2631" y="1"/>
                    </a:lnTo>
                  </a:path>
                </a:pathLst>
              </a:custGeom>
              <a:noFill/>
              <a:ln cap="rnd" w="12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-23040" bIns="-23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  <p:sp>
            <p:nvSpPr>
              <p:cNvPr id="1469" name="Google Shape;735;p43"/>
              <p:cNvSpPr/>
              <p:nvPr/>
            </p:nvSpPr>
            <p:spPr>
              <a:xfrm>
                <a:off x="5464080" y="1296360"/>
                <a:ext cx="609480" cy="432720"/>
              </a:xfrm>
              <a:custGeom>
                <a:avLst/>
                <a:gdLst/>
                <a:ahLst/>
                <a:rect l="l" t="t" r="r" b="b"/>
                <a:pathLst>
                  <a:path fill="none" w="18754" h="13323">
                    <a:moveTo>
                      <a:pt x="18754" y="5553"/>
                    </a:moveTo>
                    <a:lnTo>
                      <a:pt x="18754" y="5553"/>
                    </a:lnTo>
                    <a:lnTo>
                      <a:pt x="18730" y="5334"/>
                    </a:lnTo>
                    <a:lnTo>
                      <a:pt x="18681" y="5091"/>
                    </a:lnTo>
                    <a:lnTo>
                      <a:pt x="18583" y="4847"/>
                    </a:lnTo>
                    <a:lnTo>
                      <a:pt x="18462" y="4628"/>
                    </a:lnTo>
                    <a:lnTo>
                      <a:pt x="18291" y="4433"/>
                    </a:lnTo>
                    <a:lnTo>
                      <a:pt x="18121" y="4287"/>
                    </a:lnTo>
                    <a:lnTo>
                      <a:pt x="18023" y="4214"/>
                    </a:lnTo>
                    <a:lnTo>
                      <a:pt x="17926" y="4165"/>
                    </a:lnTo>
                    <a:lnTo>
                      <a:pt x="17828" y="4141"/>
                    </a:lnTo>
                    <a:lnTo>
                      <a:pt x="17731" y="4141"/>
                    </a:lnTo>
                    <a:lnTo>
                      <a:pt x="16489" y="4141"/>
                    </a:lnTo>
                    <a:lnTo>
                      <a:pt x="15588" y="1803"/>
                    </a:lnTo>
                    <a:lnTo>
                      <a:pt x="15490" y="1583"/>
                    </a:lnTo>
                    <a:lnTo>
                      <a:pt x="15344" y="1364"/>
                    </a:lnTo>
                    <a:lnTo>
                      <a:pt x="15174" y="1169"/>
                    </a:lnTo>
                    <a:lnTo>
                      <a:pt x="15003" y="975"/>
                    </a:lnTo>
                    <a:lnTo>
                      <a:pt x="14784" y="804"/>
                    </a:lnTo>
                    <a:lnTo>
                      <a:pt x="14565" y="658"/>
                    </a:lnTo>
                    <a:lnTo>
                      <a:pt x="14346" y="536"/>
                    </a:lnTo>
                    <a:lnTo>
                      <a:pt x="14102" y="439"/>
                    </a:lnTo>
                    <a:lnTo>
                      <a:pt x="13810" y="390"/>
                    </a:lnTo>
                    <a:lnTo>
                      <a:pt x="13444" y="317"/>
                    </a:lnTo>
                    <a:lnTo>
                      <a:pt x="12933" y="220"/>
                    </a:lnTo>
                    <a:lnTo>
                      <a:pt x="12275" y="147"/>
                    </a:lnTo>
                    <a:lnTo>
                      <a:pt x="11472" y="73"/>
                    </a:lnTo>
                    <a:lnTo>
                      <a:pt x="10498" y="25"/>
                    </a:lnTo>
                    <a:lnTo>
                      <a:pt x="9377" y="0"/>
                    </a:lnTo>
                    <a:lnTo>
                      <a:pt x="8257" y="25"/>
                    </a:lnTo>
                    <a:lnTo>
                      <a:pt x="7283" y="73"/>
                    </a:lnTo>
                    <a:lnTo>
                      <a:pt x="6479" y="147"/>
                    </a:lnTo>
                    <a:lnTo>
                      <a:pt x="5821" y="220"/>
                    </a:lnTo>
                    <a:lnTo>
                      <a:pt x="5310" y="317"/>
                    </a:lnTo>
                    <a:lnTo>
                      <a:pt x="4945" y="390"/>
                    </a:lnTo>
                    <a:lnTo>
                      <a:pt x="4652" y="439"/>
                    </a:lnTo>
                    <a:lnTo>
                      <a:pt x="4409" y="536"/>
                    </a:lnTo>
                    <a:lnTo>
                      <a:pt x="4190" y="658"/>
                    </a:lnTo>
                    <a:lnTo>
                      <a:pt x="3970" y="804"/>
                    </a:lnTo>
                    <a:lnTo>
                      <a:pt x="3751" y="975"/>
                    </a:lnTo>
                    <a:lnTo>
                      <a:pt x="3581" y="1169"/>
                    </a:lnTo>
                    <a:lnTo>
                      <a:pt x="3410" y="1364"/>
                    </a:lnTo>
                    <a:lnTo>
                      <a:pt x="3264" y="1583"/>
                    </a:lnTo>
                    <a:lnTo>
                      <a:pt x="3167" y="1803"/>
                    </a:lnTo>
                    <a:lnTo>
                      <a:pt x="2266" y="4141"/>
                    </a:lnTo>
                    <a:lnTo>
                      <a:pt x="1023" y="4141"/>
                    </a:lnTo>
                    <a:lnTo>
                      <a:pt x="926" y="4141"/>
                    </a:lnTo>
                    <a:lnTo>
                      <a:pt x="829" y="4165"/>
                    </a:lnTo>
                    <a:lnTo>
                      <a:pt x="731" y="4214"/>
                    </a:lnTo>
                    <a:lnTo>
                      <a:pt x="634" y="4287"/>
                    </a:lnTo>
                    <a:lnTo>
                      <a:pt x="463" y="4433"/>
                    </a:lnTo>
                    <a:lnTo>
                      <a:pt x="293" y="4628"/>
                    </a:lnTo>
                    <a:lnTo>
                      <a:pt x="171" y="4847"/>
                    </a:lnTo>
                    <a:lnTo>
                      <a:pt x="74" y="5091"/>
                    </a:lnTo>
                    <a:lnTo>
                      <a:pt x="25" y="5334"/>
                    </a:lnTo>
                    <a:lnTo>
                      <a:pt x="1" y="5553"/>
                    </a:lnTo>
                    <a:lnTo>
                      <a:pt x="25" y="5748"/>
                    </a:lnTo>
                    <a:lnTo>
                      <a:pt x="74" y="5894"/>
                    </a:lnTo>
                    <a:lnTo>
                      <a:pt x="171" y="6016"/>
                    </a:lnTo>
                    <a:lnTo>
                      <a:pt x="293" y="6089"/>
                    </a:lnTo>
                    <a:lnTo>
                      <a:pt x="463" y="6138"/>
                    </a:lnTo>
                    <a:lnTo>
                      <a:pt x="634" y="6187"/>
                    </a:lnTo>
                    <a:lnTo>
                      <a:pt x="1023" y="6187"/>
                    </a:lnTo>
                    <a:lnTo>
                      <a:pt x="1462" y="6187"/>
                    </a:lnTo>
                    <a:lnTo>
                      <a:pt x="1145" y="7015"/>
                    </a:lnTo>
                    <a:lnTo>
                      <a:pt x="999" y="7526"/>
                    </a:lnTo>
                    <a:lnTo>
                      <a:pt x="877" y="8086"/>
                    </a:lnTo>
                    <a:lnTo>
                      <a:pt x="780" y="8671"/>
                    </a:lnTo>
                    <a:lnTo>
                      <a:pt x="756" y="9207"/>
                    </a:lnTo>
                    <a:lnTo>
                      <a:pt x="756" y="13323"/>
                    </a:lnTo>
                    <a:lnTo>
                      <a:pt x="17999" y="13323"/>
                    </a:lnTo>
                    <a:lnTo>
                      <a:pt x="17999" y="9207"/>
                    </a:lnTo>
                    <a:lnTo>
                      <a:pt x="17975" y="8671"/>
                    </a:lnTo>
                    <a:lnTo>
                      <a:pt x="17877" y="8086"/>
                    </a:lnTo>
                    <a:lnTo>
                      <a:pt x="17755" y="7526"/>
                    </a:lnTo>
                    <a:lnTo>
                      <a:pt x="17609" y="7015"/>
                    </a:lnTo>
                    <a:lnTo>
                      <a:pt x="17293" y="6187"/>
                    </a:lnTo>
                    <a:lnTo>
                      <a:pt x="17731" y="6187"/>
                    </a:lnTo>
                    <a:lnTo>
                      <a:pt x="18121" y="6187"/>
                    </a:lnTo>
                    <a:lnTo>
                      <a:pt x="18291" y="6138"/>
                    </a:lnTo>
                    <a:lnTo>
                      <a:pt x="18462" y="6089"/>
                    </a:lnTo>
                    <a:lnTo>
                      <a:pt x="18583" y="6016"/>
                    </a:lnTo>
                    <a:lnTo>
                      <a:pt x="18681" y="5894"/>
                    </a:lnTo>
                    <a:lnTo>
                      <a:pt x="18730" y="5748"/>
                    </a:lnTo>
                    <a:lnTo>
                      <a:pt x="18754" y="5553"/>
                    </a:lnTo>
                  </a:path>
                </a:pathLst>
              </a:custGeom>
              <a:noFill/>
              <a:ln cap="rnd" w="12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91080" bIns="91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  <p:sp>
            <p:nvSpPr>
              <p:cNvPr id="1470" name="Google Shape;736;p43"/>
              <p:cNvSpPr/>
              <p:nvPr/>
            </p:nvSpPr>
            <p:spPr>
              <a:xfrm>
                <a:off x="5571720" y="1339560"/>
                <a:ext cx="394200" cy="194400"/>
              </a:xfrm>
              <a:custGeom>
                <a:avLst/>
                <a:gdLst/>
                <a:ahLst/>
                <a:rect l="l" t="t" r="r" b="b"/>
                <a:pathLst>
                  <a:path fill="none" w="12130" h="5993">
                    <a:moveTo>
                      <a:pt x="1" y="4628"/>
                    </a:moveTo>
                    <a:lnTo>
                      <a:pt x="1" y="4628"/>
                    </a:lnTo>
                    <a:lnTo>
                      <a:pt x="171" y="4019"/>
                    </a:lnTo>
                    <a:lnTo>
                      <a:pt x="585" y="2656"/>
                    </a:lnTo>
                    <a:lnTo>
                      <a:pt x="805" y="1925"/>
                    </a:lnTo>
                    <a:lnTo>
                      <a:pt x="1024" y="1292"/>
                    </a:lnTo>
                    <a:lnTo>
                      <a:pt x="1194" y="829"/>
                    </a:lnTo>
                    <a:lnTo>
                      <a:pt x="1267" y="707"/>
                    </a:lnTo>
                    <a:lnTo>
                      <a:pt x="1316" y="658"/>
                    </a:lnTo>
                    <a:lnTo>
                      <a:pt x="1535" y="561"/>
                    </a:lnTo>
                    <a:lnTo>
                      <a:pt x="1852" y="464"/>
                    </a:lnTo>
                    <a:lnTo>
                      <a:pt x="2315" y="342"/>
                    </a:lnTo>
                    <a:lnTo>
                      <a:pt x="2948" y="220"/>
                    </a:lnTo>
                    <a:lnTo>
                      <a:pt x="3776" y="98"/>
                    </a:lnTo>
                    <a:lnTo>
                      <a:pt x="4799" y="25"/>
                    </a:lnTo>
                    <a:lnTo>
                      <a:pt x="5408" y="1"/>
                    </a:lnTo>
                    <a:lnTo>
                      <a:pt x="6065" y="1"/>
                    </a:lnTo>
                    <a:lnTo>
                      <a:pt x="6723" y="1"/>
                    </a:lnTo>
                    <a:lnTo>
                      <a:pt x="7332" y="25"/>
                    </a:lnTo>
                    <a:lnTo>
                      <a:pt x="8355" y="98"/>
                    </a:lnTo>
                    <a:lnTo>
                      <a:pt x="9183" y="220"/>
                    </a:lnTo>
                    <a:lnTo>
                      <a:pt x="9816" y="342"/>
                    </a:lnTo>
                    <a:lnTo>
                      <a:pt x="10279" y="464"/>
                    </a:lnTo>
                    <a:lnTo>
                      <a:pt x="10595" y="561"/>
                    </a:lnTo>
                    <a:lnTo>
                      <a:pt x="10814" y="658"/>
                    </a:lnTo>
                    <a:lnTo>
                      <a:pt x="10863" y="707"/>
                    </a:lnTo>
                    <a:lnTo>
                      <a:pt x="10936" y="829"/>
                    </a:lnTo>
                    <a:lnTo>
                      <a:pt x="11107" y="1292"/>
                    </a:lnTo>
                    <a:lnTo>
                      <a:pt x="11326" y="1925"/>
                    </a:lnTo>
                    <a:lnTo>
                      <a:pt x="11545" y="2656"/>
                    </a:lnTo>
                    <a:lnTo>
                      <a:pt x="11959" y="4019"/>
                    </a:lnTo>
                    <a:lnTo>
                      <a:pt x="12130" y="4628"/>
                    </a:lnTo>
                    <a:lnTo>
                      <a:pt x="12105" y="4677"/>
                    </a:lnTo>
                    <a:lnTo>
                      <a:pt x="12057" y="4750"/>
                    </a:lnTo>
                    <a:lnTo>
                      <a:pt x="11959" y="4823"/>
                    </a:lnTo>
                    <a:lnTo>
                      <a:pt x="11813" y="4921"/>
                    </a:lnTo>
                    <a:lnTo>
                      <a:pt x="11618" y="5042"/>
                    </a:lnTo>
                    <a:lnTo>
                      <a:pt x="11375" y="5164"/>
                    </a:lnTo>
                    <a:lnTo>
                      <a:pt x="11058" y="5262"/>
                    </a:lnTo>
                    <a:lnTo>
                      <a:pt x="10717" y="5383"/>
                    </a:lnTo>
                    <a:lnTo>
                      <a:pt x="10327" y="5505"/>
                    </a:lnTo>
                    <a:lnTo>
                      <a:pt x="9865" y="5627"/>
                    </a:lnTo>
                    <a:lnTo>
                      <a:pt x="9377" y="5724"/>
                    </a:lnTo>
                    <a:lnTo>
                      <a:pt x="8817" y="5822"/>
                    </a:lnTo>
                    <a:lnTo>
                      <a:pt x="8208" y="5895"/>
                    </a:lnTo>
                    <a:lnTo>
                      <a:pt x="7551" y="5944"/>
                    </a:lnTo>
                    <a:lnTo>
                      <a:pt x="6845" y="5992"/>
                    </a:lnTo>
                    <a:lnTo>
                      <a:pt x="6065" y="5992"/>
                    </a:lnTo>
                    <a:lnTo>
                      <a:pt x="5286" y="5992"/>
                    </a:lnTo>
                    <a:lnTo>
                      <a:pt x="4580" y="5944"/>
                    </a:lnTo>
                    <a:lnTo>
                      <a:pt x="3922" y="5895"/>
                    </a:lnTo>
                    <a:lnTo>
                      <a:pt x="3313" y="5822"/>
                    </a:lnTo>
                    <a:lnTo>
                      <a:pt x="2753" y="5724"/>
                    </a:lnTo>
                    <a:lnTo>
                      <a:pt x="2266" y="5627"/>
                    </a:lnTo>
                    <a:lnTo>
                      <a:pt x="1803" y="5505"/>
                    </a:lnTo>
                    <a:lnTo>
                      <a:pt x="1413" y="5383"/>
                    </a:lnTo>
                    <a:lnTo>
                      <a:pt x="1072" y="5262"/>
                    </a:lnTo>
                    <a:lnTo>
                      <a:pt x="756" y="5164"/>
                    </a:lnTo>
                    <a:lnTo>
                      <a:pt x="512" y="5042"/>
                    </a:lnTo>
                    <a:lnTo>
                      <a:pt x="317" y="4921"/>
                    </a:lnTo>
                    <a:lnTo>
                      <a:pt x="171" y="4823"/>
                    </a:lnTo>
                    <a:lnTo>
                      <a:pt x="74" y="4750"/>
                    </a:lnTo>
                    <a:lnTo>
                      <a:pt x="25" y="4677"/>
                    </a:lnTo>
                    <a:lnTo>
                      <a:pt x="1" y="4628"/>
                    </a:lnTo>
                  </a:path>
                </a:pathLst>
              </a:custGeom>
              <a:noFill/>
              <a:ln cap="rnd" w="12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91080" bIns="91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  <p:sp>
            <p:nvSpPr>
              <p:cNvPr id="1471" name="Google Shape;737;p43"/>
              <p:cNvSpPr/>
              <p:nvPr/>
            </p:nvSpPr>
            <p:spPr>
              <a:xfrm>
                <a:off x="5540040" y="1591200"/>
                <a:ext cx="105120" cy="84600"/>
              </a:xfrm>
              <a:custGeom>
                <a:avLst/>
                <a:gdLst/>
                <a:ahLst/>
                <a:rect l="l" t="t" r="r" b="b"/>
                <a:pathLst>
                  <a:path fill="none" w="3240" h="2607">
                    <a:moveTo>
                      <a:pt x="1632" y="2607"/>
                    </a:moveTo>
                    <a:lnTo>
                      <a:pt x="1632" y="2607"/>
                    </a:lnTo>
                    <a:lnTo>
                      <a:pt x="1291" y="2582"/>
                    </a:lnTo>
                    <a:lnTo>
                      <a:pt x="999" y="2509"/>
                    </a:lnTo>
                    <a:lnTo>
                      <a:pt x="731" y="2388"/>
                    </a:lnTo>
                    <a:lnTo>
                      <a:pt x="488" y="2217"/>
                    </a:lnTo>
                    <a:lnTo>
                      <a:pt x="293" y="2047"/>
                    </a:lnTo>
                    <a:lnTo>
                      <a:pt x="122" y="1803"/>
                    </a:lnTo>
                    <a:lnTo>
                      <a:pt x="74" y="1706"/>
                    </a:lnTo>
                    <a:lnTo>
                      <a:pt x="49" y="1559"/>
                    </a:lnTo>
                    <a:lnTo>
                      <a:pt x="25" y="1438"/>
                    </a:lnTo>
                    <a:lnTo>
                      <a:pt x="1" y="1316"/>
                    </a:lnTo>
                    <a:lnTo>
                      <a:pt x="25" y="1170"/>
                    </a:lnTo>
                    <a:lnTo>
                      <a:pt x="49" y="1048"/>
                    </a:lnTo>
                    <a:lnTo>
                      <a:pt x="74" y="926"/>
                    </a:lnTo>
                    <a:lnTo>
                      <a:pt x="122" y="804"/>
                    </a:lnTo>
                    <a:lnTo>
                      <a:pt x="293" y="585"/>
                    </a:lnTo>
                    <a:lnTo>
                      <a:pt x="488" y="390"/>
                    </a:lnTo>
                    <a:lnTo>
                      <a:pt x="731" y="220"/>
                    </a:lnTo>
                    <a:lnTo>
                      <a:pt x="999" y="98"/>
                    </a:lnTo>
                    <a:lnTo>
                      <a:pt x="1291" y="25"/>
                    </a:lnTo>
                    <a:lnTo>
                      <a:pt x="1632" y="1"/>
                    </a:lnTo>
                    <a:lnTo>
                      <a:pt x="1803" y="1"/>
                    </a:lnTo>
                    <a:lnTo>
                      <a:pt x="1949" y="49"/>
                    </a:lnTo>
                    <a:lnTo>
                      <a:pt x="2120" y="98"/>
                    </a:lnTo>
                    <a:lnTo>
                      <a:pt x="2266" y="171"/>
                    </a:lnTo>
                    <a:lnTo>
                      <a:pt x="2412" y="269"/>
                    </a:lnTo>
                    <a:lnTo>
                      <a:pt x="2534" y="390"/>
                    </a:lnTo>
                    <a:lnTo>
                      <a:pt x="2777" y="634"/>
                    </a:lnTo>
                    <a:lnTo>
                      <a:pt x="2972" y="926"/>
                    </a:lnTo>
                    <a:lnTo>
                      <a:pt x="3118" y="1219"/>
                    </a:lnTo>
                    <a:lnTo>
                      <a:pt x="3215" y="1535"/>
                    </a:lnTo>
                    <a:lnTo>
                      <a:pt x="3240" y="1681"/>
                    </a:lnTo>
                    <a:lnTo>
                      <a:pt x="3240" y="1803"/>
                    </a:lnTo>
                    <a:lnTo>
                      <a:pt x="3240" y="1949"/>
                    </a:lnTo>
                    <a:lnTo>
                      <a:pt x="3215" y="2047"/>
                    </a:lnTo>
                    <a:lnTo>
                      <a:pt x="3167" y="2144"/>
                    </a:lnTo>
                    <a:lnTo>
                      <a:pt x="3118" y="2241"/>
                    </a:lnTo>
                    <a:lnTo>
                      <a:pt x="3045" y="2314"/>
                    </a:lnTo>
                    <a:lnTo>
                      <a:pt x="2972" y="2388"/>
                    </a:lnTo>
                    <a:lnTo>
                      <a:pt x="2777" y="2485"/>
                    </a:lnTo>
                    <a:lnTo>
                      <a:pt x="2534" y="2558"/>
                    </a:lnTo>
                    <a:lnTo>
                      <a:pt x="2266" y="2582"/>
                    </a:lnTo>
                    <a:lnTo>
                      <a:pt x="1949" y="2607"/>
                    </a:lnTo>
                    <a:lnTo>
                      <a:pt x="1632" y="2607"/>
                    </a:lnTo>
                  </a:path>
                </a:pathLst>
              </a:custGeom>
              <a:noFill/>
              <a:ln cap="rnd" w="12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-6480" bIns="-6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  <p:sp>
            <p:nvSpPr>
              <p:cNvPr id="1472" name="Google Shape;738;p43"/>
              <p:cNvSpPr/>
              <p:nvPr/>
            </p:nvSpPr>
            <p:spPr>
              <a:xfrm>
                <a:off x="5696640" y="1652400"/>
                <a:ext cx="144000" cy="360"/>
              </a:xfrm>
              <a:custGeom>
                <a:avLst/>
                <a:gdLst/>
                <a:ahLst/>
                <a:rect l="l" t="t" r="r" b="b"/>
                <a:pathLst>
                  <a:path fill="none" w="4434" h="1">
                    <a:moveTo>
                      <a:pt x="1" y="0"/>
                    </a:moveTo>
                    <a:lnTo>
                      <a:pt x="4434" y="0"/>
                    </a:lnTo>
                  </a:path>
                </a:pathLst>
              </a:custGeom>
              <a:noFill/>
              <a:ln cap="rnd" w="12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-90720" bIns="-90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  <p:sp>
            <p:nvSpPr>
              <p:cNvPr id="1473" name="Google Shape;739;p43"/>
              <p:cNvSpPr/>
              <p:nvPr/>
            </p:nvSpPr>
            <p:spPr>
              <a:xfrm>
                <a:off x="5687280" y="1617480"/>
                <a:ext cx="163080" cy="360"/>
              </a:xfrm>
              <a:custGeom>
                <a:avLst/>
                <a:gdLst/>
                <a:ahLst/>
                <a:rect l="l" t="t" r="r" b="b"/>
                <a:pathLst>
                  <a:path fill="none" w="5018" h="1">
                    <a:moveTo>
                      <a:pt x="1" y="0"/>
                    </a:moveTo>
                    <a:lnTo>
                      <a:pt x="5018" y="0"/>
                    </a:lnTo>
                  </a:path>
                </a:pathLst>
              </a:custGeom>
              <a:noFill/>
              <a:ln cap="rnd" w="12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-90720" bIns="-90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  <p:sp>
            <p:nvSpPr>
              <p:cNvPr id="1474" name="Google Shape;740;p43"/>
              <p:cNvSpPr/>
              <p:nvPr/>
            </p:nvSpPr>
            <p:spPr>
              <a:xfrm>
                <a:off x="5892480" y="1591200"/>
                <a:ext cx="105120" cy="84600"/>
              </a:xfrm>
              <a:custGeom>
                <a:avLst/>
                <a:gdLst/>
                <a:ahLst/>
                <a:rect l="l" t="t" r="r" b="b"/>
                <a:pathLst>
                  <a:path fill="none" w="3240" h="2607">
                    <a:moveTo>
                      <a:pt x="1608" y="2607"/>
                    </a:moveTo>
                    <a:lnTo>
                      <a:pt x="1608" y="2607"/>
                    </a:lnTo>
                    <a:lnTo>
                      <a:pt x="1291" y="2607"/>
                    </a:lnTo>
                    <a:lnTo>
                      <a:pt x="975" y="2582"/>
                    </a:lnTo>
                    <a:lnTo>
                      <a:pt x="707" y="2558"/>
                    </a:lnTo>
                    <a:lnTo>
                      <a:pt x="463" y="2485"/>
                    </a:lnTo>
                    <a:lnTo>
                      <a:pt x="268" y="2388"/>
                    </a:lnTo>
                    <a:lnTo>
                      <a:pt x="195" y="2314"/>
                    </a:lnTo>
                    <a:lnTo>
                      <a:pt x="122" y="2241"/>
                    </a:lnTo>
                    <a:lnTo>
                      <a:pt x="74" y="2144"/>
                    </a:lnTo>
                    <a:lnTo>
                      <a:pt x="25" y="2047"/>
                    </a:lnTo>
                    <a:lnTo>
                      <a:pt x="1" y="1949"/>
                    </a:lnTo>
                    <a:lnTo>
                      <a:pt x="1" y="1803"/>
                    </a:lnTo>
                    <a:lnTo>
                      <a:pt x="1" y="1681"/>
                    </a:lnTo>
                    <a:lnTo>
                      <a:pt x="25" y="1535"/>
                    </a:lnTo>
                    <a:lnTo>
                      <a:pt x="122" y="1219"/>
                    </a:lnTo>
                    <a:lnTo>
                      <a:pt x="268" y="926"/>
                    </a:lnTo>
                    <a:lnTo>
                      <a:pt x="463" y="634"/>
                    </a:lnTo>
                    <a:lnTo>
                      <a:pt x="707" y="390"/>
                    </a:lnTo>
                    <a:lnTo>
                      <a:pt x="829" y="269"/>
                    </a:lnTo>
                    <a:lnTo>
                      <a:pt x="975" y="171"/>
                    </a:lnTo>
                    <a:lnTo>
                      <a:pt x="1121" y="98"/>
                    </a:lnTo>
                    <a:lnTo>
                      <a:pt x="1291" y="49"/>
                    </a:lnTo>
                    <a:lnTo>
                      <a:pt x="1438" y="1"/>
                    </a:lnTo>
                    <a:lnTo>
                      <a:pt x="1608" y="1"/>
                    </a:lnTo>
                    <a:lnTo>
                      <a:pt x="1949" y="25"/>
                    </a:lnTo>
                    <a:lnTo>
                      <a:pt x="2241" y="98"/>
                    </a:lnTo>
                    <a:lnTo>
                      <a:pt x="2509" y="220"/>
                    </a:lnTo>
                    <a:lnTo>
                      <a:pt x="2753" y="390"/>
                    </a:lnTo>
                    <a:lnTo>
                      <a:pt x="2948" y="585"/>
                    </a:lnTo>
                    <a:lnTo>
                      <a:pt x="3118" y="804"/>
                    </a:lnTo>
                    <a:lnTo>
                      <a:pt x="3167" y="926"/>
                    </a:lnTo>
                    <a:lnTo>
                      <a:pt x="3191" y="1048"/>
                    </a:lnTo>
                    <a:lnTo>
                      <a:pt x="3215" y="1170"/>
                    </a:lnTo>
                    <a:lnTo>
                      <a:pt x="3240" y="1316"/>
                    </a:lnTo>
                    <a:lnTo>
                      <a:pt x="3215" y="1438"/>
                    </a:lnTo>
                    <a:lnTo>
                      <a:pt x="3191" y="1559"/>
                    </a:lnTo>
                    <a:lnTo>
                      <a:pt x="3167" y="1706"/>
                    </a:lnTo>
                    <a:lnTo>
                      <a:pt x="3118" y="1803"/>
                    </a:lnTo>
                    <a:lnTo>
                      <a:pt x="2948" y="2047"/>
                    </a:lnTo>
                    <a:lnTo>
                      <a:pt x="2753" y="2217"/>
                    </a:lnTo>
                    <a:lnTo>
                      <a:pt x="2509" y="2388"/>
                    </a:lnTo>
                    <a:lnTo>
                      <a:pt x="2241" y="2509"/>
                    </a:lnTo>
                    <a:lnTo>
                      <a:pt x="1949" y="2582"/>
                    </a:lnTo>
                    <a:lnTo>
                      <a:pt x="1608" y="2607"/>
                    </a:lnTo>
                  </a:path>
                </a:pathLst>
              </a:custGeom>
              <a:noFill/>
              <a:ln cap="rnd" w="12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-6480" bIns="-6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475" name="TextBox 40"/>
          <p:cNvSpPr/>
          <p:nvPr/>
        </p:nvSpPr>
        <p:spPr>
          <a:xfrm>
            <a:off x="3247920" y="4349880"/>
            <a:ext cx="27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info@chiro74.ru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6" name="TextBox 41"/>
          <p:cNvSpPr/>
          <p:nvPr/>
        </p:nvSpPr>
        <p:spPr>
          <a:xfrm>
            <a:off x="5226120" y="4356000"/>
            <a:ext cx="314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8 (351) 217 30 89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7" name="TextBox 43"/>
          <p:cNvSpPr/>
          <p:nvPr/>
        </p:nvSpPr>
        <p:spPr>
          <a:xfrm>
            <a:off x="2774880" y="2052720"/>
            <a:ext cx="6112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454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111, г. Челябинск, ул. Комсомольская, д. 20А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454087, г. Челябинск, ул. Блюхера, д. 9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454091, г. Челябинск, ул. Красноармейская, д. 88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454048, г. Челябинск, ул. Худякова, д. 20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8" name="Google Shape;59;g142ea23b5d2_0_0"/>
          <p:cNvSpPr/>
          <p:nvPr/>
        </p:nvSpPr>
        <p:spPr>
          <a:xfrm>
            <a:off x="3944880" y="4637160"/>
            <a:ext cx="36594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121680" bIns="121680" anchor="t">
            <a:spAutoFit/>
          </a:bodyPr>
          <a:p>
            <a:pPr marL="15840" algn="ctr">
              <a:lnSpc>
                <a:spcPct val="150000"/>
              </a:lnSpc>
              <a:spcBef>
                <a:spcPts val="1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03864"/>
                </a:solidFill>
                <a:latin typeface="Calibri"/>
                <a:ea typeface="Jost"/>
              </a:rPr>
              <a:t>МЫ В СОЦИАЛЬНЫХ СЕТЯХ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479" name="Группа 5"/>
          <p:cNvGrpSpPr/>
          <p:nvPr/>
        </p:nvGrpSpPr>
        <p:grpSpPr>
          <a:xfrm>
            <a:off x="6307200" y="3443400"/>
            <a:ext cx="984240" cy="903240"/>
            <a:chOff x="6307200" y="3443400"/>
            <a:chExt cx="984240" cy="903240"/>
          </a:xfrm>
        </p:grpSpPr>
        <p:sp>
          <p:nvSpPr>
            <p:cNvPr id="1480" name="Прямоугольник 53"/>
            <p:cNvSpPr/>
            <p:nvPr/>
          </p:nvSpPr>
          <p:spPr>
            <a:xfrm>
              <a:off x="6307200" y="3443400"/>
              <a:ext cx="984240" cy="903240"/>
            </a:xfrm>
            <a:prstGeom prst="rect">
              <a:avLst/>
            </a:prstGeom>
            <a:solidFill>
              <a:srgbClr val="264796"/>
            </a:solidFill>
            <a:ln w="6480">
              <a:solidFill>
                <a:srgbClr val="4472c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1481" name="Google Shape;653;p43"/>
            <p:cNvSpPr/>
            <p:nvPr/>
          </p:nvSpPr>
          <p:spPr>
            <a:xfrm>
              <a:off x="6585480" y="3562920"/>
              <a:ext cx="427320" cy="679320"/>
            </a:xfrm>
            <a:custGeom>
              <a:avLst/>
              <a:gdLst/>
              <a:ahLst/>
              <a:rect l="l" t="t" r="r" b="b"/>
              <a:pathLst>
                <a:path fill="none" w="11838" h="20508">
                  <a:moveTo>
                    <a:pt x="10547" y="1"/>
                  </a:moveTo>
                  <a:lnTo>
                    <a:pt x="1292" y="1"/>
                  </a:lnTo>
                  <a:lnTo>
                    <a:pt x="1024" y="25"/>
                  </a:lnTo>
                  <a:lnTo>
                    <a:pt x="780" y="98"/>
                  </a:lnTo>
                  <a:lnTo>
                    <a:pt x="561" y="220"/>
                  </a:lnTo>
                  <a:lnTo>
                    <a:pt x="366" y="366"/>
                  </a:lnTo>
                  <a:lnTo>
                    <a:pt x="220" y="561"/>
                  </a:lnTo>
                  <a:lnTo>
                    <a:pt x="98" y="780"/>
                  </a:lnTo>
                  <a:lnTo>
                    <a:pt x="25" y="1024"/>
                  </a:lnTo>
                  <a:lnTo>
                    <a:pt x="1" y="1292"/>
                  </a:lnTo>
                  <a:lnTo>
                    <a:pt x="1" y="19217"/>
                  </a:lnTo>
                  <a:lnTo>
                    <a:pt x="25" y="19485"/>
                  </a:lnTo>
                  <a:lnTo>
                    <a:pt x="98" y="19728"/>
                  </a:lnTo>
                  <a:lnTo>
                    <a:pt x="220" y="19948"/>
                  </a:lnTo>
                  <a:lnTo>
                    <a:pt x="366" y="20142"/>
                  </a:lnTo>
                  <a:lnTo>
                    <a:pt x="561" y="20289"/>
                  </a:lnTo>
                  <a:lnTo>
                    <a:pt x="780" y="20410"/>
                  </a:lnTo>
                  <a:lnTo>
                    <a:pt x="1024" y="20483"/>
                  </a:lnTo>
                  <a:lnTo>
                    <a:pt x="1292" y="20508"/>
                  </a:lnTo>
                  <a:lnTo>
                    <a:pt x="10547" y="20508"/>
                  </a:lnTo>
                  <a:lnTo>
                    <a:pt x="10814" y="20483"/>
                  </a:lnTo>
                  <a:lnTo>
                    <a:pt x="11058" y="20410"/>
                  </a:lnTo>
                  <a:lnTo>
                    <a:pt x="11277" y="20289"/>
                  </a:lnTo>
                  <a:lnTo>
                    <a:pt x="11472" y="20142"/>
                  </a:lnTo>
                  <a:lnTo>
                    <a:pt x="11618" y="19948"/>
                  </a:lnTo>
                  <a:lnTo>
                    <a:pt x="11740" y="19728"/>
                  </a:lnTo>
                  <a:lnTo>
                    <a:pt x="11813" y="19485"/>
                  </a:lnTo>
                  <a:lnTo>
                    <a:pt x="11837" y="19217"/>
                  </a:lnTo>
                  <a:lnTo>
                    <a:pt x="11837" y="1292"/>
                  </a:lnTo>
                  <a:lnTo>
                    <a:pt x="11813" y="1024"/>
                  </a:lnTo>
                  <a:lnTo>
                    <a:pt x="11740" y="780"/>
                  </a:lnTo>
                  <a:lnTo>
                    <a:pt x="11618" y="561"/>
                  </a:lnTo>
                  <a:lnTo>
                    <a:pt x="11472" y="366"/>
                  </a:lnTo>
                  <a:lnTo>
                    <a:pt x="11277" y="220"/>
                  </a:lnTo>
                  <a:lnTo>
                    <a:pt x="11058" y="98"/>
                  </a:lnTo>
                  <a:lnTo>
                    <a:pt x="10814" y="25"/>
                  </a:lnTo>
                  <a:lnTo>
                    <a:pt x="10547" y="1"/>
                  </a:lnTo>
                  <a:close/>
                  <a:moveTo>
                    <a:pt x="5554" y="975"/>
                  </a:moveTo>
                  <a:lnTo>
                    <a:pt x="6284" y="975"/>
                  </a:lnTo>
                  <a:lnTo>
                    <a:pt x="6406" y="999"/>
                  </a:lnTo>
                  <a:lnTo>
                    <a:pt x="6479" y="1073"/>
                  </a:lnTo>
                  <a:lnTo>
                    <a:pt x="6552" y="1146"/>
                  </a:lnTo>
                  <a:lnTo>
                    <a:pt x="6577" y="1267"/>
                  </a:lnTo>
                  <a:lnTo>
                    <a:pt x="6552" y="1365"/>
                  </a:lnTo>
                  <a:lnTo>
                    <a:pt x="6479" y="1462"/>
                  </a:lnTo>
                  <a:lnTo>
                    <a:pt x="6406" y="1511"/>
                  </a:lnTo>
                  <a:lnTo>
                    <a:pt x="6284" y="1535"/>
                  </a:lnTo>
                  <a:lnTo>
                    <a:pt x="5554" y="1535"/>
                  </a:lnTo>
                  <a:lnTo>
                    <a:pt x="5432" y="1511"/>
                  </a:lnTo>
                  <a:lnTo>
                    <a:pt x="5359" y="1462"/>
                  </a:lnTo>
                  <a:lnTo>
                    <a:pt x="5286" y="1365"/>
                  </a:lnTo>
                  <a:lnTo>
                    <a:pt x="5262" y="1267"/>
                  </a:lnTo>
                  <a:lnTo>
                    <a:pt x="5286" y="1146"/>
                  </a:lnTo>
                  <a:lnTo>
                    <a:pt x="5359" y="1073"/>
                  </a:lnTo>
                  <a:lnTo>
                    <a:pt x="5432" y="999"/>
                  </a:lnTo>
                  <a:lnTo>
                    <a:pt x="5554" y="975"/>
                  </a:lnTo>
                  <a:close/>
                  <a:moveTo>
                    <a:pt x="5919" y="19436"/>
                  </a:moveTo>
                  <a:lnTo>
                    <a:pt x="5919" y="19436"/>
                  </a:lnTo>
                  <a:lnTo>
                    <a:pt x="5749" y="19412"/>
                  </a:lnTo>
                  <a:lnTo>
                    <a:pt x="5578" y="19363"/>
                  </a:lnTo>
                  <a:lnTo>
                    <a:pt x="5432" y="19290"/>
                  </a:lnTo>
                  <a:lnTo>
                    <a:pt x="5310" y="19193"/>
                  </a:lnTo>
                  <a:lnTo>
                    <a:pt x="5213" y="19071"/>
                  </a:lnTo>
                  <a:lnTo>
                    <a:pt x="5140" y="18925"/>
                  </a:lnTo>
                  <a:lnTo>
                    <a:pt x="5091" y="18754"/>
                  </a:lnTo>
                  <a:lnTo>
                    <a:pt x="5067" y="18584"/>
                  </a:lnTo>
                  <a:lnTo>
                    <a:pt x="5091" y="18413"/>
                  </a:lnTo>
                  <a:lnTo>
                    <a:pt x="5140" y="18243"/>
                  </a:lnTo>
                  <a:lnTo>
                    <a:pt x="5213" y="18097"/>
                  </a:lnTo>
                  <a:lnTo>
                    <a:pt x="5310" y="17975"/>
                  </a:lnTo>
                  <a:lnTo>
                    <a:pt x="5432" y="17877"/>
                  </a:lnTo>
                  <a:lnTo>
                    <a:pt x="5578" y="17804"/>
                  </a:lnTo>
                  <a:lnTo>
                    <a:pt x="5749" y="17756"/>
                  </a:lnTo>
                  <a:lnTo>
                    <a:pt x="5919" y="17731"/>
                  </a:lnTo>
                  <a:lnTo>
                    <a:pt x="6090" y="17756"/>
                  </a:lnTo>
                  <a:lnTo>
                    <a:pt x="6260" y="17804"/>
                  </a:lnTo>
                  <a:lnTo>
                    <a:pt x="6406" y="17877"/>
                  </a:lnTo>
                  <a:lnTo>
                    <a:pt x="6528" y="17975"/>
                  </a:lnTo>
                  <a:lnTo>
                    <a:pt x="6625" y="18097"/>
                  </a:lnTo>
                  <a:lnTo>
                    <a:pt x="6699" y="18243"/>
                  </a:lnTo>
                  <a:lnTo>
                    <a:pt x="6747" y="18413"/>
                  </a:lnTo>
                  <a:lnTo>
                    <a:pt x="6772" y="18584"/>
                  </a:lnTo>
                  <a:lnTo>
                    <a:pt x="6747" y="18754"/>
                  </a:lnTo>
                  <a:lnTo>
                    <a:pt x="6699" y="18925"/>
                  </a:lnTo>
                  <a:lnTo>
                    <a:pt x="6625" y="19071"/>
                  </a:lnTo>
                  <a:lnTo>
                    <a:pt x="6528" y="19193"/>
                  </a:lnTo>
                  <a:lnTo>
                    <a:pt x="6406" y="19290"/>
                  </a:lnTo>
                  <a:lnTo>
                    <a:pt x="6260" y="19363"/>
                  </a:lnTo>
                  <a:lnTo>
                    <a:pt x="6090" y="19412"/>
                  </a:lnTo>
                  <a:lnTo>
                    <a:pt x="5919" y="19436"/>
                  </a:lnTo>
                  <a:close/>
                  <a:moveTo>
                    <a:pt x="10547" y="16660"/>
                  </a:moveTo>
                  <a:lnTo>
                    <a:pt x="1292" y="16660"/>
                  </a:lnTo>
                  <a:lnTo>
                    <a:pt x="1292" y="2558"/>
                  </a:lnTo>
                  <a:lnTo>
                    <a:pt x="10547" y="2558"/>
                  </a:lnTo>
                  <a:lnTo>
                    <a:pt x="10547" y="16660"/>
                  </a:lnTo>
                  <a:close/>
                </a:path>
              </a:pathLst>
            </a:custGeom>
            <a:noFill/>
            <a:ln cap="rnd" w="12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91080" bIns="91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grpSp>
        <p:nvGrpSpPr>
          <p:cNvPr id="1482" name="Группа 6"/>
          <p:cNvGrpSpPr/>
          <p:nvPr/>
        </p:nvGrpSpPr>
        <p:grpSpPr>
          <a:xfrm>
            <a:off x="2048760" y="5133960"/>
            <a:ext cx="8094960" cy="1638720"/>
            <a:chOff x="2048760" y="5133960"/>
            <a:chExt cx="8094960" cy="1638720"/>
          </a:xfrm>
        </p:grpSpPr>
        <p:pic>
          <p:nvPicPr>
            <p:cNvPr id="1483" name="Picture 2" descr="http://qrcoder.ru/code/?https%3A%2F%2Frcokio.ru%2F&amp;4&amp;0"/>
            <p:cNvPicPr/>
            <p:nvPr/>
          </p:nvPicPr>
          <p:blipFill>
            <a:blip r:embed="rId2"/>
            <a:stretch/>
          </p:blipFill>
          <p:spPr>
            <a:xfrm>
              <a:off x="2153160" y="5217480"/>
              <a:ext cx="1267200" cy="126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4" name="TextBox 1"/>
            <p:cNvSpPr/>
            <p:nvPr/>
          </p:nvSpPr>
          <p:spPr>
            <a:xfrm>
              <a:off x="2048760" y="6483240"/>
              <a:ext cx="1476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Calibri"/>
                </a:rPr>
                <a:t>сайт ГБУ ДПО ЧИРО</a:t>
              </a:r>
              <a:endParaRPr b="0" lang="en-US" sz="12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1485" name="TextBox 49"/>
            <p:cNvSpPr/>
            <p:nvPr/>
          </p:nvSpPr>
          <p:spPr>
            <a:xfrm>
              <a:off x="4250520" y="6483240"/>
              <a:ext cx="1244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Calibri"/>
                </a:rPr>
                <a:t>Телеграм-канал</a:t>
              </a:r>
              <a:endParaRPr b="0" lang="en-US" sz="12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1486" name="TextBox 50"/>
            <p:cNvSpPr/>
            <p:nvPr/>
          </p:nvSpPr>
          <p:spPr>
            <a:xfrm>
              <a:off x="6061320" y="6483240"/>
              <a:ext cx="1809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Calibri"/>
                </a:rPr>
                <a:t>Сообщество в ВКонтакте</a:t>
              </a:r>
              <a:endParaRPr b="0" lang="en-US" sz="12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pic>
          <p:nvPicPr>
            <p:cNvPr id="1487" name="Рисунок 2" descr=""/>
            <p:cNvPicPr/>
            <p:nvPr/>
          </p:nvPicPr>
          <p:blipFill>
            <a:blip r:embed="rId3">
              <a:biLevel thresh="50000"/>
            </a:blip>
            <a:stretch/>
          </p:blipFill>
          <p:spPr>
            <a:xfrm>
              <a:off x="6279480" y="5133960"/>
              <a:ext cx="1374480" cy="1374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8" name="Рисунок 3" descr=""/>
            <p:cNvPicPr/>
            <p:nvPr/>
          </p:nvPicPr>
          <p:blipFill>
            <a:blip r:embed="rId4"/>
            <a:srcRect l="17901" t="3970" r="16637" b="5413"/>
            <a:stretch/>
          </p:blipFill>
          <p:spPr>
            <a:xfrm>
              <a:off x="4239720" y="5231520"/>
              <a:ext cx="1267200" cy="117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9" name="Рисунок 4" descr=""/>
            <p:cNvPicPr/>
            <p:nvPr/>
          </p:nvPicPr>
          <p:blipFill>
            <a:blip r:embed="rId5"/>
            <a:stretch/>
          </p:blipFill>
          <p:spPr>
            <a:xfrm>
              <a:off x="8339760" y="5133960"/>
              <a:ext cx="1375200" cy="137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0" name="TextBox 42"/>
            <p:cNvSpPr/>
            <p:nvPr/>
          </p:nvSpPr>
          <p:spPr>
            <a:xfrm>
              <a:off x="7910280" y="6496200"/>
              <a:ext cx="2233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Calibri"/>
                </a:rPr>
                <a:t>Сообщество в Одноклассниках</a:t>
              </a:r>
              <a:endParaRPr b="0" lang="en-US" sz="12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pic>
        <p:nvPicPr>
          <p:cNvPr id="1491" name="Рисунок 12" descr=""/>
          <p:cNvPicPr/>
          <p:nvPr/>
        </p:nvPicPr>
        <p:blipFill>
          <a:blip r:embed="rId6"/>
          <a:stretch/>
        </p:blipFill>
        <p:spPr>
          <a:xfrm>
            <a:off x="9028080" y="157320"/>
            <a:ext cx="2594160" cy="1118880"/>
          </a:xfrm>
          <a:prstGeom prst="rect">
            <a:avLst/>
          </a:prstGeom>
          <a:ln w="0">
            <a:noFill/>
          </a:ln>
        </p:spPr>
      </p:pic>
      <p:sp>
        <p:nvSpPr>
          <p:cNvPr id="1492" name="PlaceHolder 1"/>
          <p:cNvSpPr>
            <a:spLocks noGrp="1"/>
          </p:cNvSpPr>
          <p:nvPr>
            <p:ph type="dt" idx="67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 type="ftr" idx="6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4" name="PlaceHolder 3"/>
          <p:cNvSpPr>
            <a:spLocks noGrp="1"/>
          </p:cNvSpPr>
          <p:nvPr>
            <p:ph type="sldNum" idx="69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F9F2F-886C-4AE7-A222-FD8AF3B7928B}" type="slidenum">
              <a:rPr b="0" lang="ru-RU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7"/>
    <p:sldLayoutId id="2147483962" r:id="rId8"/>
    <p:sldLayoutId id="2147483963" r:id="rId9"/>
    <p:sldLayoutId id="2147483964" r:id="rId10"/>
    <p:sldLayoutId id="2147483965" r:id="rId11"/>
    <p:sldLayoutId id="2147483966" r:id="rId12"/>
    <p:sldLayoutId id="2147483967" r:id="rId13"/>
    <p:sldLayoutId id="2147483968" r:id="rId14"/>
    <p:sldLayoutId id="2147483969" r:id="rId15"/>
    <p:sldLayoutId id="2147483970" r:id="rId16"/>
    <p:sldLayoutId id="2147483971" r:id="rId17"/>
    <p:sldLayoutId id="2147483972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Блок-схема: данные 4"/>
          <p:cNvSpPr/>
          <p:nvPr/>
        </p:nvSpPr>
        <p:spPr>
          <a:xfrm>
            <a:off x="0" y="0"/>
            <a:ext cx="8861400" cy="83988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0" y="10000"/>
                </a:moveTo>
                <a:cubicBezTo>
                  <a:pt x="12" y="6637"/>
                  <a:pt x="-4" y="3363"/>
                  <a:pt x="8" y="0"/>
                </a:cubicBezTo>
                <a:lnTo>
                  <a:pt x="10000" y="0"/>
                </a:lnTo>
                <a:lnTo>
                  <a:pt x="8563" y="10000"/>
                </a:lnTo>
                <a:lnTo>
                  <a:pt x="0" y="10000"/>
                </a:lnTo>
                <a:close/>
              </a:path>
            </a:pathLst>
          </a:custGeom>
          <a:solidFill>
            <a:srgbClr val="e31e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Блок-схема: данные 4"/>
          <p:cNvSpPr/>
          <p:nvPr/>
        </p:nvSpPr>
        <p:spPr>
          <a:xfrm>
            <a:off x="0" y="0"/>
            <a:ext cx="8791560" cy="80640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0" y="10000"/>
                </a:moveTo>
                <a:cubicBezTo>
                  <a:pt x="12" y="6637"/>
                  <a:pt x="-4" y="3363"/>
                  <a:pt x="8" y="0"/>
                </a:cubicBezTo>
                <a:lnTo>
                  <a:pt x="10000" y="0"/>
                </a:lnTo>
                <a:lnTo>
                  <a:pt x="8563" y="10000"/>
                </a:lnTo>
                <a:lnTo>
                  <a:pt x="0" y="10000"/>
                </a:lnTo>
                <a:close/>
              </a:path>
            </a:pathLst>
          </a:custGeom>
          <a:solidFill>
            <a:srgbClr val="2647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TextBox 10"/>
          <p:cNvSpPr/>
          <p:nvPr/>
        </p:nvSpPr>
        <p:spPr>
          <a:xfrm>
            <a:off x="-525600" y="157320"/>
            <a:ext cx="80582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Государственное бюджетное учреждение дополнительного профессионального образования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«Челябинский институт развития образования»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Прямоугольник 11"/>
          <p:cNvSpPr/>
          <p:nvPr/>
        </p:nvSpPr>
        <p:spPr>
          <a:xfrm>
            <a:off x="4119480" y="3444840"/>
            <a:ext cx="946080" cy="905040"/>
          </a:xfrm>
          <a:prstGeom prst="rect">
            <a:avLst/>
          </a:prstGeom>
          <a:solidFill>
            <a:srgbClr val="264796"/>
          </a:solidFill>
          <a:ln w="6480">
            <a:solidFill>
              <a:srgbClr val="4472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93" name="Google Shape;559;p43"/>
          <p:cNvGrpSpPr/>
          <p:nvPr/>
        </p:nvGrpSpPr>
        <p:grpSpPr>
          <a:xfrm>
            <a:off x="4321080" y="3598920"/>
            <a:ext cx="573120" cy="552240"/>
            <a:chOff x="4321080" y="3598920"/>
            <a:chExt cx="573120" cy="552240"/>
          </a:xfrm>
        </p:grpSpPr>
        <p:sp>
          <p:nvSpPr>
            <p:cNvPr id="94" name="Google Shape;560;p43"/>
            <p:cNvSpPr/>
            <p:nvPr/>
          </p:nvSpPr>
          <p:spPr>
            <a:xfrm>
              <a:off x="4321080" y="3598920"/>
              <a:ext cx="573120" cy="540000"/>
            </a:xfrm>
            <a:custGeom>
              <a:avLst/>
              <a:gdLst/>
              <a:ahLst/>
              <a:rect l="l" t="t" r="r" b="b"/>
              <a:pathLst>
                <a:path fill="none" w="18608" h="17805">
                  <a:moveTo>
                    <a:pt x="13493" y="14127"/>
                  </a:moveTo>
                  <a:lnTo>
                    <a:pt x="18608" y="17804"/>
                  </a:lnTo>
                  <a:lnTo>
                    <a:pt x="18608" y="17731"/>
                  </a:lnTo>
                  <a:lnTo>
                    <a:pt x="18608" y="6723"/>
                  </a:lnTo>
                  <a:lnTo>
                    <a:pt x="9304" y="1"/>
                  </a:lnTo>
                  <a:lnTo>
                    <a:pt x="1" y="6723"/>
                  </a:lnTo>
                  <a:lnTo>
                    <a:pt x="1" y="17731"/>
                  </a:lnTo>
                  <a:lnTo>
                    <a:pt x="1" y="17804"/>
                  </a:lnTo>
                  <a:lnTo>
                    <a:pt x="5115" y="14127"/>
                  </a:lnTo>
                </a:path>
              </a:pathLst>
            </a:custGeom>
            <a:noFill/>
            <a:ln cap="rnd" w="12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91080" bIns="91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95" name="Google Shape;561;p43"/>
            <p:cNvSpPr/>
            <p:nvPr/>
          </p:nvSpPr>
          <p:spPr>
            <a:xfrm>
              <a:off x="4330800" y="4150440"/>
              <a:ext cx="553680" cy="720"/>
            </a:xfrm>
            <a:custGeom>
              <a:avLst/>
              <a:gdLst/>
              <a:ahLst/>
              <a:rect l="l" t="t" r="r" b="b"/>
              <a:pathLst>
                <a:path fill="none" w="17975" h="25">
                  <a:moveTo>
                    <a:pt x="0" y="0"/>
                  </a:moveTo>
                  <a:lnTo>
                    <a:pt x="0" y="0"/>
                  </a:lnTo>
                  <a:lnTo>
                    <a:pt x="98" y="0"/>
                  </a:lnTo>
                  <a:lnTo>
                    <a:pt x="171" y="24"/>
                  </a:lnTo>
                  <a:lnTo>
                    <a:pt x="17804" y="24"/>
                  </a:lnTo>
                  <a:lnTo>
                    <a:pt x="17877" y="0"/>
                  </a:lnTo>
                  <a:lnTo>
                    <a:pt x="17974" y="0"/>
                  </a:lnTo>
                </a:path>
              </a:pathLst>
            </a:custGeom>
            <a:noFill/>
            <a:ln cap="rnd" w="12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90360" bIns="-90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96" name="Google Shape;562;p43"/>
            <p:cNvSpPr/>
            <p:nvPr/>
          </p:nvSpPr>
          <p:spPr>
            <a:xfrm>
              <a:off x="4321080" y="3802680"/>
              <a:ext cx="573120" cy="208080"/>
            </a:xfrm>
            <a:custGeom>
              <a:avLst/>
              <a:gdLst/>
              <a:ahLst/>
              <a:rect l="l" t="t" r="r" b="b"/>
              <a:pathLst>
                <a:path fill="none" w="18608" h="6869">
                  <a:moveTo>
                    <a:pt x="18608" y="1"/>
                  </a:moveTo>
                  <a:lnTo>
                    <a:pt x="9450" y="6820"/>
                  </a:lnTo>
                  <a:lnTo>
                    <a:pt x="9377" y="6845"/>
                  </a:lnTo>
                  <a:lnTo>
                    <a:pt x="9304" y="6869"/>
                  </a:lnTo>
                  <a:lnTo>
                    <a:pt x="9231" y="6845"/>
                  </a:lnTo>
                  <a:lnTo>
                    <a:pt x="9158" y="6820"/>
                  </a:lnTo>
                  <a:lnTo>
                    <a:pt x="1" y="1"/>
                  </a:lnTo>
                </a:path>
              </a:pathLst>
            </a:custGeom>
            <a:noFill/>
            <a:ln cap="rnd" w="12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91080" bIns="91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97" name="Google Shape;563;p43"/>
            <p:cNvSpPr/>
            <p:nvPr/>
          </p:nvSpPr>
          <p:spPr>
            <a:xfrm>
              <a:off x="4435560" y="3752280"/>
              <a:ext cx="343800" cy="134280"/>
            </a:xfrm>
            <a:custGeom>
              <a:avLst/>
              <a:gdLst/>
              <a:ahLst/>
              <a:rect l="l" t="t" r="r" b="b"/>
              <a:pathLst>
                <a:path fill="none" w="11156" h="4434">
                  <a:moveTo>
                    <a:pt x="1" y="4433"/>
                  </a:moveTo>
                  <a:lnTo>
                    <a:pt x="1" y="1"/>
                  </a:lnTo>
                  <a:lnTo>
                    <a:pt x="11155" y="1"/>
                  </a:lnTo>
                  <a:lnTo>
                    <a:pt x="11155" y="4433"/>
                  </a:lnTo>
                </a:path>
              </a:pathLst>
            </a:custGeom>
            <a:noFill/>
            <a:ln cap="rnd" w="12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3200" bIns="43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98" name="Google Shape;564;p43"/>
            <p:cNvSpPr/>
            <p:nvPr/>
          </p:nvSpPr>
          <p:spPr>
            <a:xfrm>
              <a:off x="4525200" y="3824640"/>
              <a:ext cx="164880" cy="360"/>
            </a:xfrm>
            <a:custGeom>
              <a:avLst/>
              <a:gdLst/>
              <a:ahLst/>
              <a:rect l="l" t="t" r="r" b="b"/>
              <a:pathLst>
                <a:path fill="none" w="5359" h="1">
                  <a:moveTo>
                    <a:pt x="0" y="0"/>
                  </a:moveTo>
                  <a:lnTo>
                    <a:pt x="5358" y="0"/>
                  </a:lnTo>
                </a:path>
              </a:pathLst>
            </a:custGeom>
            <a:noFill/>
            <a:ln cap="rnd" w="12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90720" bIns="-90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99" name="Google Shape;565;p43"/>
            <p:cNvSpPr/>
            <p:nvPr/>
          </p:nvSpPr>
          <p:spPr>
            <a:xfrm>
              <a:off x="4525200" y="3866040"/>
              <a:ext cx="164880" cy="360"/>
            </a:xfrm>
            <a:custGeom>
              <a:avLst/>
              <a:gdLst/>
              <a:ahLst/>
              <a:rect l="l" t="t" r="r" b="b"/>
              <a:pathLst>
                <a:path fill="none" w="5359" h="1">
                  <a:moveTo>
                    <a:pt x="0" y="0"/>
                  </a:moveTo>
                  <a:lnTo>
                    <a:pt x="5358" y="0"/>
                  </a:lnTo>
                </a:path>
              </a:pathLst>
            </a:custGeom>
            <a:noFill/>
            <a:ln cap="rnd" w="12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90720" bIns="-90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100" name="Google Shape;566;p43"/>
            <p:cNvSpPr/>
            <p:nvPr/>
          </p:nvSpPr>
          <p:spPr>
            <a:xfrm>
              <a:off x="4525200" y="3907440"/>
              <a:ext cx="104760" cy="360"/>
            </a:xfrm>
            <a:custGeom>
              <a:avLst/>
              <a:gdLst/>
              <a:ahLst/>
              <a:rect l="l" t="t" r="r" b="b"/>
              <a:pathLst>
                <a:path fill="none" w="3410" h="1">
                  <a:moveTo>
                    <a:pt x="0" y="0"/>
                  </a:moveTo>
                  <a:lnTo>
                    <a:pt x="3410" y="0"/>
                  </a:lnTo>
                </a:path>
              </a:pathLst>
            </a:custGeom>
            <a:noFill/>
            <a:ln cap="rnd" w="12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90720" bIns="-90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grpSp>
        <p:nvGrpSpPr>
          <p:cNvPr id="101" name="Группа 65"/>
          <p:cNvGrpSpPr/>
          <p:nvPr/>
        </p:nvGrpSpPr>
        <p:grpSpPr>
          <a:xfrm>
            <a:off x="5305320" y="1104840"/>
            <a:ext cx="916200" cy="835200"/>
            <a:chOff x="5305320" y="1104840"/>
            <a:chExt cx="916200" cy="835200"/>
          </a:xfrm>
        </p:grpSpPr>
        <p:sp>
          <p:nvSpPr>
            <p:cNvPr id="102" name="Прямоугольник 23"/>
            <p:cNvSpPr/>
            <p:nvPr/>
          </p:nvSpPr>
          <p:spPr>
            <a:xfrm>
              <a:off x="5305320" y="1104840"/>
              <a:ext cx="916200" cy="835200"/>
            </a:xfrm>
            <a:prstGeom prst="rect">
              <a:avLst/>
            </a:prstGeom>
            <a:solidFill>
              <a:srgbClr val="264796"/>
            </a:solidFill>
            <a:ln w="0">
              <a:noFill/>
            </a:ln>
            <a:effectLst>
              <a:outerShdw dist="19080" dir="5400000" blurRad="0" rotWithShape="0">
                <a:srgbClr val="000000">
                  <a:alpha val="6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grpSp>
          <p:nvGrpSpPr>
            <p:cNvPr id="103" name="Google Shape;732;p43"/>
            <p:cNvGrpSpPr/>
            <p:nvPr/>
          </p:nvGrpSpPr>
          <p:grpSpPr>
            <a:xfrm>
              <a:off x="5464080" y="1296360"/>
              <a:ext cx="609480" cy="502920"/>
              <a:chOff x="5464080" y="1296360"/>
              <a:chExt cx="609480" cy="502920"/>
            </a:xfrm>
          </p:grpSpPr>
          <p:sp>
            <p:nvSpPr>
              <p:cNvPr id="104" name="Google Shape;733;p43"/>
              <p:cNvSpPr/>
              <p:nvPr/>
            </p:nvSpPr>
            <p:spPr>
              <a:xfrm>
                <a:off x="5963760" y="1731240"/>
                <a:ext cx="85320" cy="68040"/>
              </a:xfrm>
              <a:custGeom>
                <a:avLst/>
                <a:gdLst/>
                <a:ahLst/>
                <a:rect l="l" t="t" r="r" b="b"/>
                <a:pathLst>
                  <a:path fill="none" w="2631" h="2096">
                    <a:moveTo>
                      <a:pt x="1" y="1"/>
                    </a:moveTo>
                    <a:lnTo>
                      <a:pt x="1" y="780"/>
                    </a:lnTo>
                    <a:lnTo>
                      <a:pt x="25" y="1048"/>
                    </a:lnTo>
                    <a:lnTo>
                      <a:pt x="122" y="1291"/>
                    </a:lnTo>
                    <a:lnTo>
                      <a:pt x="244" y="1511"/>
                    </a:lnTo>
                    <a:lnTo>
                      <a:pt x="390" y="1705"/>
                    </a:lnTo>
                    <a:lnTo>
                      <a:pt x="585" y="1852"/>
                    </a:lnTo>
                    <a:lnTo>
                      <a:pt x="804" y="1973"/>
                    </a:lnTo>
                    <a:lnTo>
                      <a:pt x="1048" y="2071"/>
                    </a:lnTo>
                    <a:lnTo>
                      <a:pt x="1316" y="2095"/>
                    </a:lnTo>
                    <a:lnTo>
                      <a:pt x="1584" y="2071"/>
                    </a:lnTo>
                    <a:lnTo>
                      <a:pt x="1827" y="1973"/>
                    </a:lnTo>
                    <a:lnTo>
                      <a:pt x="2046" y="1852"/>
                    </a:lnTo>
                    <a:lnTo>
                      <a:pt x="2241" y="1705"/>
                    </a:lnTo>
                    <a:lnTo>
                      <a:pt x="2412" y="1511"/>
                    </a:lnTo>
                    <a:lnTo>
                      <a:pt x="2533" y="1291"/>
                    </a:lnTo>
                    <a:lnTo>
                      <a:pt x="2607" y="1048"/>
                    </a:lnTo>
                    <a:lnTo>
                      <a:pt x="2631" y="780"/>
                    </a:lnTo>
                    <a:lnTo>
                      <a:pt x="2631" y="1"/>
                    </a:lnTo>
                  </a:path>
                </a:pathLst>
              </a:custGeom>
              <a:noFill/>
              <a:ln cap="rnd" w="12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-23040" bIns="-23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  <p:sp>
            <p:nvSpPr>
              <p:cNvPr id="105" name="Google Shape;734;p43"/>
              <p:cNvSpPr/>
              <p:nvPr/>
            </p:nvSpPr>
            <p:spPr>
              <a:xfrm>
                <a:off x="5488560" y="1731240"/>
                <a:ext cx="85320" cy="68040"/>
              </a:xfrm>
              <a:custGeom>
                <a:avLst/>
                <a:gdLst/>
                <a:ahLst/>
                <a:rect l="l" t="t" r="r" b="b"/>
                <a:pathLst>
                  <a:path fill="none" w="2631" h="2096">
                    <a:moveTo>
                      <a:pt x="1" y="1"/>
                    </a:moveTo>
                    <a:lnTo>
                      <a:pt x="1" y="780"/>
                    </a:lnTo>
                    <a:lnTo>
                      <a:pt x="25" y="1048"/>
                    </a:lnTo>
                    <a:lnTo>
                      <a:pt x="98" y="1291"/>
                    </a:lnTo>
                    <a:lnTo>
                      <a:pt x="220" y="1511"/>
                    </a:lnTo>
                    <a:lnTo>
                      <a:pt x="390" y="1705"/>
                    </a:lnTo>
                    <a:lnTo>
                      <a:pt x="585" y="1852"/>
                    </a:lnTo>
                    <a:lnTo>
                      <a:pt x="804" y="1973"/>
                    </a:lnTo>
                    <a:lnTo>
                      <a:pt x="1048" y="2071"/>
                    </a:lnTo>
                    <a:lnTo>
                      <a:pt x="1316" y="2095"/>
                    </a:lnTo>
                    <a:lnTo>
                      <a:pt x="1584" y="2071"/>
                    </a:lnTo>
                    <a:lnTo>
                      <a:pt x="1827" y="1973"/>
                    </a:lnTo>
                    <a:lnTo>
                      <a:pt x="2046" y="1852"/>
                    </a:lnTo>
                    <a:lnTo>
                      <a:pt x="2241" y="1705"/>
                    </a:lnTo>
                    <a:lnTo>
                      <a:pt x="2387" y="1511"/>
                    </a:lnTo>
                    <a:lnTo>
                      <a:pt x="2509" y="1291"/>
                    </a:lnTo>
                    <a:lnTo>
                      <a:pt x="2607" y="1048"/>
                    </a:lnTo>
                    <a:lnTo>
                      <a:pt x="2631" y="780"/>
                    </a:lnTo>
                    <a:lnTo>
                      <a:pt x="2631" y="1"/>
                    </a:lnTo>
                  </a:path>
                </a:pathLst>
              </a:custGeom>
              <a:noFill/>
              <a:ln cap="rnd" w="12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-23040" bIns="-23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  <p:sp>
            <p:nvSpPr>
              <p:cNvPr id="106" name="Google Shape;735;p43"/>
              <p:cNvSpPr/>
              <p:nvPr/>
            </p:nvSpPr>
            <p:spPr>
              <a:xfrm>
                <a:off x="5464080" y="1296360"/>
                <a:ext cx="609480" cy="432720"/>
              </a:xfrm>
              <a:custGeom>
                <a:avLst/>
                <a:gdLst/>
                <a:ahLst/>
                <a:rect l="l" t="t" r="r" b="b"/>
                <a:pathLst>
                  <a:path fill="none" w="18754" h="13323">
                    <a:moveTo>
                      <a:pt x="18754" y="5553"/>
                    </a:moveTo>
                    <a:lnTo>
                      <a:pt x="18754" y="5553"/>
                    </a:lnTo>
                    <a:lnTo>
                      <a:pt x="18730" y="5334"/>
                    </a:lnTo>
                    <a:lnTo>
                      <a:pt x="18681" y="5091"/>
                    </a:lnTo>
                    <a:lnTo>
                      <a:pt x="18583" y="4847"/>
                    </a:lnTo>
                    <a:lnTo>
                      <a:pt x="18462" y="4628"/>
                    </a:lnTo>
                    <a:lnTo>
                      <a:pt x="18291" y="4433"/>
                    </a:lnTo>
                    <a:lnTo>
                      <a:pt x="18121" y="4287"/>
                    </a:lnTo>
                    <a:lnTo>
                      <a:pt x="18023" y="4214"/>
                    </a:lnTo>
                    <a:lnTo>
                      <a:pt x="17926" y="4165"/>
                    </a:lnTo>
                    <a:lnTo>
                      <a:pt x="17828" y="4141"/>
                    </a:lnTo>
                    <a:lnTo>
                      <a:pt x="17731" y="4141"/>
                    </a:lnTo>
                    <a:lnTo>
                      <a:pt x="16489" y="4141"/>
                    </a:lnTo>
                    <a:lnTo>
                      <a:pt x="15588" y="1803"/>
                    </a:lnTo>
                    <a:lnTo>
                      <a:pt x="15490" y="1583"/>
                    </a:lnTo>
                    <a:lnTo>
                      <a:pt x="15344" y="1364"/>
                    </a:lnTo>
                    <a:lnTo>
                      <a:pt x="15174" y="1169"/>
                    </a:lnTo>
                    <a:lnTo>
                      <a:pt x="15003" y="975"/>
                    </a:lnTo>
                    <a:lnTo>
                      <a:pt x="14784" y="804"/>
                    </a:lnTo>
                    <a:lnTo>
                      <a:pt x="14565" y="658"/>
                    </a:lnTo>
                    <a:lnTo>
                      <a:pt x="14346" y="536"/>
                    </a:lnTo>
                    <a:lnTo>
                      <a:pt x="14102" y="439"/>
                    </a:lnTo>
                    <a:lnTo>
                      <a:pt x="13810" y="390"/>
                    </a:lnTo>
                    <a:lnTo>
                      <a:pt x="13444" y="317"/>
                    </a:lnTo>
                    <a:lnTo>
                      <a:pt x="12933" y="220"/>
                    </a:lnTo>
                    <a:lnTo>
                      <a:pt x="12275" y="147"/>
                    </a:lnTo>
                    <a:lnTo>
                      <a:pt x="11472" y="73"/>
                    </a:lnTo>
                    <a:lnTo>
                      <a:pt x="10498" y="25"/>
                    </a:lnTo>
                    <a:lnTo>
                      <a:pt x="9377" y="0"/>
                    </a:lnTo>
                    <a:lnTo>
                      <a:pt x="8257" y="25"/>
                    </a:lnTo>
                    <a:lnTo>
                      <a:pt x="7283" y="73"/>
                    </a:lnTo>
                    <a:lnTo>
                      <a:pt x="6479" y="147"/>
                    </a:lnTo>
                    <a:lnTo>
                      <a:pt x="5821" y="220"/>
                    </a:lnTo>
                    <a:lnTo>
                      <a:pt x="5310" y="317"/>
                    </a:lnTo>
                    <a:lnTo>
                      <a:pt x="4945" y="390"/>
                    </a:lnTo>
                    <a:lnTo>
                      <a:pt x="4652" y="439"/>
                    </a:lnTo>
                    <a:lnTo>
                      <a:pt x="4409" y="536"/>
                    </a:lnTo>
                    <a:lnTo>
                      <a:pt x="4190" y="658"/>
                    </a:lnTo>
                    <a:lnTo>
                      <a:pt x="3970" y="804"/>
                    </a:lnTo>
                    <a:lnTo>
                      <a:pt x="3751" y="975"/>
                    </a:lnTo>
                    <a:lnTo>
                      <a:pt x="3581" y="1169"/>
                    </a:lnTo>
                    <a:lnTo>
                      <a:pt x="3410" y="1364"/>
                    </a:lnTo>
                    <a:lnTo>
                      <a:pt x="3264" y="1583"/>
                    </a:lnTo>
                    <a:lnTo>
                      <a:pt x="3167" y="1803"/>
                    </a:lnTo>
                    <a:lnTo>
                      <a:pt x="2266" y="4141"/>
                    </a:lnTo>
                    <a:lnTo>
                      <a:pt x="1023" y="4141"/>
                    </a:lnTo>
                    <a:lnTo>
                      <a:pt x="926" y="4141"/>
                    </a:lnTo>
                    <a:lnTo>
                      <a:pt x="829" y="4165"/>
                    </a:lnTo>
                    <a:lnTo>
                      <a:pt x="731" y="4214"/>
                    </a:lnTo>
                    <a:lnTo>
                      <a:pt x="634" y="4287"/>
                    </a:lnTo>
                    <a:lnTo>
                      <a:pt x="463" y="4433"/>
                    </a:lnTo>
                    <a:lnTo>
                      <a:pt x="293" y="4628"/>
                    </a:lnTo>
                    <a:lnTo>
                      <a:pt x="171" y="4847"/>
                    </a:lnTo>
                    <a:lnTo>
                      <a:pt x="74" y="5091"/>
                    </a:lnTo>
                    <a:lnTo>
                      <a:pt x="25" y="5334"/>
                    </a:lnTo>
                    <a:lnTo>
                      <a:pt x="1" y="5553"/>
                    </a:lnTo>
                    <a:lnTo>
                      <a:pt x="25" y="5748"/>
                    </a:lnTo>
                    <a:lnTo>
                      <a:pt x="74" y="5894"/>
                    </a:lnTo>
                    <a:lnTo>
                      <a:pt x="171" y="6016"/>
                    </a:lnTo>
                    <a:lnTo>
                      <a:pt x="293" y="6089"/>
                    </a:lnTo>
                    <a:lnTo>
                      <a:pt x="463" y="6138"/>
                    </a:lnTo>
                    <a:lnTo>
                      <a:pt x="634" y="6187"/>
                    </a:lnTo>
                    <a:lnTo>
                      <a:pt x="1023" y="6187"/>
                    </a:lnTo>
                    <a:lnTo>
                      <a:pt x="1462" y="6187"/>
                    </a:lnTo>
                    <a:lnTo>
                      <a:pt x="1145" y="7015"/>
                    </a:lnTo>
                    <a:lnTo>
                      <a:pt x="999" y="7526"/>
                    </a:lnTo>
                    <a:lnTo>
                      <a:pt x="877" y="8086"/>
                    </a:lnTo>
                    <a:lnTo>
                      <a:pt x="780" y="8671"/>
                    </a:lnTo>
                    <a:lnTo>
                      <a:pt x="756" y="9207"/>
                    </a:lnTo>
                    <a:lnTo>
                      <a:pt x="756" y="13323"/>
                    </a:lnTo>
                    <a:lnTo>
                      <a:pt x="17999" y="13323"/>
                    </a:lnTo>
                    <a:lnTo>
                      <a:pt x="17999" y="9207"/>
                    </a:lnTo>
                    <a:lnTo>
                      <a:pt x="17975" y="8671"/>
                    </a:lnTo>
                    <a:lnTo>
                      <a:pt x="17877" y="8086"/>
                    </a:lnTo>
                    <a:lnTo>
                      <a:pt x="17755" y="7526"/>
                    </a:lnTo>
                    <a:lnTo>
                      <a:pt x="17609" y="7015"/>
                    </a:lnTo>
                    <a:lnTo>
                      <a:pt x="17293" y="6187"/>
                    </a:lnTo>
                    <a:lnTo>
                      <a:pt x="17731" y="6187"/>
                    </a:lnTo>
                    <a:lnTo>
                      <a:pt x="18121" y="6187"/>
                    </a:lnTo>
                    <a:lnTo>
                      <a:pt x="18291" y="6138"/>
                    </a:lnTo>
                    <a:lnTo>
                      <a:pt x="18462" y="6089"/>
                    </a:lnTo>
                    <a:lnTo>
                      <a:pt x="18583" y="6016"/>
                    </a:lnTo>
                    <a:lnTo>
                      <a:pt x="18681" y="5894"/>
                    </a:lnTo>
                    <a:lnTo>
                      <a:pt x="18730" y="5748"/>
                    </a:lnTo>
                    <a:lnTo>
                      <a:pt x="18754" y="5553"/>
                    </a:lnTo>
                  </a:path>
                </a:pathLst>
              </a:custGeom>
              <a:noFill/>
              <a:ln cap="rnd" w="12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91080" bIns="91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  <p:sp>
            <p:nvSpPr>
              <p:cNvPr id="107" name="Google Shape;736;p43"/>
              <p:cNvSpPr/>
              <p:nvPr/>
            </p:nvSpPr>
            <p:spPr>
              <a:xfrm>
                <a:off x="5571720" y="1339560"/>
                <a:ext cx="394200" cy="194400"/>
              </a:xfrm>
              <a:custGeom>
                <a:avLst/>
                <a:gdLst/>
                <a:ahLst/>
                <a:rect l="l" t="t" r="r" b="b"/>
                <a:pathLst>
                  <a:path fill="none" w="12130" h="5993">
                    <a:moveTo>
                      <a:pt x="1" y="4628"/>
                    </a:moveTo>
                    <a:lnTo>
                      <a:pt x="1" y="4628"/>
                    </a:lnTo>
                    <a:lnTo>
                      <a:pt x="171" y="4019"/>
                    </a:lnTo>
                    <a:lnTo>
                      <a:pt x="585" y="2656"/>
                    </a:lnTo>
                    <a:lnTo>
                      <a:pt x="805" y="1925"/>
                    </a:lnTo>
                    <a:lnTo>
                      <a:pt x="1024" y="1292"/>
                    </a:lnTo>
                    <a:lnTo>
                      <a:pt x="1194" y="829"/>
                    </a:lnTo>
                    <a:lnTo>
                      <a:pt x="1267" y="707"/>
                    </a:lnTo>
                    <a:lnTo>
                      <a:pt x="1316" y="658"/>
                    </a:lnTo>
                    <a:lnTo>
                      <a:pt x="1535" y="561"/>
                    </a:lnTo>
                    <a:lnTo>
                      <a:pt x="1852" y="464"/>
                    </a:lnTo>
                    <a:lnTo>
                      <a:pt x="2315" y="342"/>
                    </a:lnTo>
                    <a:lnTo>
                      <a:pt x="2948" y="220"/>
                    </a:lnTo>
                    <a:lnTo>
                      <a:pt x="3776" y="98"/>
                    </a:lnTo>
                    <a:lnTo>
                      <a:pt x="4799" y="25"/>
                    </a:lnTo>
                    <a:lnTo>
                      <a:pt x="5408" y="1"/>
                    </a:lnTo>
                    <a:lnTo>
                      <a:pt x="6065" y="1"/>
                    </a:lnTo>
                    <a:lnTo>
                      <a:pt x="6723" y="1"/>
                    </a:lnTo>
                    <a:lnTo>
                      <a:pt x="7332" y="25"/>
                    </a:lnTo>
                    <a:lnTo>
                      <a:pt x="8355" y="98"/>
                    </a:lnTo>
                    <a:lnTo>
                      <a:pt x="9183" y="220"/>
                    </a:lnTo>
                    <a:lnTo>
                      <a:pt x="9816" y="342"/>
                    </a:lnTo>
                    <a:lnTo>
                      <a:pt x="10279" y="464"/>
                    </a:lnTo>
                    <a:lnTo>
                      <a:pt x="10595" y="561"/>
                    </a:lnTo>
                    <a:lnTo>
                      <a:pt x="10814" y="658"/>
                    </a:lnTo>
                    <a:lnTo>
                      <a:pt x="10863" y="707"/>
                    </a:lnTo>
                    <a:lnTo>
                      <a:pt x="10936" y="829"/>
                    </a:lnTo>
                    <a:lnTo>
                      <a:pt x="11107" y="1292"/>
                    </a:lnTo>
                    <a:lnTo>
                      <a:pt x="11326" y="1925"/>
                    </a:lnTo>
                    <a:lnTo>
                      <a:pt x="11545" y="2656"/>
                    </a:lnTo>
                    <a:lnTo>
                      <a:pt x="11959" y="4019"/>
                    </a:lnTo>
                    <a:lnTo>
                      <a:pt x="12130" y="4628"/>
                    </a:lnTo>
                    <a:lnTo>
                      <a:pt x="12105" y="4677"/>
                    </a:lnTo>
                    <a:lnTo>
                      <a:pt x="12057" y="4750"/>
                    </a:lnTo>
                    <a:lnTo>
                      <a:pt x="11959" y="4823"/>
                    </a:lnTo>
                    <a:lnTo>
                      <a:pt x="11813" y="4921"/>
                    </a:lnTo>
                    <a:lnTo>
                      <a:pt x="11618" y="5042"/>
                    </a:lnTo>
                    <a:lnTo>
                      <a:pt x="11375" y="5164"/>
                    </a:lnTo>
                    <a:lnTo>
                      <a:pt x="11058" y="5262"/>
                    </a:lnTo>
                    <a:lnTo>
                      <a:pt x="10717" y="5383"/>
                    </a:lnTo>
                    <a:lnTo>
                      <a:pt x="10327" y="5505"/>
                    </a:lnTo>
                    <a:lnTo>
                      <a:pt x="9865" y="5627"/>
                    </a:lnTo>
                    <a:lnTo>
                      <a:pt x="9377" y="5724"/>
                    </a:lnTo>
                    <a:lnTo>
                      <a:pt x="8817" y="5822"/>
                    </a:lnTo>
                    <a:lnTo>
                      <a:pt x="8208" y="5895"/>
                    </a:lnTo>
                    <a:lnTo>
                      <a:pt x="7551" y="5944"/>
                    </a:lnTo>
                    <a:lnTo>
                      <a:pt x="6845" y="5992"/>
                    </a:lnTo>
                    <a:lnTo>
                      <a:pt x="6065" y="5992"/>
                    </a:lnTo>
                    <a:lnTo>
                      <a:pt x="5286" y="5992"/>
                    </a:lnTo>
                    <a:lnTo>
                      <a:pt x="4580" y="5944"/>
                    </a:lnTo>
                    <a:lnTo>
                      <a:pt x="3922" y="5895"/>
                    </a:lnTo>
                    <a:lnTo>
                      <a:pt x="3313" y="5822"/>
                    </a:lnTo>
                    <a:lnTo>
                      <a:pt x="2753" y="5724"/>
                    </a:lnTo>
                    <a:lnTo>
                      <a:pt x="2266" y="5627"/>
                    </a:lnTo>
                    <a:lnTo>
                      <a:pt x="1803" y="5505"/>
                    </a:lnTo>
                    <a:lnTo>
                      <a:pt x="1413" y="5383"/>
                    </a:lnTo>
                    <a:lnTo>
                      <a:pt x="1072" y="5262"/>
                    </a:lnTo>
                    <a:lnTo>
                      <a:pt x="756" y="5164"/>
                    </a:lnTo>
                    <a:lnTo>
                      <a:pt x="512" y="5042"/>
                    </a:lnTo>
                    <a:lnTo>
                      <a:pt x="317" y="4921"/>
                    </a:lnTo>
                    <a:lnTo>
                      <a:pt x="171" y="4823"/>
                    </a:lnTo>
                    <a:lnTo>
                      <a:pt x="74" y="4750"/>
                    </a:lnTo>
                    <a:lnTo>
                      <a:pt x="25" y="4677"/>
                    </a:lnTo>
                    <a:lnTo>
                      <a:pt x="1" y="4628"/>
                    </a:lnTo>
                  </a:path>
                </a:pathLst>
              </a:custGeom>
              <a:noFill/>
              <a:ln cap="rnd" w="12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91080" bIns="91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  <p:sp>
            <p:nvSpPr>
              <p:cNvPr id="108" name="Google Shape;737;p43"/>
              <p:cNvSpPr/>
              <p:nvPr/>
            </p:nvSpPr>
            <p:spPr>
              <a:xfrm>
                <a:off x="5540040" y="1591200"/>
                <a:ext cx="105120" cy="84600"/>
              </a:xfrm>
              <a:custGeom>
                <a:avLst/>
                <a:gdLst/>
                <a:ahLst/>
                <a:rect l="l" t="t" r="r" b="b"/>
                <a:pathLst>
                  <a:path fill="none" w="3240" h="2607">
                    <a:moveTo>
                      <a:pt x="1632" y="2607"/>
                    </a:moveTo>
                    <a:lnTo>
                      <a:pt x="1632" y="2607"/>
                    </a:lnTo>
                    <a:lnTo>
                      <a:pt x="1291" y="2582"/>
                    </a:lnTo>
                    <a:lnTo>
                      <a:pt x="999" y="2509"/>
                    </a:lnTo>
                    <a:lnTo>
                      <a:pt x="731" y="2388"/>
                    </a:lnTo>
                    <a:lnTo>
                      <a:pt x="488" y="2217"/>
                    </a:lnTo>
                    <a:lnTo>
                      <a:pt x="293" y="2047"/>
                    </a:lnTo>
                    <a:lnTo>
                      <a:pt x="122" y="1803"/>
                    </a:lnTo>
                    <a:lnTo>
                      <a:pt x="74" y="1706"/>
                    </a:lnTo>
                    <a:lnTo>
                      <a:pt x="49" y="1559"/>
                    </a:lnTo>
                    <a:lnTo>
                      <a:pt x="25" y="1438"/>
                    </a:lnTo>
                    <a:lnTo>
                      <a:pt x="1" y="1316"/>
                    </a:lnTo>
                    <a:lnTo>
                      <a:pt x="25" y="1170"/>
                    </a:lnTo>
                    <a:lnTo>
                      <a:pt x="49" y="1048"/>
                    </a:lnTo>
                    <a:lnTo>
                      <a:pt x="74" y="926"/>
                    </a:lnTo>
                    <a:lnTo>
                      <a:pt x="122" y="804"/>
                    </a:lnTo>
                    <a:lnTo>
                      <a:pt x="293" y="585"/>
                    </a:lnTo>
                    <a:lnTo>
                      <a:pt x="488" y="390"/>
                    </a:lnTo>
                    <a:lnTo>
                      <a:pt x="731" y="220"/>
                    </a:lnTo>
                    <a:lnTo>
                      <a:pt x="999" y="98"/>
                    </a:lnTo>
                    <a:lnTo>
                      <a:pt x="1291" y="25"/>
                    </a:lnTo>
                    <a:lnTo>
                      <a:pt x="1632" y="1"/>
                    </a:lnTo>
                    <a:lnTo>
                      <a:pt x="1803" y="1"/>
                    </a:lnTo>
                    <a:lnTo>
                      <a:pt x="1949" y="49"/>
                    </a:lnTo>
                    <a:lnTo>
                      <a:pt x="2120" y="98"/>
                    </a:lnTo>
                    <a:lnTo>
                      <a:pt x="2266" y="171"/>
                    </a:lnTo>
                    <a:lnTo>
                      <a:pt x="2412" y="269"/>
                    </a:lnTo>
                    <a:lnTo>
                      <a:pt x="2534" y="390"/>
                    </a:lnTo>
                    <a:lnTo>
                      <a:pt x="2777" y="634"/>
                    </a:lnTo>
                    <a:lnTo>
                      <a:pt x="2972" y="926"/>
                    </a:lnTo>
                    <a:lnTo>
                      <a:pt x="3118" y="1219"/>
                    </a:lnTo>
                    <a:lnTo>
                      <a:pt x="3215" y="1535"/>
                    </a:lnTo>
                    <a:lnTo>
                      <a:pt x="3240" y="1681"/>
                    </a:lnTo>
                    <a:lnTo>
                      <a:pt x="3240" y="1803"/>
                    </a:lnTo>
                    <a:lnTo>
                      <a:pt x="3240" y="1949"/>
                    </a:lnTo>
                    <a:lnTo>
                      <a:pt x="3215" y="2047"/>
                    </a:lnTo>
                    <a:lnTo>
                      <a:pt x="3167" y="2144"/>
                    </a:lnTo>
                    <a:lnTo>
                      <a:pt x="3118" y="2241"/>
                    </a:lnTo>
                    <a:lnTo>
                      <a:pt x="3045" y="2314"/>
                    </a:lnTo>
                    <a:lnTo>
                      <a:pt x="2972" y="2388"/>
                    </a:lnTo>
                    <a:lnTo>
                      <a:pt x="2777" y="2485"/>
                    </a:lnTo>
                    <a:lnTo>
                      <a:pt x="2534" y="2558"/>
                    </a:lnTo>
                    <a:lnTo>
                      <a:pt x="2266" y="2582"/>
                    </a:lnTo>
                    <a:lnTo>
                      <a:pt x="1949" y="2607"/>
                    </a:lnTo>
                    <a:lnTo>
                      <a:pt x="1632" y="2607"/>
                    </a:lnTo>
                  </a:path>
                </a:pathLst>
              </a:custGeom>
              <a:noFill/>
              <a:ln cap="rnd" w="12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-6480" bIns="-6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  <p:sp>
            <p:nvSpPr>
              <p:cNvPr id="109" name="Google Shape;738;p43"/>
              <p:cNvSpPr/>
              <p:nvPr/>
            </p:nvSpPr>
            <p:spPr>
              <a:xfrm>
                <a:off x="5696640" y="1652400"/>
                <a:ext cx="144000" cy="360"/>
              </a:xfrm>
              <a:custGeom>
                <a:avLst/>
                <a:gdLst/>
                <a:ahLst/>
                <a:rect l="l" t="t" r="r" b="b"/>
                <a:pathLst>
                  <a:path fill="none" w="4434" h="1">
                    <a:moveTo>
                      <a:pt x="1" y="0"/>
                    </a:moveTo>
                    <a:lnTo>
                      <a:pt x="4434" y="0"/>
                    </a:lnTo>
                  </a:path>
                </a:pathLst>
              </a:custGeom>
              <a:noFill/>
              <a:ln cap="rnd" w="12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-90720" bIns="-90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  <p:sp>
            <p:nvSpPr>
              <p:cNvPr id="110" name="Google Shape;739;p43"/>
              <p:cNvSpPr/>
              <p:nvPr/>
            </p:nvSpPr>
            <p:spPr>
              <a:xfrm>
                <a:off x="5687280" y="1617480"/>
                <a:ext cx="163080" cy="360"/>
              </a:xfrm>
              <a:custGeom>
                <a:avLst/>
                <a:gdLst/>
                <a:ahLst/>
                <a:rect l="l" t="t" r="r" b="b"/>
                <a:pathLst>
                  <a:path fill="none" w="5018" h="1">
                    <a:moveTo>
                      <a:pt x="1" y="0"/>
                    </a:moveTo>
                    <a:lnTo>
                      <a:pt x="5018" y="0"/>
                    </a:lnTo>
                  </a:path>
                </a:pathLst>
              </a:custGeom>
              <a:noFill/>
              <a:ln cap="rnd" w="12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-90720" bIns="-90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  <p:sp>
            <p:nvSpPr>
              <p:cNvPr id="111" name="Google Shape;740;p43"/>
              <p:cNvSpPr/>
              <p:nvPr/>
            </p:nvSpPr>
            <p:spPr>
              <a:xfrm>
                <a:off x="5892480" y="1591200"/>
                <a:ext cx="105120" cy="84600"/>
              </a:xfrm>
              <a:custGeom>
                <a:avLst/>
                <a:gdLst/>
                <a:ahLst/>
                <a:rect l="l" t="t" r="r" b="b"/>
                <a:pathLst>
                  <a:path fill="none" w="3240" h="2607">
                    <a:moveTo>
                      <a:pt x="1608" y="2607"/>
                    </a:moveTo>
                    <a:lnTo>
                      <a:pt x="1608" y="2607"/>
                    </a:lnTo>
                    <a:lnTo>
                      <a:pt x="1291" y="2607"/>
                    </a:lnTo>
                    <a:lnTo>
                      <a:pt x="975" y="2582"/>
                    </a:lnTo>
                    <a:lnTo>
                      <a:pt x="707" y="2558"/>
                    </a:lnTo>
                    <a:lnTo>
                      <a:pt x="463" y="2485"/>
                    </a:lnTo>
                    <a:lnTo>
                      <a:pt x="268" y="2388"/>
                    </a:lnTo>
                    <a:lnTo>
                      <a:pt x="195" y="2314"/>
                    </a:lnTo>
                    <a:lnTo>
                      <a:pt x="122" y="2241"/>
                    </a:lnTo>
                    <a:lnTo>
                      <a:pt x="74" y="2144"/>
                    </a:lnTo>
                    <a:lnTo>
                      <a:pt x="25" y="2047"/>
                    </a:lnTo>
                    <a:lnTo>
                      <a:pt x="1" y="1949"/>
                    </a:lnTo>
                    <a:lnTo>
                      <a:pt x="1" y="1803"/>
                    </a:lnTo>
                    <a:lnTo>
                      <a:pt x="1" y="1681"/>
                    </a:lnTo>
                    <a:lnTo>
                      <a:pt x="25" y="1535"/>
                    </a:lnTo>
                    <a:lnTo>
                      <a:pt x="122" y="1219"/>
                    </a:lnTo>
                    <a:lnTo>
                      <a:pt x="268" y="926"/>
                    </a:lnTo>
                    <a:lnTo>
                      <a:pt x="463" y="634"/>
                    </a:lnTo>
                    <a:lnTo>
                      <a:pt x="707" y="390"/>
                    </a:lnTo>
                    <a:lnTo>
                      <a:pt x="829" y="269"/>
                    </a:lnTo>
                    <a:lnTo>
                      <a:pt x="975" y="171"/>
                    </a:lnTo>
                    <a:lnTo>
                      <a:pt x="1121" y="98"/>
                    </a:lnTo>
                    <a:lnTo>
                      <a:pt x="1291" y="49"/>
                    </a:lnTo>
                    <a:lnTo>
                      <a:pt x="1438" y="1"/>
                    </a:lnTo>
                    <a:lnTo>
                      <a:pt x="1608" y="1"/>
                    </a:lnTo>
                    <a:lnTo>
                      <a:pt x="1949" y="25"/>
                    </a:lnTo>
                    <a:lnTo>
                      <a:pt x="2241" y="98"/>
                    </a:lnTo>
                    <a:lnTo>
                      <a:pt x="2509" y="220"/>
                    </a:lnTo>
                    <a:lnTo>
                      <a:pt x="2753" y="390"/>
                    </a:lnTo>
                    <a:lnTo>
                      <a:pt x="2948" y="585"/>
                    </a:lnTo>
                    <a:lnTo>
                      <a:pt x="3118" y="804"/>
                    </a:lnTo>
                    <a:lnTo>
                      <a:pt x="3167" y="926"/>
                    </a:lnTo>
                    <a:lnTo>
                      <a:pt x="3191" y="1048"/>
                    </a:lnTo>
                    <a:lnTo>
                      <a:pt x="3215" y="1170"/>
                    </a:lnTo>
                    <a:lnTo>
                      <a:pt x="3240" y="1316"/>
                    </a:lnTo>
                    <a:lnTo>
                      <a:pt x="3215" y="1438"/>
                    </a:lnTo>
                    <a:lnTo>
                      <a:pt x="3191" y="1559"/>
                    </a:lnTo>
                    <a:lnTo>
                      <a:pt x="3167" y="1706"/>
                    </a:lnTo>
                    <a:lnTo>
                      <a:pt x="3118" y="1803"/>
                    </a:lnTo>
                    <a:lnTo>
                      <a:pt x="2948" y="2047"/>
                    </a:lnTo>
                    <a:lnTo>
                      <a:pt x="2753" y="2217"/>
                    </a:lnTo>
                    <a:lnTo>
                      <a:pt x="2509" y="2388"/>
                    </a:lnTo>
                    <a:lnTo>
                      <a:pt x="2241" y="2509"/>
                    </a:lnTo>
                    <a:lnTo>
                      <a:pt x="1949" y="2582"/>
                    </a:lnTo>
                    <a:lnTo>
                      <a:pt x="1608" y="2607"/>
                    </a:lnTo>
                  </a:path>
                </a:pathLst>
              </a:custGeom>
              <a:noFill/>
              <a:ln cap="rnd" w="12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-6480" bIns="-6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12" name="TextBox 40"/>
          <p:cNvSpPr/>
          <p:nvPr/>
        </p:nvSpPr>
        <p:spPr>
          <a:xfrm>
            <a:off x="3247920" y="4349880"/>
            <a:ext cx="27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info@chiro74.ru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TextBox 41"/>
          <p:cNvSpPr/>
          <p:nvPr/>
        </p:nvSpPr>
        <p:spPr>
          <a:xfrm>
            <a:off x="5226120" y="4356000"/>
            <a:ext cx="314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8 (351) 217 30 89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4" name="TextBox 43"/>
          <p:cNvSpPr/>
          <p:nvPr/>
        </p:nvSpPr>
        <p:spPr>
          <a:xfrm>
            <a:off x="2774880" y="2052720"/>
            <a:ext cx="6112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454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111, г. Челябинск, ул. Комсомольская, д. 20А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454087, г. Челябинск, ул. Блюхера, д. 9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454091, г. Челябинск, ул. Красноармейская, д. 88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454048, г. Челябинск, ул. Худякова, д. 20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5" name="Google Shape;59;g142ea23b5d2_0_0"/>
          <p:cNvSpPr/>
          <p:nvPr/>
        </p:nvSpPr>
        <p:spPr>
          <a:xfrm>
            <a:off x="3944880" y="4637160"/>
            <a:ext cx="36594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121680" bIns="121680" anchor="t">
            <a:spAutoFit/>
          </a:bodyPr>
          <a:p>
            <a:pPr marL="15840" algn="ctr">
              <a:lnSpc>
                <a:spcPct val="150000"/>
              </a:lnSpc>
              <a:spcBef>
                <a:spcPts val="1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03864"/>
                </a:solidFill>
                <a:latin typeface="Calibri"/>
                <a:ea typeface="Jost"/>
              </a:rPr>
              <a:t>МЫ В СОЦИАЛЬНЫХ СЕТЯХ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16" name="Группа 5"/>
          <p:cNvGrpSpPr/>
          <p:nvPr/>
        </p:nvGrpSpPr>
        <p:grpSpPr>
          <a:xfrm>
            <a:off x="6307200" y="3443400"/>
            <a:ext cx="984240" cy="903240"/>
            <a:chOff x="6307200" y="3443400"/>
            <a:chExt cx="984240" cy="903240"/>
          </a:xfrm>
        </p:grpSpPr>
        <p:sp>
          <p:nvSpPr>
            <p:cNvPr id="117" name="Прямоугольник 53"/>
            <p:cNvSpPr/>
            <p:nvPr/>
          </p:nvSpPr>
          <p:spPr>
            <a:xfrm>
              <a:off x="6307200" y="3443400"/>
              <a:ext cx="984240" cy="903240"/>
            </a:xfrm>
            <a:prstGeom prst="rect">
              <a:avLst/>
            </a:prstGeom>
            <a:solidFill>
              <a:srgbClr val="264796"/>
            </a:solidFill>
            <a:ln w="6480">
              <a:solidFill>
                <a:srgbClr val="4472c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118" name="Google Shape;653;p43"/>
            <p:cNvSpPr/>
            <p:nvPr/>
          </p:nvSpPr>
          <p:spPr>
            <a:xfrm>
              <a:off x="6585480" y="3562920"/>
              <a:ext cx="427320" cy="679320"/>
            </a:xfrm>
            <a:custGeom>
              <a:avLst/>
              <a:gdLst/>
              <a:ahLst/>
              <a:rect l="l" t="t" r="r" b="b"/>
              <a:pathLst>
                <a:path fill="none" w="11838" h="20508">
                  <a:moveTo>
                    <a:pt x="10547" y="1"/>
                  </a:moveTo>
                  <a:lnTo>
                    <a:pt x="1292" y="1"/>
                  </a:lnTo>
                  <a:lnTo>
                    <a:pt x="1024" y="25"/>
                  </a:lnTo>
                  <a:lnTo>
                    <a:pt x="780" y="98"/>
                  </a:lnTo>
                  <a:lnTo>
                    <a:pt x="561" y="220"/>
                  </a:lnTo>
                  <a:lnTo>
                    <a:pt x="366" y="366"/>
                  </a:lnTo>
                  <a:lnTo>
                    <a:pt x="220" y="561"/>
                  </a:lnTo>
                  <a:lnTo>
                    <a:pt x="98" y="780"/>
                  </a:lnTo>
                  <a:lnTo>
                    <a:pt x="25" y="1024"/>
                  </a:lnTo>
                  <a:lnTo>
                    <a:pt x="1" y="1292"/>
                  </a:lnTo>
                  <a:lnTo>
                    <a:pt x="1" y="19217"/>
                  </a:lnTo>
                  <a:lnTo>
                    <a:pt x="25" y="19485"/>
                  </a:lnTo>
                  <a:lnTo>
                    <a:pt x="98" y="19728"/>
                  </a:lnTo>
                  <a:lnTo>
                    <a:pt x="220" y="19948"/>
                  </a:lnTo>
                  <a:lnTo>
                    <a:pt x="366" y="20142"/>
                  </a:lnTo>
                  <a:lnTo>
                    <a:pt x="561" y="20289"/>
                  </a:lnTo>
                  <a:lnTo>
                    <a:pt x="780" y="20410"/>
                  </a:lnTo>
                  <a:lnTo>
                    <a:pt x="1024" y="20483"/>
                  </a:lnTo>
                  <a:lnTo>
                    <a:pt x="1292" y="20508"/>
                  </a:lnTo>
                  <a:lnTo>
                    <a:pt x="10547" y="20508"/>
                  </a:lnTo>
                  <a:lnTo>
                    <a:pt x="10814" y="20483"/>
                  </a:lnTo>
                  <a:lnTo>
                    <a:pt x="11058" y="20410"/>
                  </a:lnTo>
                  <a:lnTo>
                    <a:pt x="11277" y="20289"/>
                  </a:lnTo>
                  <a:lnTo>
                    <a:pt x="11472" y="20142"/>
                  </a:lnTo>
                  <a:lnTo>
                    <a:pt x="11618" y="19948"/>
                  </a:lnTo>
                  <a:lnTo>
                    <a:pt x="11740" y="19728"/>
                  </a:lnTo>
                  <a:lnTo>
                    <a:pt x="11813" y="19485"/>
                  </a:lnTo>
                  <a:lnTo>
                    <a:pt x="11837" y="19217"/>
                  </a:lnTo>
                  <a:lnTo>
                    <a:pt x="11837" y="1292"/>
                  </a:lnTo>
                  <a:lnTo>
                    <a:pt x="11813" y="1024"/>
                  </a:lnTo>
                  <a:lnTo>
                    <a:pt x="11740" y="780"/>
                  </a:lnTo>
                  <a:lnTo>
                    <a:pt x="11618" y="561"/>
                  </a:lnTo>
                  <a:lnTo>
                    <a:pt x="11472" y="366"/>
                  </a:lnTo>
                  <a:lnTo>
                    <a:pt x="11277" y="220"/>
                  </a:lnTo>
                  <a:lnTo>
                    <a:pt x="11058" y="98"/>
                  </a:lnTo>
                  <a:lnTo>
                    <a:pt x="10814" y="25"/>
                  </a:lnTo>
                  <a:lnTo>
                    <a:pt x="10547" y="1"/>
                  </a:lnTo>
                  <a:close/>
                  <a:moveTo>
                    <a:pt x="5554" y="975"/>
                  </a:moveTo>
                  <a:lnTo>
                    <a:pt x="6284" y="975"/>
                  </a:lnTo>
                  <a:lnTo>
                    <a:pt x="6406" y="999"/>
                  </a:lnTo>
                  <a:lnTo>
                    <a:pt x="6479" y="1073"/>
                  </a:lnTo>
                  <a:lnTo>
                    <a:pt x="6552" y="1146"/>
                  </a:lnTo>
                  <a:lnTo>
                    <a:pt x="6577" y="1267"/>
                  </a:lnTo>
                  <a:lnTo>
                    <a:pt x="6552" y="1365"/>
                  </a:lnTo>
                  <a:lnTo>
                    <a:pt x="6479" y="1462"/>
                  </a:lnTo>
                  <a:lnTo>
                    <a:pt x="6406" y="1511"/>
                  </a:lnTo>
                  <a:lnTo>
                    <a:pt x="6284" y="1535"/>
                  </a:lnTo>
                  <a:lnTo>
                    <a:pt x="5554" y="1535"/>
                  </a:lnTo>
                  <a:lnTo>
                    <a:pt x="5432" y="1511"/>
                  </a:lnTo>
                  <a:lnTo>
                    <a:pt x="5359" y="1462"/>
                  </a:lnTo>
                  <a:lnTo>
                    <a:pt x="5286" y="1365"/>
                  </a:lnTo>
                  <a:lnTo>
                    <a:pt x="5262" y="1267"/>
                  </a:lnTo>
                  <a:lnTo>
                    <a:pt x="5286" y="1146"/>
                  </a:lnTo>
                  <a:lnTo>
                    <a:pt x="5359" y="1073"/>
                  </a:lnTo>
                  <a:lnTo>
                    <a:pt x="5432" y="999"/>
                  </a:lnTo>
                  <a:lnTo>
                    <a:pt x="5554" y="975"/>
                  </a:lnTo>
                  <a:close/>
                  <a:moveTo>
                    <a:pt x="5919" y="19436"/>
                  </a:moveTo>
                  <a:lnTo>
                    <a:pt x="5919" y="19436"/>
                  </a:lnTo>
                  <a:lnTo>
                    <a:pt x="5749" y="19412"/>
                  </a:lnTo>
                  <a:lnTo>
                    <a:pt x="5578" y="19363"/>
                  </a:lnTo>
                  <a:lnTo>
                    <a:pt x="5432" y="19290"/>
                  </a:lnTo>
                  <a:lnTo>
                    <a:pt x="5310" y="19193"/>
                  </a:lnTo>
                  <a:lnTo>
                    <a:pt x="5213" y="19071"/>
                  </a:lnTo>
                  <a:lnTo>
                    <a:pt x="5140" y="18925"/>
                  </a:lnTo>
                  <a:lnTo>
                    <a:pt x="5091" y="18754"/>
                  </a:lnTo>
                  <a:lnTo>
                    <a:pt x="5067" y="18584"/>
                  </a:lnTo>
                  <a:lnTo>
                    <a:pt x="5091" y="18413"/>
                  </a:lnTo>
                  <a:lnTo>
                    <a:pt x="5140" y="18243"/>
                  </a:lnTo>
                  <a:lnTo>
                    <a:pt x="5213" y="18097"/>
                  </a:lnTo>
                  <a:lnTo>
                    <a:pt x="5310" y="17975"/>
                  </a:lnTo>
                  <a:lnTo>
                    <a:pt x="5432" y="17877"/>
                  </a:lnTo>
                  <a:lnTo>
                    <a:pt x="5578" y="17804"/>
                  </a:lnTo>
                  <a:lnTo>
                    <a:pt x="5749" y="17756"/>
                  </a:lnTo>
                  <a:lnTo>
                    <a:pt x="5919" y="17731"/>
                  </a:lnTo>
                  <a:lnTo>
                    <a:pt x="6090" y="17756"/>
                  </a:lnTo>
                  <a:lnTo>
                    <a:pt x="6260" y="17804"/>
                  </a:lnTo>
                  <a:lnTo>
                    <a:pt x="6406" y="17877"/>
                  </a:lnTo>
                  <a:lnTo>
                    <a:pt x="6528" y="17975"/>
                  </a:lnTo>
                  <a:lnTo>
                    <a:pt x="6625" y="18097"/>
                  </a:lnTo>
                  <a:lnTo>
                    <a:pt x="6699" y="18243"/>
                  </a:lnTo>
                  <a:lnTo>
                    <a:pt x="6747" y="18413"/>
                  </a:lnTo>
                  <a:lnTo>
                    <a:pt x="6772" y="18584"/>
                  </a:lnTo>
                  <a:lnTo>
                    <a:pt x="6747" y="18754"/>
                  </a:lnTo>
                  <a:lnTo>
                    <a:pt x="6699" y="18925"/>
                  </a:lnTo>
                  <a:lnTo>
                    <a:pt x="6625" y="19071"/>
                  </a:lnTo>
                  <a:lnTo>
                    <a:pt x="6528" y="19193"/>
                  </a:lnTo>
                  <a:lnTo>
                    <a:pt x="6406" y="19290"/>
                  </a:lnTo>
                  <a:lnTo>
                    <a:pt x="6260" y="19363"/>
                  </a:lnTo>
                  <a:lnTo>
                    <a:pt x="6090" y="19412"/>
                  </a:lnTo>
                  <a:lnTo>
                    <a:pt x="5919" y="19436"/>
                  </a:lnTo>
                  <a:close/>
                  <a:moveTo>
                    <a:pt x="10547" y="16660"/>
                  </a:moveTo>
                  <a:lnTo>
                    <a:pt x="1292" y="16660"/>
                  </a:lnTo>
                  <a:lnTo>
                    <a:pt x="1292" y="2558"/>
                  </a:lnTo>
                  <a:lnTo>
                    <a:pt x="10547" y="2558"/>
                  </a:lnTo>
                  <a:lnTo>
                    <a:pt x="10547" y="16660"/>
                  </a:lnTo>
                  <a:close/>
                </a:path>
              </a:pathLst>
            </a:custGeom>
            <a:noFill/>
            <a:ln cap="rnd" w="12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91080" bIns="91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grpSp>
        <p:nvGrpSpPr>
          <p:cNvPr id="119" name="Группа 6"/>
          <p:cNvGrpSpPr/>
          <p:nvPr/>
        </p:nvGrpSpPr>
        <p:grpSpPr>
          <a:xfrm>
            <a:off x="2048760" y="5133960"/>
            <a:ext cx="8094960" cy="1638720"/>
            <a:chOff x="2048760" y="5133960"/>
            <a:chExt cx="8094960" cy="1638720"/>
          </a:xfrm>
        </p:grpSpPr>
        <p:pic>
          <p:nvPicPr>
            <p:cNvPr id="120" name="Picture 2" descr="http://qrcoder.ru/code/?https%3A%2F%2Frcokio.ru%2F&amp;4&amp;0"/>
            <p:cNvPicPr/>
            <p:nvPr/>
          </p:nvPicPr>
          <p:blipFill>
            <a:blip r:embed="rId2"/>
            <a:stretch/>
          </p:blipFill>
          <p:spPr>
            <a:xfrm>
              <a:off x="2153160" y="5217480"/>
              <a:ext cx="1267200" cy="126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TextBox 1"/>
            <p:cNvSpPr/>
            <p:nvPr/>
          </p:nvSpPr>
          <p:spPr>
            <a:xfrm>
              <a:off x="2048760" y="6483240"/>
              <a:ext cx="1476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Calibri"/>
                </a:rPr>
                <a:t>сайт ГБУ ДПО ЧИРО</a:t>
              </a:r>
              <a:endParaRPr b="0" lang="en-US" sz="12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122" name="TextBox 49"/>
            <p:cNvSpPr/>
            <p:nvPr/>
          </p:nvSpPr>
          <p:spPr>
            <a:xfrm>
              <a:off x="4250520" y="6483240"/>
              <a:ext cx="1244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Calibri"/>
                </a:rPr>
                <a:t>Телеграм-канал</a:t>
              </a:r>
              <a:endParaRPr b="0" lang="en-US" sz="12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123" name="TextBox 50"/>
            <p:cNvSpPr/>
            <p:nvPr/>
          </p:nvSpPr>
          <p:spPr>
            <a:xfrm>
              <a:off x="6061320" y="6483240"/>
              <a:ext cx="1809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Calibri"/>
                </a:rPr>
                <a:t>Сообщество в ВКонтакте</a:t>
              </a:r>
              <a:endParaRPr b="0" lang="en-US" sz="12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pic>
          <p:nvPicPr>
            <p:cNvPr id="124" name="Рисунок 2" descr=""/>
            <p:cNvPicPr/>
            <p:nvPr/>
          </p:nvPicPr>
          <p:blipFill>
            <a:blip r:embed="rId3">
              <a:biLevel thresh="50000"/>
            </a:blip>
            <a:stretch/>
          </p:blipFill>
          <p:spPr>
            <a:xfrm>
              <a:off x="6279480" y="5133960"/>
              <a:ext cx="1374480" cy="1374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" name="Рисунок 3" descr=""/>
            <p:cNvPicPr/>
            <p:nvPr/>
          </p:nvPicPr>
          <p:blipFill>
            <a:blip r:embed="rId4"/>
            <a:srcRect l="17901" t="3970" r="16637" b="5413"/>
            <a:stretch/>
          </p:blipFill>
          <p:spPr>
            <a:xfrm>
              <a:off x="4239720" y="5231520"/>
              <a:ext cx="1267200" cy="117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Рисунок 4" descr=""/>
            <p:cNvPicPr/>
            <p:nvPr/>
          </p:nvPicPr>
          <p:blipFill>
            <a:blip r:embed="rId5"/>
            <a:stretch/>
          </p:blipFill>
          <p:spPr>
            <a:xfrm>
              <a:off x="8339760" y="5133960"/>
              <a:ext cx="1375200" cy="137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TextBox 42"/>
            <p:cNvSpPr/>
            <p:nvPr/>
          </p:nvSpPr>
          <p:spPr>
            <a:xfrm>
              <a:off x="7910280" y="6496200"/>
              <a:ext cx="2233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Calibri"/>
                </a:rPr>
                <a:t>Сообщество в Одноклассниках</a:t>
              </a:r>
              <a:endParaRPr b="0" lang="en-US" sz="12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pic>
        <p:nvPicPr>
          <p:cNvPr id="128" name="Рисунок 12" descr=""/>
          <p:cNvPicPr/>
          <p:nvPr/>
        </p:nvPicPr>
        <p:blipFill>
          <a:blip r:embed="rId6"/>
          <a:stretch/>
        </p:blipFill>
        <p:spPr>
          <a:xfrm>
            <a:off x="9028080" y="157320"/>
            <a:ext cx="2594160" cy="1118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Группа 12"/>
          <p:cNvGrpSpPr/>
          <p:nvPr/>
        </p:nvGrpSpPr>
        <p:grpSpPr>
          <a:xfrm>
            <a:off x="0" y="6627960"/>
            <a:ext cx="4038480" cy="230040"/>
            <a:chOff x="0" y="6627960"/>
            <a:chExt cx="4038480" cy="230040"/>
          </a:xfrm>
        </p:grpSpPr>
        <p:sp>
          <p:nvSpPr>
            <p:cNvPr id="166" name="Блок-схема: данные 4"/>
            <p:cNvSpPr/>
            <p:nvPr/>
          </p:nvSpPr>
          <p:spPr>
            <a:xfrm>
              <a:off x="0" y="6627960"/>
              <a:ext cx="4038480" cy="23004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10000"/>
                  </a:moveTo>
                  <a:cubicBezTo>
                    <a:pt x="12" y="6637"/>
                    <a:pt x="-4" y="3363"/>
                    <a:pt x="8" y="0"/>
                  </a:cubicBezTo>
                  <a:lnTo>
                    <a:pt x="10000" y="0"/>
                  </a:lnTo>
                  <a:lnTo>
                    <a:pt x="8563" y="10000"/>
                  </a:lnTo>
                  <a:lnTo>
                    <a:pt x="0" y="10000"/>
                  </a:lnTo>
                  <a:close/>
                </a:path>
              </a:pathLst>
            </a:custGeom>
            <a:solidFill>
              <a:srgbClr val="e31e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167" name="Блок-схема: данные 4"/>
            <p:cNvSpPr/>
            <p:nvPr/>
          </p:nvSpPr>
          <p:spPr>
            <a:xfrm>
              <a:off x="0" y="6627960"/>
              <a:ext cx="4006800" cy="22068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10000"/>
                  </a:moveTo>
                  <a:cubicBezTo>
                    <a:pt x="12" y="6637"/>
                    <a:pt x="-4" y="3363"/>
                    <a:pt x="8" y="0"/>
                  </a:cubicBezTo>
                  <a:lnTo>
                    <a:pt x="10000" y="0"/>
                  </a:lnTo>
                  <a:lnTo>
                    <a:pt x="8563" y="10000"/>
                  </a:lnTo>
                  <a:lnTo>
                    <a:pt x="0" y="10000"/>
                  </a:lnTo>
                  <a:close/>
                </a:path>
              </a:pathLst>
            </a:custGeom>
            <a:solidFill>
              <a:srgbClr val="2647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pic>
        <p:nvPicPr>
          <p:cNvPr id="168" name="Рисунок 3" descr=""/>
          <p:cNvPicPr/>
          <p:nvPr/>
        </p:nvPicPr>
        <p:blipFill>
          <a:blip r:embed="rId2"/>
          <a:srcRect l="0" t="0" r="71336" b="30012"/>
          <a:stretch/>
        </p:blipFill>
        <p:spPr>
          <a:xfrm>
            <a:off x="11215800" y="88920"/>
            <a:ext cx="825480" cy="86832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90320" y="495360"/>
            <a:ext cx="103726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90320" y="2000160"/>
            <a:ext cx="10372680" cy="447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15E75-C1EE-4F13-AA4D-1740D0977EEF}" type="slidenum">
              <a:rPr b="0" lang="ru-RU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0" name="Группа 12"/>
          <p:cNvGrpSpPr/>
          <p:nvPr/>
        </p:nvGrpSpPr>
        <p:grpSpPr>
          <a:xfrm>
            <a:off x="0" y="6627960"/>
            <a:ext cx="4038480" cy="230040"/>
            <a:chOff x="0" y="6627960"/>
            <a:chExt cx="4038480" cy="230040"/>
          </a:xfrm>
        </p:grpSpPr>
        <p:sp>
          <p:nvSpPr>
            <p:cNvPr id="211" name="Блок-схема: данные 4"/>
            <p:cNvSpPr/>
            <p:nvPr/>
          </p:nvSpPr>
          <p:spPr>
            <a:xfrm>
              <a:off x="0" y="6627960"/>
              <a:ext cx="4038480" cy="23004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10000"/>
                  </a:moveTo>
                  <a:cubicBezTo>
                    <a:pt x="12" y="6637"/>
                    <a:pt x="-4" y="3363"/>
                    <a:pt x="8" y="0"/>
                  </a:cubicBezTo>
                  <a:lnTo>
                    <a:pt x="10000" y="0"/>
                  </a:lnTo>
                  <a:lnTo>
                    <a:pt x="8563" y="10000"/>
                  </a:lnTo>
                  <a:lnTo>
                    <a:pt x="0" y="10000"/>
                  </a:lnTo>
                  <a:close/>
                </a:path>
              </a:pathLst>
            </a:custGeom>
            <a:solidFill>
              <a:srgbClr val="e31e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12" name="Блок-схема: данные 4"/>
            <p:cNvSpPr/>
            <p:nvPr/>
          </p:nvSpPr>
          <p:spPr>
            <a:xfrm>
              <a:off x="0" y="6627960"/>
              <a:ext cx="4006800" cy="22068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10000"/>
                  </a:moveTo>
                  <a:cubicBezTo>
                    <a:pt x="12" y="6637"/>
                    <a:pt x="-4" y="3363"/>
                    <a:pt x="8" y="0"/>
                  </a:cubicBezTo>
                  <a:lnTo>
                    <a:pt x="10000" y="0"/>
                  </a:lnTo>
                  <a:lnTo>
                    <a:pt x="8563" y="10000"/>
                  </a:lnTo>
                  <a:lnTo>
                    <a:pt x="0" y="10000"/>
                  </a:lnTo>
                  <a:close/>
                </a:path>
              </a:pathLst>
            </a:custGeom>
            <a:solidFill>
              <a:srgbClr val="2647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pic>
        <p:nvPicPr>
          <p:cNvPr id="213" name="Рисунок 3" descr=""/>
          <p:cNvPicPr/>
          <p:nvPr/>
        </p:nvPicPr>
        <p:blipFill>
          <a:blip r:embed="rId2"/>
          <a:srcRect l="0" t="0" r="71336" b="30012"/>
          <a:stretch/>
        </p:blipFill>
        <p:spPr>
          <a:xfrm>
            <a:off x="11215800" y="88920"/>
            <a:ext cx="825480" cy="868320"/>
          </a:xfrm>
          <a:prstGeom prst="rect">
            <a:avLst/>
          </a:prstGeom>
          <a:ln w="0">
            <a:noFill/>
          </a:ln>
        </p:spPr>
      </p:pic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90320" y="495360"/>
            <a:ext cx="103726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90320" y="2000160"/>
            <a:ext cx="10372680" cy="447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7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9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802DB-4C3C-45EC-9A30-F4CF753F82D0}" type="slidenum">
              <a:rPr b="0" lang="ru-RU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5" name="Группа 12"/>
          <p:cNvGrpSpPr/>
          <p:nvPr/>
        </p:nvGrpSpPr>
        <p:grpSpPr>
          <a:xfrm>
            <a:off x="0" y="6627960"/>
            <a:ext cx="4038480" cy="230040"/>
            <a:chOff x="0" y="6627960"/>
            <a:chExt cx="4038480" cy="230040"/>
          </a:xfrm>
        </p:grpSpPr>
        <p:sp>
          <p:nvSpPr>
            <p:cNvPr id="256" name="Блок-схема: данные 4"/>
            <p:cNvSpPr/>
            <p:nvPr/>
          </p:nvSpPr>
          <p:spPr>
            <a:xfrm>
              <a:off x="0" y="6627960"/>
              <a:ext cx="4038480" cy="23004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10000"/>
                  </a:moveTo>
                  <a:cubicBezTo>
                    <a:pt x="12" y="6637"/>
                    <a:pt x="-4" y="3363"/>
                    <a:pt x="8" y="0"/>
                  </a:cubicBezTo>
                  <a:lnTo>
                    <a:pt x="10000" y="0"/>
                  </a:lnTo>
                  <a:lnTo>
                    <a:pt x="8563" y="10000"/>
                  </a:lnTo>
                  <a:lnTo>
                    <a:pt x="0" y="10000"/>
                  </a:lnTo>
                  <a:close/>
                </a:path>
              </a:pathLst>
            </a:custGeom>
            <a:solidFill>
              <a:srgbClr val="e31e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57" name="Блок-схема: данные 4"/>
            <p:cNvSpPr/>
            <p:nvPr/>
          </p:nvSpPr>
          <p:spPr>
            <a:xfrm>
              <a:off x="0" y="6627960"/>
              <a:ext cx="4006800" cy="22068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10000"/>
                  </a:moveTo>
                  <a:cubicBezTo>
                    <a:pt x="12" y="6637"/>
                    <a:pt x="-4" y="3363"/>
                    <a:pt x="8" y="0"/>
                  </a:cubicBezTo>
                  <a:lnTo>
                    <a:pt x="10000" y="0"/>
                  </a:lnTo>
                  <a:lnTo>
                    <a:pt x="8563" y="10000"/>
                  </a:lnTo>
                  <a:lnTo>
                    <a:pt x="0" y="10000"/>
                  </a:lnTo>
                  <a:close/>
                </a:path>
              </a:pathLst>
            </a:custGeom>
            <a:solidFill>
              <a:srgbClr val="2647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pic>
        <p:nvPicPr>
          <p:cNvPr id="258" name="Рисунок 3" descr=""/>
          <p:cNvPicPr/>
          <p:nvPr/>
        </p:nvPicPr>
        <p:blipFill>
          <a:blip r:embed="rId2"/>
          <a:srcRect l="0" t="0" r="71336" b="30012"/>
          <a:stretch/>
        </p:blipFill>
        <p:spPr>
          <a:xfrm>
            <a:off x="11215800" y="88920"/>
            <a:ext cx="825480" cy="868320"/>
          </a:xfrm>
          <a:prstGeom prst="rect">
            <a:avLst/>
          </a:prstGeom>
          <a:ln w="0">
            <a:noFill/>
          </a:ln>
        </p:spPr>
      </p:pic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90320" y="495360"/>
            <a:ext cx="103726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490320" y="2000160"/>
            <a:ext cx="10372680" cy="447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dt" idx="10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ftr" idx="1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 type="sldNum" idx="12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B36DE-B0D9-4E79-80B0-1F2751446912}" type="slidenum">
              <a:rPr b="0" lang="ru-RU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0" name="Группа 12"/>
          <p:cNvGrpSpPr/>
          <p:nvPr/>
        </p:nvGrpSpPr>
        <p:grpSpPr>
          <a:xfrm>
            <a:off x="0" y="6627960"/>
            <a:ext cx="4038480" cy="230040"/>
            <a:chOff x="0" y="6627960"/>
            <a:chExt cx="4038480" cy="230040"/>
          </a:xfrm>
        </p:grpSpPr>
        <p:sp>
          <p:nvSpPr>
            <p:cNvPr id="301" name="Блок-схема: данные 4"/>
            <p:cNvSpPr/>
            <p:nvPr/>
          </p:nvSpPr>
          <p:spPr>
            <a:xfrm>
              <a:off x="0" y="6627960"/>
              <a:ext cx="4038480" cy="23004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10000"/>
                  </a:moveTo>
                  <a:cubicBezTo>
                    <a:pt x="12" y="6637"/>
                    <a:pt x="-4" y="3363"/>
                    <a:pt x="8" y="0"/>
                  </a:cubicBezTo>
                  <a:lnTo>
                    <a:pt x="10000" y="0"/>
                  </a:lnTo>
                  <a:lnTo>
                    <a:pt x="8563" y="10000"/>
                  </a:lnTo>
                  <a:lnTo>
                    <a:pt x="0" y="10000"/>
                  </a:lnTo>
                  <a:close/>
                </a:path>
              </a:pathLst>
            </a:custGeom>
            <a:solidFill>
              <a:srgbClr val="e31e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302" name="Блок-схема: данные 4"/>
            <p:cNvSpPr/>
            <p:nvPr/>
          </p:nvSpPr>
          <p:spPr>
            <a:xfrm>
              <a:off x="0" y="6627960"/>
              <a:ext cx="4006800" cy="22068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10000"/>
                  </a:moveTo>
                  <a:cubicBezTo>
                    <a:pt x="12" y="6637"/>
                    <a:pt x="-4" y="3363"/>
                    <a:pt x="8" y="0"/>
                  </a:cubicBezTo>
                  <a:lnTo>
                    <a:pt x="10000" y="0"/>
                  </a:lnTo>
                  <a:lnTo>
                    <a:pt x="8563" y="10000"/>
                  </a:lnTo>
                  <a:lnTo>
                    <a:pt x="0" y="10000"/>
                  </a:lnTo>
                  <a:close/>
                </a:path>
              </a:pathLst>
            </a:custGeom>
            <a:solidFill>
              <a:srgbClr val="2647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pic>
        <p:nvPicPr>
          <p:cNvPr id="303" name="Рисунок 3" descr=""/>
          <p:cNvPicPr/>
          <p:nvPr/>
        </p:nvPicPr>
        <p:blipFill>
          <a:blip r:embed="rId2"/>
          <a:srcRect l="0" t="0" r="71336" b="30012"/>
          <a:stretch/>
        </p:blipFill>
        <p:spPr>
          <a:xfrm>
            <a:off x="11215800" y="88920"/>
            <a:ext cx="825480" cy="868320"/>
          </a:xfrm>
          <a:prstGeom prst="rect">
            <a:avLst/>
          </a:prstGeom>
          <a:ln w="0">
            <a:noFill/>
          </a:ln>
        </p:spPr>
      </p:pic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90320" y="495360"/>
            <a:ext cx="103726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490320" y="2000160"/>
            <a:ext cx="10372680" cy="447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13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1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15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28694-EB21-4539-9099-A8626DF84566}" type="slidenum">
              <a:rPr b="0" lang="ru-RU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5" name="Группа 12"/>
          <p:cNvGrpSpPr/>
          <p:nvPr/>
        </p:nvGrpSpPr>
        <p:grpSpPr>
          <a:xfrm>
            <a:off x="0" y="6627960"/>
            <a:ext cx="4038480" cy="230040"/>
            <a:chOff x="0" y="6627960"/>
            <a:chExt cx="4038480" cy="230040"/>
          </a:xfrm>
        </p:grpSpPr>
        <p:sp>
          <p:nvSpPr>
            <p:cNvPr id="346" name="Блок-схема: данные 4"/>
            <p:cNvSpPr/>
            <p:nvPr/>
          </p:nvSpPr>
          <p:spPr>
            <a:xfrm>
              <a:off x="0" y="6627960"/>
              <a:ext cx="4038480" cy="23004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10000"/>
                  </a:moveTo>
                  <a:cubicBezTo>
                    <a:pt x="12" y="6637"/>
                    <a:pt x="-4" y="3363"/>
                    <a:pt x="8" y="0"/>
                  </a:cubicBezTo>
                  <a:lnTo>
                    <a:pt x="10000" y="0"/>
                  </a:lnTo>
                  <a:lnTo>
                    <a:pt x="8563" y="10000"/>
                  </a:lnTo>
                  <a:lnTo>
                    <a:pt x="0" y="10000"/>
                  </a:lnTo>
                  <a:close/>
                </a:path>
              </a:pathLst>
            </a:custGeom>
            <a:solidFill>
              <a:srgbClr val="e31e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347" name="Блок-схема: данные 4"/>
            <p:cNvSpPr/>
            <p:nvPr/>
          </p:nvSpPr>
          <p:spPr>
            <a:xfrm>
              <a:off x="0" y="6627960"/>
              <a:ext cx="4006800" cy="22068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10000"/>
                  </a:moveTo>
                  <a:cubicBezTo>
                    <a:pt x="12" y="6637"/>
                    <a:pt x="-4" y="3363"/>
                    <a:pt x="8" y="0"/>
                  </a:cubicBezTo>
                  <a:lnTo>
                    <a:pt x="10000" y="0"/>
                  </a:lnTo>
                  <a:lnTo>
                    <a:pt x="8563" y="10000"/>
                  </a:lnTo>
                  <a:lnTo>
                    <a:pt x="0" y="10000"/>
                  </a:lnTo>
                  <a:close/>
                </a:path>
              </a:pathLst>
            </a:custGeom>
            <a:solidFill>
              <a:srgbClr val="2647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pic>
        <p:nvPicPr>
          <p:cNvPr id="348" name="Рисунок 3" descr=""/>
          <p:cNvPicPr/>
          <p:nvPr/>
        </p:nvPicPr>
        <p:blipFill>
          <a:blip r:embed="rId2"/>
          <a:srcRect l="0" t="0" r="71336" b="30012"/>
          <a:stretch/>
        </p:blipFill>
        <p:spPr>
          <a:xfrm>
            <a:off x="11215800" y="88920"/>
            <a:ext cx="825480" cy="868320"/>
          </a:xfrm>
          <a:prstGeom prst="rect">
            <a:avLst/>
          </a:prstGeom>
          <a:ln w="0">
            <a:noFill/>
          </a:ln>
        </p:spPr>
      </p:pic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90320" y="495360"/>
            <a:ext cx="103726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490320" y="2000160"/>
            <a:ext cx="10372680" cy="447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16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1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18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EEC80-5267-4A20-A308-AD58BD30AFA0}" type="slidenum">
              <a:rPr b="0" lang="ru-RU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0" name="Группа 12"/>
          <p:cNvGrpSpPr/>
          <p:nvPr/>
        </p:nvGrpSpPr>
        <p:grpSpPr>
          <a:xfrm>
            <a:off x="0" y="6627960"/>
            <a:ext cx="4038480" cy="230040"/>
            <a:chOff x="0" y="6627960"/>
            <a:chExt cx="4038480" cy="230040"/>
          </a:xfrm>
        </p:grpSpPr>
        <p:sp>
          <p:nvSpPr>
            <p:cNvPr id="391" name="Блок-схема: данные 4"/>
            <p:cNvSpPr/>
            <p:nvPr/>
          </p:nvSpPr>
          <p:spPr>
            <a:xfrm>
              <a:off x="0" y="6627960"/>
              <a:ext cx="4038480" cy="23004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10000"/>
                  </a:moveTo>
                  <a:cubicBezTo>
                    <a:pt x="12" y="6637"/>
                    <a:pt x="-4" y="3363"/>
                    <a:pt x="8" y="0"/>
                  </a:cubicBezTo>
                  <a:lnTo>
                    <a:pt x="10000" y="0"/>
                  </a:lnTo>
                  <a:lnTo>
                    <a:pt x="8563" y="10000"/>
                  </a:lnTo>
                  <a:lnTo>
                    <a:pt x="0" y="10000"/>
                  </a:lnTo>
                  <a:close/>
                </a:path>
              </a:pathLst>
            </a:custGeom>
            <a:solidFill>
              <a:srgbClr val="e31e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392" name="Блок-схема: данные 4"/>
            <p:cNvSpPr/>
            <p:nvPr/>
          </p:nvSpPr>
          <p:spPr>
            <a:xfrm>
              <a:off x="0" y="6627960"/>
              <a:ext cx="4006800" cy="22068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10000"/>
                  </a:moveTo>
                  <a:cubicBezTo>
                    <a:pt x="12" y="6637"/>
                    <a:pt x="-4" y="3363"/>
                    <a:pt x="8" y="0"/>
                  </a:cubicBezTo>
                  <a:lnTo>
                    <a:pt x="10000" y="0"/>
                  </a:lnTo>
                  <a:lnTo>
                    <a:pt x="8563" y="10000"/>
                  </a:lnTo>
                  <a:lnTo>
                    <a:pt x="0" y="10000"/>
                  </a:lnTo>
                  <a:close/>
                </a:path>
              </a:pathLst>
            </a:custGeom>
            <a:solidFill>
              <a:srgbClr val="2647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pic>
        <p:nvPicPr>
          <p:cNvPr id="393" name="Рисунок 3" descr=""/>
          <p:cNvPicPr/>
          <p:nvPr/>
        </p:nvPicPr>
        <p:blipFill>
          <a:blip r:embed="rId2"/>
          <a:srcRect l="0" t="0" r="71336" b="30012"/>
          <a:stretch/>
        </p:blipFill>
        <p:spPr>
          <a:xfrm>
            <a:off x="11215800" y="88920"/>
            <a:ext cx="825480" cy="868320"/>
          </a:xfrm>
          <a:prstGeom prst="rect">
            <a:avLst/>
          </a:prstGeom>
          <a:ln w="0">
            <a:noFill/>
          </a:ln>
        </p:spPr>
      </p:pic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90320" y="495360"/>
            <a:ext cx="103726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490320" y="2000160"/>
            <a:ext cx="10372680" cy="447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 type="dt" idx="19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 type="ftr" idx="2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 type="sldNum" idx="21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C8431-9EE6-4FC0-A69E-798CA9DE95FC}" type="slidenum">
              <a:rPr b="0" lang="ru-RU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subTitle"/>
          </p:nvPr>
        </p:nvSpPr>
        <p:spPr>
          <a:xfrm>
            <a:off x="5881680" y="5008320"/>
            <a:ext cx="6019920" cy="122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Щербаков Андрей Викторович, и.о. заведующего кафедрой воспитания и дополнительного образования ГБУ ДПО «ЧИРО», к.п.н., доцент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9" name="PlaceHolder 2"/>
          <p:cNvSpPr>
            <a:spLocks noGrp="1"/>
          </p:cNvSpPr>
          <p:nvPr>
            <p:ph type="title"/>
          </p:nvPr>
        </p:nvSpPr>
        <p:spPr>
          <a:xfrm>
            <a:off x="5724000" y="1437840"/>
            <a:ext cx="6177240" cy="2863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f5597"/>
                </a:solidFill>
                <a:latin typeface="Calibri"/>
                <a:ea typeface="Calibri"/>
              </a:rPr>
              <a:t>О Концепции</a:t>
            </a:r>
            <a:br>
              <a:rPr sz="2800"/>
            </a:br>
            <a:r>
              <a:rPr b="1" lang="ru-RU" sz="2800" spc="-1" strike="noStrike">
                <a:solidFill>
                  <a:srgbClr val="2f5597"/>
                </a:solidFill>
                <a:latin typeface="Calibri"/>
                <a:ea typeface="Calibri"/>
              </a:rPr>
              <a:t>проведения I</a:t>
            </a:r>
            <a:r>
              <a:rPr b="1" lang="en-US" sz="2800" spc="-1" strike="noStrike">
                <a:solidFill>
                  <a:srgbClr val="2f5597"/>
                </a:solidFill>
                <a:latin typeface="Calibri"/>
                <a:ea typeface="Calibri"/>
              </a:rPr>
              <a:t>V</a:t>
            </a:r>
            <a:r>
              <a:rPr b="1" lang="ru-RU" sz="2800" spc="-1" strike="noStrike">
                <a:solidFill>
                  <a:srgbClr val="2f5597"/>
                </a:solidFill>
                <a:latin typeface="Calibri"/>
                <a:ea typeface="Calibri"/>
              </a:rPr>
              <a:t> Международной научно-практической конференции «Воспитание человека в эпоху глобальных преобразований»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6" name=""/>
          <p:cNvSpPr txBox="1"/>
          <p:nvPr/>
        </p:nvSpPr>
        <p:spPr>
          <a:xfrm>
            <a:off x="490320" y="1332000"/>
            <a:ext cx="1067436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23920" indent="-22392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Концепция проведения IV Международной научно-практической конференции «Воспитание человека в эпоху глобальных преобразований. Реализация потенциала человека, развитие его талантов, воспитание патриотичной и ответственной личности» с описанием отражения в направлениях конференции национальных целей, опыта реализации позитивных воспитательных практик Челябинской области, российских и международных партнеров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23920" indent="-22392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Регламент подготовки к проведению IV Международной научно-практической конференции «Воспитание человека в эпоху глобальных преобразований. Реализация потенциала человека, развитие его талантов, воспитание патриотичной и ответственной личности»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23920" indent="-22392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Состав оргкомитета, рабочей и редакционных групп по подготовке к проведению IV Международной научно-практической конференции «Воспитание человека в эпоху глобальных преобразований. Реализация потенциала человека, развитие его талантов, воспитание патриотичной и ответственной личности»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23920" indent="-2239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7" name="PlaceHolder 1"/>
          <p:cNvSpPr>
            <a:spLocks noGrp="1"/>
          </p:cNvSpPr>
          <p:nvPr>
            <p:ph type="title"/>
          </p:nvPr>
        </p:nvSpPr>
        <p:spPr>
          <a:xfrm>
            <a:off x="212400" y="237600"/>
            <a:ext cx="10371240" cy="83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64796"/>
                </a:solidFill>
                <a:latin typeface="Arial"/>
                <a:ea typeface="Arial"/>
              </a:rPr>
              <a:t>Подготовленные материалы, обеспечивающие организацию Конференции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0" name="PlaceHolder 1"/>
          <p:cNvSpPr>
            <a:spLocks noGrp="1"/>
          </p:cNvSpPr>
          <p:nvPr>
            <p:ph type="title"/>
          </p:nvPr>
        </p:nvSpPr>
        <p:spPr>
          <a:xfrm>
            <a:off x="490320" y="495360"/>
            <a:ext cx="10372680" cy="77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64796"/>
                </a:solidFill>
                <a:latin typeface="Arial"/>
                <a:ea typeface="Arial"/>
              </a:rPr>
              <a:t>Нормативные основания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541" name="Объект 3" descr=""/>
          <p:cNvPicPr/>
          <p:nvPr/>
        </p:nvPicPr>
        <p:blipFill>
          <a:blip r:embed="rId1"/>
          <a:stretch/>
        </p:blipFill>
        <p:spPr>
          <a:xfrm>
            <a:off x="865080" y="1547640"/>
            <a:ext cx="10431720" cy="449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PlaceHolder 1"/>
          <p:cNvSpPr>
            <a:spLocks noGrp="1"/>
          </p:cNvSpPr>
          <p:nvPr>
            <p:ph type="title"/>
          </p:nvPr>
        </p:nvSpPr>
        <p:spPr>
          <a:xfrm>
            <a:off x="490320" y="495000"/>
            <a:ext cx="103726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64796"/>
                </a:solidFill>
                <a:latin typeface="Arial"/>
                <a:ea typeface="Arial"/>
              </a:rPr>
              <a:t>Особенности проведения конференции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43" name=""/>
          <p:cNvSpPr txBox="1"/>
          <p:nvPr/>
        </p:nvSpPr>
        <p:spPr>
          <a:xfrm>
            <a:off x="4272120" y="1371240"/>
            <a:ext cx="7472160" cy="49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19240" indent="-219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оводится с 2018 года 4 раз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еемственность Всероссийской научно-практической конференции «Внеурочная деятельность обучающихся в условиях реализации ФГОС общего образования», реализуемой с 2012 года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татус: международная научно-практическая конференция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Формат проведения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ленарная часть - очная с с использованием видеоконференцсвязи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едагогический интерактив «Стратегия успеха» (педагогические мастерские, дискуссии, коммуникационные площадки, публичные лекции и т.д.) – очная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Форум киноволонтеров – очна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борник материалов конференции размещается в РИНЦ, включает ежегодно от 120 статей из 20 субъектов РФ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44" name="Рисунок 4" descr=""/>
          <p:cNvPicPr/>
          <p:nvPr/>
        </p:nvPicPr>
        <p:blipFill>
          <a:blip r:embed="rId1"/>
          <a:stretch/>
        </p:blipFill>
        <p:spPr>
          <a:xfrm>
            <a:off x="743040" y="1371600"/>
            <a:ext cx="3344760" cy="47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5" name="PlaceHolder 1"/>
          <p:cNvSpPr>
            <a:spLocks noGrp="1"/>
          </p:cNvSpPr>
          <p:nvPr>
            <p:ph type="title"/>
          </p:nvPr>
        </p:nvSpPr>
        <p:spPr>
          <a:xfrm>
            <a:off x="490320" y="495000"/>
            <a:ext cx="103726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64796"/>
                </a:solidFill>
                <a:latin typeface="Arial"/>
                <a:ea typeface="Arial"/>
              </a:rPr>
              <a:t>Особенности проведения конференции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46" name=""/>
          <p:cNvSpPr txBox="1"/>
          <p:nvPr/>
        </p:nvSpPr>
        <p:spPr>
          <a:xfrm>
            <a:off x="4843440" y="1257120"/>
            <a:ext cx="7229520" cy="49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19240" indent="-219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еждународные партнеры из стран: Франция, Казахстан, Беларусь, Киргизстан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оводится при поддержке и участии российских общественных и научных организаций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учного совета по проблемам воспитания подрастающего поколения при Отделении философии образования и теоретической педагогики Российской академии образования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бщероссийская общественная организация «Национальная родительская ассоциация социальной поддержки семьи и защиты семейных ценностей»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егиональное отделение «Движение первых»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есурсный центр «Навигаторы детства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47" name="Рисунок 4" descr=""/>
          <p:cNvPicPr/>
          <p:nvPr/>
        </p:nvPicPr>
        <p:blipFill>
          <a:blip r:embed="rId1"/>
          <a:srcRect l="9717" t="0" r="4946" b="0"/>
          <a:stretch/>
        </p:blipFill>
        <p:spPr>
          <a:xfrm>
            <a:off x="243000" y="1728720"/>
            <a:ext cx="4600440" cy="37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PlaceHolder 1"/>
          <p:cNvSpPr>
            <a:spLocks noGrp="1"/>
          </p:cNvSpPr>
          <p:nvPr>
            <p:ph type="title"/>
          </p:nvPr>
        </p:nvSpPr>
        <p:spPr>
          <a:xfrm>
            <a:off x="844200" y="255240"/>
            <a:ext cx="9766440" cy="59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64796"/>
                </a:solidFill>
                <a:latin typeface="Arial"/>
                <a:ea typeface="Arial"/>
              </a:rPr>
              <a:t>Актуальность тематики Конференции определяется нормативно-правовой базой реализации проектов по воспитанию и дополнительному образованию</a:t>
            </a: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49" name="Скругленный прямоугольник 7"/>
          <p:cNvSpPr/>
          <p:nvPr/>
        </p:nvSpPr>
        <p:spPr>
          <a:xfrm>
            <a:off x="179280" y="1077840"/>
            <a:ext cx="2371680" cy="1428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3849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Georgia"/>
              </a:rPr>
              <a:t>УКАЗ ПРЕЗИДЕНТА Российской Федерации 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2060"/>
                </a:solidFill>
                <a:latin typeface="Georgia"/>
              </a:rPr>
              <a:t>от 7 мая 2024 г. № 309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2060"/>
                </a:solidFill>
                <a:latin typeface="Georgia"/>
              </a:rPr>
              <a:t>«О национальных целях развития Российской Федерации на период до 2030 года и на перспективу до 2036 года»</a:t>
            </a:r>
            <a:endParaRPr b="0" lang="en-US" sz="11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50" name="Скругленный прямоугольник 8"/>
          <p:cNvSpPr/>
          <p:nvPr/>
        </p:nvSpPr>
        <p:spPr>
          <a:xfrm>
            <a:off x="179280" y="2593800"/>
            <a:ext cx="2371680" cy="1430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Georgia"/>
              </a:rPr>
              <a:t>УКАЗ ПРЕЗИДЕНТА Российской Федерации 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2060"/>
                </a:solidFill>
                <a:latin typeface="Georgia"/>
              </a:rPr>
              <a:t>от 9 ноября 2022 г. № 809 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2060"/>
                </a:solidFill>
                <a:latin typeface="Georgia"/>
              </a:rPr>
              <a:t>«Об утверждении основ государственной политики </a:t>
            </a:r>
            <a:endParaRPr b="0" lang="en-US" sz="11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2060"/>
                </a:solidFill>
                <a:latin typeface="Georgia"/>
              </a:rPr>
              <a:t>в укреплении традиционных российских духовно-нравственных ценностей» </a:t>
            </a:r>
            <a:endParaRPr b="0" lang="en-US" sz="11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51" name="Скругленный прямоугольник 9"/>
          <p:cNvSpPr/>
          <p:nvPr/>
        </p:nvSpPr>
        <p:spPr>
          <a:xfrm>
            <a:off x="4944960" y="1057320"/>
            <a:ext cx="1876680" cy="1428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Georgia"/>
                <a:ea typeface="Times New Roman"/>
              </a:rPr>
              <a:t>Концепция развития 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Georgia"/>
                <a:ea typeface="Times New Roman"/>
              </a:rPr>
              <a:t>дополнительного образования 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Georgia"/>
                <a:ea typeface="Times New Roman"/>
              </a:rPr>
              <a:t>детей </a:t>
            </a:r>
            <a:r>
              <a:rPr b="0" lang="ru-RU" sz="1200" spc="-1" strike="noStrike">
                <a:solidFill>
                  <a:srgbClr val="002060"/>
                </a:solidFill>
                <a:latin typeface="Georgia"/>
                <a:ea typeface="Times New Roman"/>
              </a:rPr>
              <a:t>до 2030 года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52" name="Скругленный прямоугольник 10"/>
          <p:cNvSpPr/>
          <p:nvPr/>
        </p:nvSpPr>
        <p:spPr>
          <a:xfrm>
            <a:off x="9328320" y="1057320"/>
            <a:ext cx="2503440" cy="1428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Georgia"/>
              </a:rPr>
              <a:t>УКАЗ ПРЕЗИДЕНТА РОССИЙСКОЙ ФЕДЕРАЦИИ от22 ноября 2022 г. № 875 </a:t>
            </a:r>
            <a:r>
              <a:rPr b="0" lang="ru-RU" sz="1100" spc="-1" strike="noStrike">
                <a:solidFill>
                  <a:srgbClr val="002060"/>
                </a:solidFill>
                <a:latin typeface="Georgia"/>
              </a:rPr>
              <a:t>«О ПРОВЕДЕНИИ В РОССИЙСКОЙ ФЕДЕРАЦИИ ГОДА СЕМЬИ» </a:t>
            </a:r>
            <a:endParaRPr b="0" lang="en-US" sz="11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53" name="Скругленный прямоугольник 11"/>
          <p:cNvSpPr/>
          <p:nvPr/>
        </p:nvSpPr>
        <p:spPr>
          <a:xfrm>
            <a:off x="7034040" y="1057320"/>
            <a:ext cx="2081520" cy="1428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Федеральные проекты «Патриотическое воспитание граждан Российской Федерации»,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Успех каждого ребенка»                                   национального проекта «Образование»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54" name="Прямоугольник: скругленные углы 9"/>
          <p:cNvSpPr/>
          <p:nvPr/>
        </p:nvSpPr>
        <p:spPr>
          <a:xfrm>
            <a:off x="179280" y="4111560"/>
            <a:ext cx="2371680" cy="1344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Georgia"/>
                <a:ea typeface="Times New Roman"/>
              </a:rPr>
              <a:t>УКАЗ ПРЕЗИДЕНТА </a:t>
            </a:r>
            <a:r>
              <a:rPr b="1" lang="ru-RU" sz="1200" spc="-1" strike="noStrike">
                <a:solidFill>
                  <a:srgbClr val="002060"/>
                </a:solidFill>
                <a:latin typeface="Georgia"/>
              </a:rPr>
              <a:t>Российской Федерации 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2060"/>
                </a:solidFill>
                <a:latin typeface="Georgia"/>
                <a:ea typeface="Times New Roman"/>
              </a:rPr>
              <a:t>от 2 июля 2021 г. № 400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2060"/>
                </a:solidFill>
                <a:latin typeface="Georgia"/>
                <a:ea typeface="Times New Roman"/>
              </a:rPr>
              <a:t> </a:t>
            </a:r>
            <a:r>
              <a:rPr b="0" lang="ru-RU" sz="1000" spc="-1" strike="noStrike">
                <a:solidFill>
                  <a:srgbClr val="002060"/>
                </a:solidFill>
                <a:latin typeface="Georgia"/>
                <a:ea typeface="Times New Roman"/>
              </a:rPr>
              <a:t>«</a:t>
            </a:r>
            <a:r>
              <a:rPr b="0" lang="ru-RU" sz="1100" spc="-1" strike="noStrike">
                <a:solidFill>
                  <a:srgbClr val="002060"/>
                </a:solidFill>
                <a:latin typeface="Georgia"/>
                <a:ea typeface="Times New Roman"/>
              </a:rPr>
              <a:t>О стратегии национальной безопасности Российской Федерации</a:t>
            </a:r>
            <a:r>
              <a:rPr b="0" lang="ru-RU" sz="1000" spc="-1" strike="noStrike">
                <a:solidFill>
                  <a:srgbClr val="002060"/>
                </a:solidFill>
                <a:latin typeface="Georgia"/>
                <a:ea typeface="Times New Roman"/>
              </a:rPr>
              <a:t>»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55" name="Скругленный прямоугольник 15"/>
          <p:cNvSpPr/>
          <p:nvPr/>
        </p:nvSpPr>
        <p:spPr>
          <a:xfrm>
            <a:off x="179280" y="5543640"/>
            <a:ext cx="2371680" cy="1039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ФЕДЕРАЛЬНЫЙ ЗАКОН 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т 14 июля 2022 г.  № 261- ФЗ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Georgia"/>
                <a:ea typeface="Times New Roman"/>
              </a:rPr>
              <a:t> </a:t>
            </a:r>
            <a:r>
              <a:rPr b="0" lang="ru-RU" sz="1000" spc="-1" strike="noStrike">
                <a:solidFill>
                  <a:srgbClr val="002060"/>
                </a:solidFill>
                <a:latin typeface="Georgia"/>
                <a:ea typeface="Times New Roman"/>
              </a:rPr>
              <a:t>«О российском движении детей и молодежи</a:t>
            </a:r>
            <a:r>
              <a:rPr b="0" lang="ru-RU" sz="1000" spc="-1" strike="noStrike">
                <a:solidFill>
                  <a:srgbClr val="002060"/>
                </a:solidFill>
                <a:latin typeface="Georgia"/>
              </a:rPr>
              <a:t>»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56" name="Скругленный прямоугольник 16"/>
          <p:cNvSpPr/>
          <p:nvPr/>
        </p:nvSpPr>
        <p:spPr>
          <a:xfrm>
            <a:off x="2739960" y="1081080"/>
            <a:ext cx="2016360" cy="1432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Georgia"/>
              </a:rPr>
              <a:t>Стратегии развития воспитания в Российской Федерации 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Georgia"/>
              </a:rPr>
              <a:t>на период до 2025 года»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57" name="Прямоугольник 19"/>
          <p:cNvSpPr/>
          <p:nvPr/>
        </p:nvSpPr>
        <p:spPr>
          <a:xfrm>
            <a:off x="2739960" y="2662200"/>
            <a:ext cx="9245520" cy="3673080"/>
          </a:xfrm>
          <a:prstGeom prst="rect">
            <a:avLst/>
          </a:prstGeom>
          <a:noFill/>
          <a:ln w="9360">
            <a:solidFill>
              <a:srgbClr val="3849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ормативные документы регионального уровня: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2060"/>
                </a:solidFill>
                <a:latin typeface="Times New Roman"/>
                <a:ea typeface="Calibri"/>
              </a:rPr>
              <a:t>План мероприятий 2022-2025 годов по реализации </a:t>
            </a:r>
            <a:r>
              <a:rPr b="1" lang="ru-RU" sz="1300" spc="-1" strike="noStrike">
                <a:solidFill>
                  <a:srgbClr val="c00000"/>
                </a:solidFill>
                <a:latin typeface="Times New Roman"/>
                <a:ea typeface="Calibri"/>
              </a:rPr>
              <a:t>Стратегии развития воспитания в Российской Федерации </a:t>
            </a:r>
            <a:r>
              <a:rPr b="0" lang="ru-RU" sz="1300" spc="-1" strike="noStrike">
                <a:solidFill>
                  <a:srgbClr val="002060"/>
                </a:solidFill>
                <a:latin typeface="Times New Roman"/>
                <a:ea typeface="Calibri"/>
              </a:rPr>
              <a:t>на период до 2025 года (Постановление Правительства Челябинской области от 22.05.2022 №415-рп).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2060"/>
                </a:solidFill>
                <a:latin typeface="Times New Roman"/>
                <a:ea typeface="Calibri"/>
              </a:rPr>
              <a:t>План мероприятий 2022/2024 годы по реализации </a:t>
            </a:r>
            <a:r>
              <a:rPr b="1" lang="ru-RU" sz="1300" spc="-1" strike="noStrike">
                <a:solidFill>
                  <a:srgbClr val="c00000"/>
                </a:solidFill>
                <a:latin typeface="Times New Roman"/>
                <a:ea typeface="Calibri"/>
              </a:rPr>
              <a:t>Концепции развития дополнительного образования </a:t>
            </a:r>
            <a:r>
              <a:rPr b="0" lang="ru-RU" sz="1300" spc="-1" strike="noStrike">
                <a:solidFill>
                  <a:srgbClr val="002060"/>
                </a:solidFill>
                <a:latin typeface="Times New Roman"/>
                <a:ea typeface="Calibri"/>
              </a:rPr>
              <a:t>на период до 2030 года (Постановление Правительства Челябинской области от 20.09.2022 г. №901-рп).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2060"/>
                </a:solidFill>
                <a:latin typeface="Times New Roman"/>
                <a:ea typeface="Calibri"/>
              </a:rPr>
              <a:t>Государственная программа Челябинской области «</a:t>
            </a:r>
            <a:r>
              <a:rPr b="1" lang="ru-RU" sz="1300" spc="-1" strike="noStrike">
                <a:solidFill>
                  <a:srgbClr val="c00000"/>
                </a:solidFill>
                <a:latin typeface="Times New Roman"/>
                <a:ea typeface="Calibri"/>
              </a:rPr>
              <a:t>Профилактика безнадзорности и правонарушений несовершеннолетних в Челябинской области</a:t>
            </a:r>
            <a:r>
              <a:rPr b="0" lang="ru-RU" sz="1300" spc="-1" strike="noStrike">
                <a:solidFill>
                  <a:srgbClr val="002060"/>
                </a:solidFill>
                <a:latin typeface="Times New Roman"/>
                <a:ea typeface="Calibri"/>
              </a:rPr>
              <a:t>» (Постановление Правительства Челябинской области от 27.01.2023 №49-П) и план её реализации на 2023 год и плановый период 2024 и 2025 годов (Приказ Министерства образования и науки Челябинской области от 15.02.2023 №01/361).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buClr>
                <a:srgbClr val="c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алендарь мероприятий для педагогов дополнительного образования и специалистов системы воспитания </a:t>
            </a:r>
            <a:r>
              <a:rPr b="0" lang="ru-RU" sz="13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Челябинской области на 2024 год (Приказ Министерства образования и науки Челябинской области от 29.11.2023 г. № 03/2842).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buClr>
                <a:srgbClr val="c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c00000"/>
                </a:solidFill>
                <a:latin typeface="Times New Roman"/>
                <a:ea typeface="Calibri"/>
              </a:rPr>
              <a:t>План основных мероприятий по проведению в Челябинской области Года семьи</a:t>
            </a:r>
            <a:r>
              <a:rPr b="0" lang="ru-RU" sz="1300" spc="-1" strike="noStrike">
                <a:solidFill>
                  <a:srgbClr val="c00000"/>
                </a:solidFill>
                <a:latin typeface="Times New Roman"/>
                <a:ea typeface="Calibri"/>
              </a:rPr>
              <a:t> </a:t>
            </a:r>
            <a:r>
              <a:rPr b="0" lang="ru-RU" sz="13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(Утвержден Губернатором Челябинской области от 30.01.2024 г.).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buClr>
                <a:srgbClr val="c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етодика оценки эффективности системы организации воспитания обучающихся Челябинской области </a:t>
            </a:r>
            <a:r>
              <a:rPr b="0" lang="ru-RU" sz="13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(Приказ Министерства образования и науки Челябинской области от 14.06.2022 г. № 01/1260).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buClr>
                <a:srgbClr val="c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омплексная карта научно-методического сопровождения </a:t>
            </a:r>
            <a:r>
              <a:rPr b="0" lang="ru-RU" sz="13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униципальных образовательных систем, образовательных организаций, педагогических работников системы образования Челябинской области по развитию системы воспитания и дополнительного образования (Приказ Министерства образования и науки Челябинской области от18.04.2024 г. № 01/1003).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8" name="Объект 3" descr=""/>
          <p:cNvPicPr/>
          <p:nvPr/>
        </p:nvPicPr>
        <p:blipFill>
          <a:blip r:embed="rId1"/>
          <a:stretch/>
        </p:blipFill>
        <p:spPr>
          <a:xfrm>
            <a:off x="176040" y="957240"/>
            <a:ext cx="11644560" cy="5619600"/>
          </a:xfrm>
          <a:prstGeom prst="rect">
            <a:avLst/>
          </a:prstGeom>
          <a:ln w="0">
            <a:noFill/>
          </a:ln>
        </p:spPr>
      </p:pic>
      <p:sp>
        <p:nvSpPr>
          <p:cNvPr id="1559" name="PlaceHolder 1"/>
          <p:cNvSpPr>
            <a:spLocks noGrp="1"/>
          </p:cNvSpPr>
          <p:nvPr>
            <p:ph type="title"/>
          </p:nvPr>
        </p:nvSpPr>
        <p:spPr>
          <a:xfrm>
            <a:off x="3463560" y="95400"/>
            <a:ext cx="5132520" cy="906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64796"/>
                </a:solidFill>
                <a:latin typeface="Arial"/>
                <a:ea typeface="Arial"/>
              </a:rPr>
              <a:t>Цель и задачи Конференции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PlaceHolder 1"/>
          <p:cNvSpPr>
            <a:spLocks noGrp="1"/>
          </p:cNvSpPr>
          <p:nvPr>
            <p:ph type="title"/>
          </p:nvPr>
        </p:nvSpPr>
        <p:spPr>
          <a:xfrm>
            <a:off x="490320" y="466560"/>
            <a:ext cx="1037268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64796"/>
                </a:solidFill>
                <a:latin typeface="Arial"/>
                <a:ea typeface="Arial"/>
              </a:rPr>
              <a:t>Основные направления Конференции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61" name=""/>
          <p:cNvSpPr txBox="1"/>
          <p:nvPr/>
        </p:nvSpPr>
        <p:spPr>
          <a:xfrm>
            <a:off x="490320" y="1442880"/>
            <a:ext cx="103726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оспитание человека в контексте современных междисциплинарных исследований в образовании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оспитания гармонично развитой, патриотичной и социально ответственной личности на основе традиционных духовно-нравственных и культурно-исторических ценностей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оспитание мировоззренческого самоопределения человека в процессе самореализации в России и мире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оспитание российской гражданской идентичности детей и молодежи в условиях межпоколенческого взаимодействия и межкультурной коммуникации (в том числе детей и молодежи с миграционной историей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временный ребенок в воспитательных пространствах семьи, образовательной организации, детских общественных движений и общественных организаций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2" name="PlaceHolder 1"/>
          <p:cNvSpPr>
            <a:spLocks noGrp="1"/>
          </p:cNvSpPr>
          <p:nvPr>
            <p:ph type="title"/>
          </p:nvPr>
        </p:nvSpPr>
        <p:spPr>
          <a:xfrm>
            <a:off x="490320" y="795240"/>
            <a:ext cx="1037268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64796"/>
                </a:solidFill>
                <a:latin typeface="Arial"/>
                <a:ea typeface="Arial"/>
              </a:rPr>
              <a:t>Основные направления Конференции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63" name=""/>
          <p:cNvSpPr txBox="1"/>
          <p:nvPr/>
        </p:nvSpPr>
        <p:spPr>
          <a:xfrm>
            <a:off x="490320" y="1871280"/>
            <a:ext cx="10372680" cy="46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добровольческая и общественная деятельность детей и молодежи в реализации социально значимых проектов и программ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воспитание особенного ребенка в пространстве деятельности различных субъектов воспитания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воспитание и самовоспитание одаренных и талантливых детей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воспитание человека в условиях цифровой трансформации;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воспитания человека средствами кинообразования и медиапедагогики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развитие профессионализма педагогов в воспитательной деятельности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PlaceHolder 1"/>
          <p:cNvSpPr>
            <a:spLocks noGrp="1"/>
          </p:cNvSpPr>
          <p:nvPr>
            <p:ph type="title"/>
          </p:nvPr>
        </p:nvSpPr>
        <p:spPr>
          <a:xfrm>
            <a:off x="301320" y="216000"/>
            <a:ext cx="10371240" cy="79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64796"/>
                </a:solidFill>
                <a:latin typeface="Arial"/>
                <a:ea typeface="Arial"/>
              </a:rPr>
              <a:t>Организация конференции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565" name="Объект 3" descr=""/>
          <p:cNvPicPr/>
          <p:nvPr/>
        </p:nvPicPr>
        <p:blipFill>
          <a:blip r:embed="rId1"/>
          <a:stretch/>
        </p:blipFill>
        <p:spPr>
          <a:xfrm>
            <a:off x="255600" y="1011240"/>
            <a:ext cx="11369520" cy="528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11-08T05:17:39Z</dcterms:created>
  <dc:creator>Старцун Мария Сергеевна</dc:creator>
  <dc:description/>
  <dc:language>en-US</dc:language>
  <cp:lastModifiedBy>Борченко Ирина Дмитриевна</cp:lastModifiedBy>
  <dcterms:modified xsi:type="dcterms:W3CDTF">2024-05-28T08:10:06Z</dcterms:modified>
  <cp:revision>79</cp:revision>
  <dc:subject/>
  <dc:title>Презентация PowerPoint</dc:title>
</cp:coreProperties>
</file>