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1F4-1BD6-4FE9-BB0E-42DAEF1C74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64A-B9A2-45A6-A939-BA83E7226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A69-C3FF-43DC-B14B-2E62F467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80E-454C-4784-A158-A8239C4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4CE9-44B1-45C6-9D6D-65DC4CC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02CA-B885-4E27-B34C-6BA2722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C172D-05AB-4BC5-B820-0E249868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0F2F5-EE0D-4D4E-998D-995FD1A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F0FC-1D2B-4F16-AD65-559A893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ECD69-EFE9-472F-964E-2A2DC97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5736-E2A5-4808-82EF-AE0A7BDE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3171-DDA4-4552-AEA5-D6297E10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2E35-2969-4283-BA7D-5DEAD07D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C4BA-6356-4207-A1A2-651EE705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7FD-CC6F-4146-8BDA-FF0FC0BF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667D-9A9F-4959-8305-EBE5E28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4F71E-D570-46B8-86E0-1D6F531F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7CCF1-45DD-40EC-85BF-795DD24B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A0C20-1E75-48E1-81DB-810BE3CE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1B9F-89E1-4400-B0B6-335EA225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0C696-F808-418C-8418-FC24C28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F6B8D-6E43-42ED-B7CB-55F3471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9523-3AC4-41F2-840A-279C9257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DEC5B-AEAE-4FF6-BF39-7B3FCA3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AE30-760F-4F5F-ADA1-17D08A9B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4E2-52A0-4EFD-87F2-E2BC444F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0D49-EF82-4FAA-B5EE-70041A0B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848B5-3611-4522-B6C3-ADAB1AFC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A6019-9C25-47F1-91AF-986EB000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C294-40F6-4473-9179-71EF9F4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D01A9-42F7-43C1-9FED-C2BA36CC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35BAA-8D37-442E-8E69-2FD73534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AA8E5-4E6A-4A3C-8465-221D43A4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C5AD5-92A8-47F9-85AB-D523C4F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069DE-054F-47BF-8F01-BC5E9E7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2104-54DF-4EED-9BFE-B4B901E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04F2-A61F-4EDB-9428-5DB9137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368F4-58B2-4518-A8E1-485375F1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67200-A442-4315-92A9-404B7C98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1B6B-8C5C-4996-8443-2CEF9B42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9B875-3E76-4A15-A518-C1C98ED5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25C7F-4291-489C-9878-9B621E3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F88AE-063D-4278-BF47-36BE1D1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8FC2D-1EF6-4C54-BD90-9621DBE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68390-3AA9-47D5-B939-AE2C80CD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BC369-1B53-4F06-A306-E87F8B6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C2FC1-D776-4517-8C8E-C681474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5ADE1-B012-4BFB-AAE1-37448E5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6EC70-2EDB-414A-97BE-790A2206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A9E9-5D93-497B-91A5-9F7328A2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AAE9C-97E0-48DE-BC30-E730A8DC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2F2D7-8D8F-4CB0-808C-F90CA32E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E8069-AA3B-4B53-B1DD-EBE8273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4EF2D-A65A-4AF0-A6BA-E85F81B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82121-7717-46F3-B61B-CE0A0967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D50E-EB8D-42BE-97C9-3E077E5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4A80F-E63B-4490-8BFE-9E46EF80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ABC19-DC93-4484-8D9B-AE469CE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078CF-65FA-4DBF-9D92-ADE146A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BC446-ED2E-4314-B98A-0CB0FAE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35AB4-0EE2-43A0-9417-A92357E6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AE3E3-D35E-4684-9890-90B548BF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B480F-D6D8-4359-A116-0A1EDEAA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1A4F2-977B-4AB9-8652-486BC21B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2F57E-A873-49C2-A72A-A96C056C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BA088-BF3B-497C-8379-61E5DBAE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6BE86-DBD4-4F4A-BD55-971AB877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2D379-0CE8-47C1-82BC-15BAECB6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BA740-2D96-4168-B464-14E66F9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4FD8F-6967-4203-882F-2DDB4D9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F65CD-B44A-4244-ADAC-C7E266C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0E68F-9100-40D4-B34B-A65B208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FB361-1372-4148-A53D-E7D07C1F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765F7-CEFC-41A6-A389-89632138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19FEB-EDE3-4111-9CE3-6BB3F2AE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18C0B-8ED9-4FE1-9174-5080E18B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D504F-4304-4B59-B0E6-F4C03475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01C8E-54B1-40E1-AF18-4C5F6BEE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5EF93-1D8C-4EAA-8D23-CF643388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D717D-3630-4E0A-8233-1419CB85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8063E-9A09-4890-9099-9BDEB6C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7938C-24B9-4EAC-A400-9E6E721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80941-D43C-4C8B-80CF-13AC9D5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5F9BD-6F13-4D10-8208-E8B38DE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0A5DB-9CF3-4B30-A31C-ABF5D2CA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1C588-C2D8-4921-AA35-5131988E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57A99-9BA6-45B7-957A-C98A085D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60BF9-26CB-4387-898B-6BCBE83C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005C4-EF00-4D58-BC20-3FB83E1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A3ADE-C640-49FE-8E3E-A4747207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8F2C7-68A0-485C-AD87-65E3618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6EA5A-4741-4634-B026-745B46C6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237B7-6CDA-4B97-9089-6FBB94D3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2114E-305C-44C1-B8C5-E0CA290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9E1ED-E371-44BE-9812-93C7517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E31B3-752B-4C3C-8C42-91DE25F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D5906-2B24-4281-9390-C2D3042B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AF73D-8943-48FB-9EB0-65B3102F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05A1D-81EA-4C91-B6E4-FF67466A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DBE6D-F917-4AFE-88E4-74896A48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E7D97-2253-46C6-B044-60C23C49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B78BC-FD6C-404F-9ADF-3FC10F07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F5400-B82F-4361-9DCF-10B68118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9ECAC-9313-4B89-B8F7-EE23EA3A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E3033-B16B-4BEB-8D5B-6F2A6D7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6CAD1-13F9-494E-B4AA-A87C3B4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ABA-C70D-4868-B39A-377A9F6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7D4FC-D3EA-48B5-9101-70DF04C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56A4E-EA79-41A3-B345-F289085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3FDD0-287B-4802-BE40-5CF418A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97FC0-847E-4CB6-93E7-5191A40C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A08E2-7DFE-467B-B68E-E93E722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9EAE7-1E43-4DCC-B733-3B5E555E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67FE2-63D1-4EB2-8E0F-F156D512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8FD31-29C7-4577-A54B-DDBEA96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9D33B-A2C1-4247-BAA9-14BC80F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22CEF-074C-4533-8913-884CFE66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5B89F-AA6F-4EED-82E5-9658D55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F41EE-3979-4C8D-875E-10BDCC3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CFBEE-75B2-4C26-8020-1C3DCBF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7BA78-9DD9-4668-9F41-71ED5CB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B3402-3A7D-462A-93D1-2DCE5E0D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7E0DE-EDA4-4E5C-B3E8-3C502A29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4A7FE-C490-4E56-A2C3-E8E19779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6CECF-5EA1-42F8-8D6C-315A157C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E680B-18F4-43A1-AE10-AC390B9A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CFC49-E1B9-4B3E-8FCF-603C105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7B1FE-4C80-48DE-B069-7590749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98FCC-42A6-4FFB-BF51-381554C3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24EBD-9465-40D4-9298-636E8BB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E782D-FE71-429A-B8AC-BB3E26C4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76A87-0D89-4A88-BD26-4E9B3EC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A6646-7E7F-442C-B03D-04F77F7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99AAE-66CB-489D-AD1E-F19E0D2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9BB80-A0B0-4CE3-9E38-9B50200B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8BBE8-7ED8-4BF6-AC1F-558C9F62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62CA2-045F-405D-A670-17D1D427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89D75-4F1A-40AB-8C41-FEB64C25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C489F-678D-46BF-9020-7A605367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ED5AF-7F60-4849-8E28-244B21A1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DA60C-6D1D-41DC-AFF4-D6E64DF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4A158-8E60-43B3-B890-3351FE2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94F18-2518-43F3-82D9-67F7DCB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81AE4-80A4-41B9-9E39-A8CA797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1BA89-A1C4-4844-95BD-5D3FCE3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4B595-6726-46BC-A9C2-7B03D2F4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C523A-3C93-4B62-843A-9926BF16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3AE92-11AA-48CB-853D-8BA18E1A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48CF1-37AF-4556-BBBB-850224D6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843CC-257D-491E-81D9-BBF6198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67CA9-2DAD-48CC-A1FA-E0C7D2DB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93E69-3BFD-4C30-85AE-F32A263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C810C-432F-411F-8623-B9E31F74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E93B1-A172-4090-91D0-AAAB4AEC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2D7BC-DCE5-4BD8-ACF4-A66747B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54F45-4DCF-40DA-AE26-7C8B406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415AD-C0A9-443F-A0BA-F1E82A2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0DA05-8F1E-4D6F-96FD-D151512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F5A2D-D749-433E-BDC7-11F1005A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6AD83-F8F1-4A59-8DD1-2333C284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5DD32-5B66-4536-96B4-807F7070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8161A-2A3E-4A2B-A194-B1DC2C80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E02CC-06A1-45E2-9B63-72B4037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D45D2-67D5-4DC6-9CB5-AB278A8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598E4-6A45-4347-AB50-32B49BB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14F40-31C9-494C-BE1A-B66FD530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755DE-51CA-4D9C-9A5C-27FBF00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CE971-96AD-4FAD-AC7E-75ECDD5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40EDF-2720-465D-B92E-81A9713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AF4F7-D631-43B9-9E99-CE43C4FF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17FA0-858F-409E-869F-72CAE5FC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552C8-D4DA-47A0-9D6C-CCDCDD65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6E293-651F-4AE3-A0C4-7670DDEF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E7D31-1A00-4830-924E-66F695B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B9C16-1DA5-4F4D-8112-9FF29B58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93BEF-CDF8-4325-B642-5851D8CE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E63CE-1BF1-45E1-839A-D70043C0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9BF4B-6877-454B-BA87-A2A3B903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C7964-0AEC-4342-93DA-0D42479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E74B0-2AA2-4DD1-B870-98834A7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AC8F4-F01F-49DE-9F99-F2A4FE8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86B1B-56DD-4984-A258-D3D391D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19DEE-D52B-432F-B628-26CC5409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F3C93-A5FE-4E87-B800-7C8EB3B8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DFC1C-D12B-4B25-B913-6639ED51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269C2E-41AB-47DA-9CE8-7FE0BE1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24B3BA-C53F-493B-8BD0-5FF2057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B2E53-E594-456A-87E6-71D9EE08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C71F4B-94E1-465B-811B-965CD57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07A5D-F343-42D1-89F1-BA75D49E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2BF86E-3BA9-4ABC-8F0E-1EC53C2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894F0A-A8DE-4095-B25A-8F9737F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E9F2A7-24AC-412A-9691-D8B943E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3EF17-3B50-410A-B414-4C114930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0ACCBC-1983-4D91-97D0-B7CE51D0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5C545-AD22-4DB4-83CB-B1274494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B62D3-0A8C-4454-81A8-3721892D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1AD9F-DEBB-4EF6-B3DC-0737776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727C89-DF85-4E15-8C95-0694AB9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51F6F4-A780-4D10-A070-BA8A7DC3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FD71B-901A-4EFE-B0E9-FD4ACAE5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B23797-32DD-4AAC-94E1-1E21D5BA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F0C057-D2AF-433A-9FDC-656443A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BF0F2E-B676-441D-8731-A3C2C6F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48BDC-3341-4111-9EA1-D1697A7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AF2B6-EB9A-4ADC-90CD-52018544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4C4A9A-5C07-4C71-A08F-BA03597E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795-6DE5-41A7-B4A8-0D66698A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9F59C-2A58-4352-9598-4DCAC036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2FB7-7C0E-4A0F-8D0A-EC2568E4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3FDD-9EAE-49ED-91C1-2E207D78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8775-0D4B-4287-B903-B7543CF2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C3C-E106-4900-85F7-9459A0B4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BA92-F105-4691-9F30-ADAAE30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939-ED10-4546-84C6-898EB9D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3CAA-9C08-47C8-AFC0-C4522FD9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885E-0928-4999-8FEE-7A71D51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9C4F-1549-4BCC-8ED9-A06D98B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CDBA-A929-4AF3-AA52-F8D605B1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F62-9E22-451E-A513-E5D60F89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5D3D-490E-4BAE-839C-E232E78F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862C-F166-43F0-BDC2-2C8F8E0A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A2BF6-0234-40E3-B6E3-88233919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C01-3C4A-4F3A-A036-0085A33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5596-E110-4278-B38E-5B3D8C82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BC4E-E8FE-4DC6-BF1B-FFD8857D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5219-E86C-424A-91FC-09A279E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CC64-FB10-466D-A8DC-5A1812CB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2F57-550A-4871-9BC0-611835E0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0093-257C-4F9D-AB9D-5874E73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5B7E-FC48-4D5A-9C01-1A4AEDC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7146-5357-4CAB-A273-2740922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A5DB-78A8-48F5-A476-94CB2491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012C-E501-40BF-A2ED-B252922B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362-C6C9-4F8A-B820-F073B3A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C62E-B24C-46B7-B0E9-9F30C890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8104-E072-49E4-824C-036D4871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4E82-E04F-407F-B80D-C7AF9BF5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E695-EEE7-4C80-964E-B6FD6E6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4E46-8330-4391-A539-D85CB56A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C87E-5836-40C9-9CC4-2F730DF5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E418-8D94-43A2-9A0E-3A813AD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795F-7F1D-409E-A2CB-FCE8F56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5BF9-5E5D-43D9-8890-05B174EE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F53B-EF21-47DE-8C45-DA21285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5FD-63A4-4EC1-AB49-5958BCB2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81A0-E4F3-40CF-B86A-D8842A3B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4EB8-C214-4EF3-8276-0800F2FB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90ED-7028-4716-B2EB-7511555B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0165-15A2-4F04-A55C-128E339B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2050-6707-4E45-90FB-4BA4D1F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308F-AFBA-4823-8D97-0D5DBF4D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3A94D-7748-4320-BDBA-67EDF663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F93C-462C-4465-AC9F-AA779E8B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0846-C67C-4B94-AD0B-C9DA55B1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8E88-7C8C-4B43-90F4-C5BA97A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95F-F9FC-407E-A1FC-BD72DC4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3C31-D6C1-4126-A0FC-2E557073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9726-8AAB-4E69-8315-625C54F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E670-F920-403D-B895-5F5264D5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9879-FAB6-41C7-A0BF-BC2DAF6D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5012-6C3D-416F-A4A7-5060774E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6FA96-1E94-4C98-AFFB-658F59AA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1366-FCCB-4BAF-90FB-68B886B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0AF3-DFEA-45CA-8741-37817CD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81E7-9AB8-4A01-A8E5-832534D2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6BB3-D658-407C-8269-1175B3D2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0E8-D9B5-41E6-B4A1-4377B9B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F5F82-E537-4B7F-A95C-C4C676E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F5C4F-28AF-486F-BA49-BD12EDE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2F65-AD22-4E41-8E2F-85204C86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8BA0-CD26-451A-B4DD-8C50619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2072-33E2-4921-83CF-049E8DD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0740B-F224-4D14-AEF4-91C7D794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3972-23E6-4CFD-B9A4-F197FEDE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FA78-EB0D-4DBE-B90B-356A871F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C9C9-63F1-44F8-A120-A43730E9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86FC9-F976-4158-86BF-AA0E18A0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FBC-3CC4-4420-A616-7DF7798638F1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" name="Рисунок 10" descr=""/>
          <p:cNvPicPr/>
          <p:nvPr/>
        </p:nvPicPr>
        <p:blipFill>
          <a:blip r:embed="rId2"/>
          <a:stretch/>
        </p:blipFill>
        <p:spPr>
          <a:xfrm>
            <a:off x="301680" y="1122480"/>
            <a:ext cx="4527360" cy="54259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1" descr=""/>
          <p:cNvPicPr/>
          <p:nvPr/>
        </p:nvPicPr>
        <p:blipFill>
          <a:blip r:embed="rId3"/>
          <a:stretch/>
        </p:blipFill>
        <p:spPr>
          <a:xfrm>
            <a:off x="2455920" y="1806480"/>
            <a:ext cx="1084320" cy="1505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"/>
          <p:cNvPicPr/>
          <p:nvPr/>
        </p:nvPicPr>
        <p:blipFill>
          <a:blip r:embed="rId4"/>
          <a:stretch/>
        </p:blipFill>
        <p:spPr>
          <a:xfrm>
            <a:off x="8972640" y="157320"/>
            <a:ext cx="26496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43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3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7BC7-F2CB-423C-987C-DDDFF1B016B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48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8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374-56C7-4449-9917-0EBC38B7C0D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52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2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64F1-17BE-406A-AF65-E65D9999AC5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57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7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995D-0832-461A-9C56-53E5AE0C406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61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61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F78-130B-4561-9BE2-B9EBBEC0277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64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665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6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7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8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9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0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1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72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673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674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675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6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7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8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9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80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81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82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83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87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688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9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90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691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3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4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695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699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09B3-C5D2-4E74-A29B-734D9F015A4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45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746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7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8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9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0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1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2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753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754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755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756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7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8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9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0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1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2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3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764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68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769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0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771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772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4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5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776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780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985C-E348-4322-8E00-F46680DB302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24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825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6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7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8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9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0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1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832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833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834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835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6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7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8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9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40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41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42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843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47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848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9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850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851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3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4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855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859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C0CD-BA21-4CFF-81BD-3FA0EE78025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03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904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5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6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7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8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9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0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11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912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913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914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5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6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7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8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9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20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21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922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26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927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8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29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930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2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3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934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938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C068-8691-4F01-BD0C-71F50504DEF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82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983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4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5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6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7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8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9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90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991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992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993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4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5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6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7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8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9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00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1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05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006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7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8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009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1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2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013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017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018" name="PlaceHolder 1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EA0-ED6C-43FA-ADC0-C88FFC5FC85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50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2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1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062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3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4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5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6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7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8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69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070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071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072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3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4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5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6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7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8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9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80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84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085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6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87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088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0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1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092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096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262-F939-4DBE-B9CD-D46F265F72B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9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40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141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2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3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4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5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6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7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48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149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150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151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2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3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4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5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6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7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8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59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0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1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2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63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164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5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66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167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9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70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171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175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329-FCDF-4783-94E7-D680601B529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6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7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8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19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220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1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2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3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4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5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6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227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228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229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230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1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2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3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4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5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6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7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238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9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0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42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243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4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245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246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8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9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250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254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4646-78D4-49FA-BD22-BDB7BEC64EA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7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98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299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0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1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2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3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4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5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306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307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308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309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0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1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2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3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4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5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6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317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8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9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0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21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322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3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324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325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7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8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329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333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914-9648-461B-9863-BD7B477AAFE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4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6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77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378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79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0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1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2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3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4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385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386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387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388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89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0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1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2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3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4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5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396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7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8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00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401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2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403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404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6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7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408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412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FC4-792C-4A17-8617-A79E1686571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4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5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56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457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58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59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0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1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2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3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464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465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466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467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68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69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0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1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2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3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4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75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6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7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8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79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480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1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482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483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4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5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6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487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491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492" name="PlaceHolder 1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2391-3077-4F43-B42E-9574E980407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94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1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02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03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04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5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6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8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9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0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1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2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6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17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8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9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20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3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24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28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16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6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452-3139-40AC-B59C-0BA339E60C0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21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354-89B4-42E1-9470-F967A76B2BE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25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5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9F7-CB4E-4F6D-9761-DDA21FE6F0C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30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0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8DE5-A9CB-48CB-A851-46882F76C74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34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4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D27-293B-4FDA-82CC-6CB1C06C3FE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39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9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934-1D05-4202-B108-1B74BFF0BED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5148000" y="5008320"/>
            <a:ext cx="675324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исляков Алексей Вячеславович, начальник управления воспитания и дополнительного образования ГБУ ДПО «ЧИРО», к.п.н., доцен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title"/>
          </p:nvPr>
        </p:nvSpPr>
        <p:spPr>
          <a:xfrm>
            <a:off x="5002200" y="1984320"/>
            <a:ext cx="7045200" cy="21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Arial"/>
              </a:rPr>
              <a:t>О сопровождении проведения выездной сессии Форума классных руководителей с участием педагогических работников Уральского федерального округа в июне 2024 год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Прямоугольник 1"/>
          <p:cNvSpPr/>
          <p:nvPr/>
        </p:nvSpPr>
        <p:spPr>
          <a:xfrm>
            <a:off x="2519280" y="138240"/>
            <a:ext cx="76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4796"/>
                </a:solidFill>
                <a:latin typeface="Calibri"/>
                <a:ea typeface="Calibri"/>
              </a:rPr>
              <a:t>Всероссийский форум классных руководител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1" name="Прямоугольник 2"/>
          <p:cNvSpPr/>
          <p:nvPr/>
        </p:nvSpPr>
        <p:spPr>
          <a:xfrm>
            <a:off x="1525680" y="2833560"/>
            <a:ext cx="1035216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ий форум классных руководителей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Москва, 9-10 октябр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2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2" name="Прямоугольник 4"/>
          <p:cNvSpPr/>
          <p:nvPr/>
        </p:nvSpPr>
        <p:spPr>
          <a:xfrm>
            <a:off x="1525680" y="4587840"/>
            <a:ext cx="1026324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ий форум классных руководителей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Москва, 3-7 октября 2023 г.) 3000 челове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3" name="Прямоугольник 3"/>
          <p:cNvSpPr/>
          <p:nvPr/>
        </p:nvSpPr>
        <p:spPr>
          <a:xfrm>
            <a:off x="768240" y="2774880"/>
            <a:ext cx="3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4796"/>
                </a:solidFill>
                <a:latin typeface="Calibri"/>
                <a:ea typeface="Calibri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4" name="Прямоугольник 9"/>
          <p:cNvSpPr/>
          <p:nvPr/>
        </p:nvSpPr>
        <p:spPr>
          <a:xfrm>
            <a:off x="658440" y="365760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4796"/>
                </a:solidFill>
                <a:latin typeface="Calibri"/>
                <a:ea typeface="Calibri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Прямоугольник 10"/>
          <p:cNvSpPr/>
          <p:nvPr/>
        </p:nvSpPr>
        <p:spPr>
          <a:xfrm>
            <a:off x="495360" y="4433760"/>
            <a:ext cx="91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4796"/>
                </a:solidFill>
                <a:latin typeface="Arial"/>
                <a:ea typeface="Arial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Прямоугольник 5"/>
          <p:cNvSpPr/>
          <p:nvPr/>
        </p:nvSpPr>
        <p:spPr>
          <a:xfrm>
            <a:off x="7787160" y="3201840"/>
            <a:ext cx="34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Montserrat"/>
              </a:rPr>
              <a:t>МЕМОРАНДУМ ФОРУМА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7" name="Прямоугольник 8"/>
          <p:cNvSpPr/>
          <p:nvPr/>
        </p:nvSpPr>
        <p:spPr>
          <a:xfrm>
            <a:off x="73080" y="1039680"/>
            <a:ext cx="34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2529"/>
                </a:solidFill>
                <a:latin typeface="Arial"/>
                <a:ea typeface="Arial"/>
              </a:rPr>
              <a:t>Повышение социального и профессионального статуса классного руководителя и престижа педагогических специальнос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8" name="Прямоугольник 12"/>
          <p:cNvSpPr/>
          <p:nvPr/>
        </p:nvSpPr>
        <p:spPr>
          <a:xfrm>
            <a:off x="3538440" y="1039680"/>
            <a:ext cx="566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Arial"/>
                <a:ea typeface="Arial"/>
              </a:rPr>
              <a:t>Создание профессионального сообщества классных руководителей страны, ориентированного на воспитание у подрастающего поколения традиционных ценностей: гуманизма, нравственности и справедливости, исторически присущих российскому народ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Прямоугольник 13"/>
          <p:cNvSpPr/>
          <p:nvPr/>
        </p:nvSpPr>
        <p:spPr>
          <a:xfrm>
            <a:off x="8970840" y="1054080"/>
            <a:ext cx="312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2529"/>
                </a:solidFill>
                <a:latin typeface="Arial"/>
                <a:ea typeface="Arial"/>
              </a:rPr>
              <a:t>Создание единой коммуникативной площадки для профессионального общения и обсуждения актуальных вопро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Прямоугольник 17"/>
          <p:cNvSpPr/>
          <p:nvPr/>
        </p:nvSpPr>
        <p:spPr>
          <a:xfrm>
            <a:off x="374760" y="5248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4796"/>
                </a:solidFill>
                <a:latin typeface="Arial"/>
                <a:ea typeface="Arial"/>
              </a:rPr>
              <a:t>IV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1" name="Прямоугольник 18"/>
          <p:cNvSpPr/>
          <p:nvPr/>
        </p:nvSpPr>
        <p:spPr>
          <a:xfrm>
            <a:off x="1525680" y="3768840"/>
            <a:ext cx="102632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ий форум классных руководителей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Москв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-2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ктября 2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3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ловек</a:t>
            </a:r>
            <a:r>
              <a:rPr b="0" lang="ru-RU" sz="2000" spc="-1" strike="noStrike">
                <a:solidFill>
                  <a:srgbClr val="264796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2" name="Прямоугольник 19"/>
          <p:cNvSpPr/>
          <p:nvPr/>
        </p:nvSpPr>
        <p:spPr>
          <a:xfrm>
            <a:off x="1525680" y="5308560"/>
            <a:ext cx="10263240" cy="9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ий форум классных руководителей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Москва, 3-5 октября 2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3" name="Рисунок 20" descr=""/>
          <p:cNvPicPr/>
          <p:nvPr/>
        </p:nvPicPr>
        <p:blipFill>
          <a:blip r:embed="rId1"/>
          <a:stretch/>
        </p:blipFill>
        <p:spPr>
          <a:xfrm>
            <a:off x="7459560" y="3946680"/>
            <a:ext cx="4568760" cy="1353960"/>
          </a:xfrm>
          <a:prstGeom prst="rect">
            <a:avLst/>
          </a:prstGeom>
          <a:ln w="0">
            <a:noFill/>
          </a:ln>
        </p:spPr>
      </p:pic>
      <p:pic>
        <p:nvPicPr>
          <p:cNvPr id="1554" name="Рисунок 9" descr=""/>
          <p:cNvPicPr/>
          <p:nvPr/>
        </p:nvPicPr>
        <p:blipFill>
          <a:blip r:embed="rId2"/>
          <a:stretch/>
        </p:blipFill>
        <p:spPr>
          <a:xfrm>
            <a:off x="1617840" y="673200"/>
            <a:ext cx="376200" cy="312480"/>
          </a:xfrm>
          <a:prstGeom prst="rect">
            <a:avLst/>
          </a:prstGeom>
          <a:ln w="0">
            <a:noFill/>
          </a:ln>
        </p:spPr>
      </p:pic>
      <p:pic>
        <p:nvPicPr>
          <p:cNvPr id="1555" name="Рисунок 9" descr=""/>
          <p:cNvPicPr/>
          <p:nvPr/>
        </p:nvPicPr>
        <p:blipFill>
          <a:blip r:embed="rId3"/>
          <a:stretch/>
        </p:blipFill>
        <p:spPr>
          <a:xfrm>
            <a:off x="6135840" y="673200"/>
            <a:ext cx="377640" cy="3124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9" descr=""/>
          <p:cNvPicPr/>
          <p:nvPr/>
        </p:nvPicPr>
        <p:blipFill>
          <a:blip r:embed="rId4"/>
          <a:stretch/>
        </p:blipFill>
        <p:spPr>
          <a:xfrm>
            <a:off x="10344240" y="657360"/>
            <a:ext cx="3762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864720" y="458280"/>
            <a:ext cx="314028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Arial"/>
              </a:rPr>
              <a:t>Нормативные </a:t>
            </a:r>
            <a:br>
              <a:rPr sz="2400"/>
            </a:b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Arial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58" name="Объект 3" descr=""/>
          <p:cNvPicPr/>
          <p:nvPr/>
        </p:nvPicPr>
        <p:blipFill>
          <a:blip r:embed="rId1"/>
          <a:stretch/>
        </p:blipFill>
        <p:spPr>
          <a:xfrm>
            <a:off x="865080" y="1554120"/>
            <a:ext cx="10918800" cy="4724280"/>
          </a:xfrm>
          <a:prstGeom prst="rect">
            <a:avLst/>
          </a:prstGeom>
          <a:ln w="0">
            <a:noFill/>
          </a:ln>
        </p:spPr>
      </p:pic>
      <p:sp>
        <p:nvSpPr>
          <p:cNvPr id="1559" name="Прямоугольник 1"/>
          <p:cNvSpPr/>
          <p:nvPr/>
        </p:nvSpPr>
        <p:spPr>
          <a:xfrm>
            <a:off x="3465360" y="61920"/>
            <a:ext cx="807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13-14 июня 2024 г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региональный этап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Всероссийского форума классных руководител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Уральского федерального окру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92040" y="4298760"/>
            <a:ext cx="115221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пуляризация проектов, мероприятий Всероссийского форума классных руководителей и успешных практик воспитательной работы классных руководителей общеобразовательных организаций и кураторов групп среднего профессионального образования Уральского федерального ок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Прямоугольник 4"/>
          <p:cNvSpPr/>
          <p:nvPr/>
        </p:nvSpPr>
        <p:spPr>
          <a:xfrm>
            <a:off x="-73080" y="117360"/>
            <a:ext cx="1132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13-14 июня 2024 г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региональный этап Всероссийского форума классных руководител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Уральского федерального окру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Прямоугольник 6"/>
          <p:cNvSpPr/>
          <p:nvPr/>
        </p:nvSpPr>
        <p:spPr>
          <a:xfrm>
            <a:off x="0" y="1531800"/>
            <a:ext cx="1212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торы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ое государственное автономное образовательно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реждение высшего образования «Государственный университет просвещения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рекция Всероссийского форума классных руководител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ственные за организацию мероприятия на региональном уровн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стерство образования и науки Челябинской облас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БУ ДПО «Челябинский институт развития образования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Прямоугольник 3"/>
          <p:cNvSpPr/>
          <p:nvPr/>
        </p:nvSpPr>
        <p:spPr>
          <a:xfrm>
            <a:off x="-136440" y="71280"/>
            <a:ext cx="113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13-14 июня 2024 г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региональный этап Всероссийского форума классных руководител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Times New Roman"/>
              </a:rPr>
              <a:t>Уральского федерального окру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4" name="Picture 2" descr="https://www.ecosociety.ru/wp-content/uploads/2019/01/IMG-20190130-WA0002.jpg"/>
          <p:cNvPicPr/>
          <p:nvPr/>
        </p:nvPicPr>
        <p:blipFill>
          <a:blip r:embed="rId1"/>
          <a:stretch/>
        </p:blipFill>
        <p:spPr>
          <a:xfrm>
            <a:off x="6986520" y="1353960"/>
            <a:ext cx="4667400" cy="4896000"/>
          </a:xfrm>
          <a:prstGeom prst="rect">
            <a:avLst/>
          </a:prstGeom>
          <a:ln w="0">
            <a:noFill/>
          </a:ln>
        </p:spPr>
      </p:pic>
      <p:sp>
        <p:nvSpPr>
          <p:cNvPr id="1565" name="Прямоугольник 4"/>
          <p:cNvSpPr/>
          <p:nvPr/>
        </p:nvSpPr>
        <p:spPr>
          <a:xfrm>
            <a:off x="662040" y="1432080"/>
            <a:ext cx="726588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участников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00 челове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 категория участнико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лассные руководители общеобразовательных организаций и кураторов групп организаций профессионального образовани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делегаций Уральского Федерального округ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ганская область – 50 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юменская область – 35 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рдловская область – 60 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анты-Мансийский АО (Югра) – 20 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мало-Ненецкий АО – 5 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ябинская область – 130 че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провед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ФГБОУ ВО «Южно-Уральский государственный гуманитарно-педагогический университет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Прямоугольник 4"/>
          <p:cNvSpPr/>
          <p:nvPr/>
        </p:nvSpPr>
        <p:spPr>
          <a:xfrm>
            <a:off x="-73080" y="117360"/>
            <a:ext cx="113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Arial"/>
                <a:ea typeface="Times New Roman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Arial"/>
                <a:ea typeface="Times New Roman"/>
              </a:rPr>
              <a:t>регионального этапа Всероссийского форума классных руководителе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Arial"/>
                <a:ea typeface="Times New Roman"/>
              </a:rPr>
              <a:t>Уральского федерального округ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567" name=""/>
          <p:cNvGraphicFramePr/>
          <p:nvPr/>
        </p:nvGraphicFramePr>
        <p:xfrm>
          <a:off x="1006560" y="1133640"/>
          <a:ext cx="9674280" cy="5462280"/>
        </p:xfrm>
        <a:graphic>
          <a:graphicData uri="http://schemas.openxmlformats.org/drawingml/2006/table">
            <a:tbl>
              <a:tblPr/>
              <a:tblGrid>
                <a:gridCol w="1211040"/>
                <a:gridCol w="6104160"/>
                <a:gridCol w="2359080"/>
              </a:tblGrid>
              <a:tr h="274680">
                <a:tc gridSpan="3"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ень 1 (13 июня 2024 года, четвер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роприят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о пр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>
                      <a:noFill/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 – 1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езд иногородних участник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гресс-отель «Малахит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0 – 1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истрация участников, получение раздаточного материа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лл 1 этаж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0 – 1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д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овые ЮУрГГП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0 – 1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ЕНАРНАЯ ЧА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ржественное открытие програм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ветственные слова, государственная политика в сфере образования, презентация регионального опыт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И УРОКА ДЛЯ КЛАСС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 – 15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рактивная лекц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я «Добро пожаловать, или классным руководителям вход разреше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комство с Сообществом Форума классных руководител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0 – 1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рактивная лекция «Вместе весело шагать, или непрерывное повышение профессионального мастерства классного руководителя».О возможностях для педагогов Росс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00 – 17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рактивная лекция «Скажи мне, кто твой учитель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я скажу – кто ты». О роли личности педагог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00 – 1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ж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гресс-отель «Малахит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0 – 2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НО-ДОСУГОВАЯ ПРОГРАМ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огласован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"/>
          <p:cNvGraphicFramePr/>
          <p:nvPr/>
        </p:nvGraphicFramePr>
        <p:xfrm>
          <a:off x="1096920" y="1252440"/>
          <a:ext cx="9610920" cy="5166000"/>
        </p:xfrm>
        <a:graphic>
          <a:graphicData uri="http://schemas.openxmlformats.org/drawingml/2006/table">
            <a:tbl>
              <a:tblPr/>
              <a:tblGrid>
                <a:gridCol w="1298520"/>
                <a:gridCol w="6685200"/>
                <a:gridCol w="1627200"/>
              </a:tblGrid>
              <a:tr h="274680">
                <a:tc gridSpan="3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ень 2 (14 июня 2024 года, пятниц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 – 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втра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гресс-отель «Малахит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 – 9.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ход к месту провед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0 - 12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ЕКТНАЯ СЕС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Мой класс – моя крепость: пять советов классному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ектирование плана работы классного руководителя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воспитательного потенциала классного руководства ка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обого вида педагогической 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0 - 13.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стер-класс для группы №1 «VK для педагогов страны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0 - 1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д для группы №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 rowSpan="7"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0 – 15.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АЯ ПЕРЕМЕНА Марафон практик классного руковод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кция 1. Гражданственность и патриотиз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титория 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кция 2. Ценность семьи, Год семь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титория 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кция 3. Трудовое воспит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титория 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кция 4. Экологическое воспит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титория 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кция 5. Наука и выбор професс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титория 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кция 6. Открытая те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0 - 17.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кция «С чего начинается Родина, или роль классного руководителя в патриотическом воспитани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39960" rIns="39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00 - 18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2880">
                      <a:solidFill>
                        <a:srgbClr val="5b9bd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УСКН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одведение итогов регионального этапа ФКР, викторин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УрГГП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ый з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9" name="Прямоугольник 7"/>
          <p:cNvSpPr/>
          <p:nvPr/>
        </p:nvSpPr>
        <p:spPr>
          <a:xfrm>
            <a:off x="-73080" y="117360"/>
            <a:ext cx="113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Arial"/>
                <a:ea typeface="Times New Roman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Arial"/>
                <a:ea typeface="Times New Roman"/>
              </a:rPr>
              <a:t>регионального этапа Всероссийского форума классных руководителе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4796"/>
                </a:solidFill>
                <a:latin typeface="Arial"/>
                <a:ea typeface="Times New Roman"/>
              </a:rPr>
              <a:t>Уральского федерального округ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6400" y="111240"/>
            <a:ext cx="10373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4796"/>
                </a:solidFill>
                <a:latin typeface="Arial"/>
                <a:ea typeface="Arial"/>
              </a:rPr>
              <a:t>Регламент </a:t>
            </a:r>
            <a:br>
              <a:rPr sz="2000"/>
            </a:br>
            <a:r>
              <a:rPr b="0" lang="ru-RU" sz="2000" spc="-1" strike="noStrike">
                <a:solidFill>
                  <a:srgbClr val="264796"/>
                </a:solidFill>
                <a:latin typeface="Arial"/>
                <a:ea typeface="Arial"/>
              </a:rPr>
              <a:t>сопровождения проведения регионального этапа Всероссийского форума классных руководителей Уральского федерального округ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536400" y="1227240"/>
          <a:ext cx="11338200" cy="5440320"/>
        </p:xfrm>
        <a:graphic>
          <a:graphicData uri="http://schemas.openxmlformats.org/drawingml/2006/table">
            <a:tbl>
              <a:tblPr/>
              <a:tblGrid>
                <a:gridCol w="392400"/>
                <a:gridCol w="7197480"/>
                <a:gridCol w="1389240"/>
                <a:gridCol w="2359080"/>
              </a:tblGrid>
              <a:tr h="227160"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gridSpan="4"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ап подготов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проекта приказа Министерства образования и науки Челябинской области об организационно-методическом сопровождении регионального этапа фор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05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ранова Ю.Ю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сляков А.В., Журба Н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и рассылка писем ГБУ ДПО «ЧИРО» об представлении успешных практик воспитательной деятельности классных руководителей (кураторов) участниками регионального этапа форума в программе Марафона практик классного рук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5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сляков А.В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ба Н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лтанова М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, согласование и утверждение сметы проведения регионального этапа форума (в части ответственности ГБУ ДПО «ЧИРО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29.05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енюгина Н.В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ешко А.М., Котова В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информационной памятки-инструкции (схемы передвижения и проезда, контакты) для участников регионального этапа фору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5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орин К.С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яз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и размещение информации о программе регионального этапа форума (пресс-релизы и др.) на офиц. ресурсах ГБУ ДПО «ЧИРО» и МОиН Чел. об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5.2024 – 17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олина С.Г., Задорин К.С./ Чуяшенко М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рабочих материалов для презентации доклада Министра образования и науки Челябинской области по представлению опыта развития региональной системы организации воспитания обучающихся на региональном этапе фору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5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сляков А.В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ба Н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а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организационно-методического сопровождения подготовки участников регионального этапа форума к представлению успешных практик воспитательной деятельности классных руководителей (куратор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05.2024 – 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ба Н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а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заседаний оргкомитета рабоче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отдельному граф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рабас А.А., Баранова Ю.Ю./ Кисляков А.В.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материально-технического оснащения мероприятия и организация доставки необходимого оборудования, раздаточного материала и бутилированной в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нов Е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6400" y="111240"/>
            <a:ext cx="10373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4796"/>
                </a:solidFill>
                <a:latin typeface="Arial"/>
                <a:ea typeface="Arial"/>
              </a:rPr>
              <a:t>Регламент </a:t>
            </a:r>
            <a:br>
              <a:rPr sz="2000"/>
            </a:br>
            <a:r>
              <a:rPr b="0" lang="ru-RU" sz="2000" spc="-1" strike="noStrike">
                <a:solidFill>
                  <a:srgbClr val="264796"/>
                </a:solidFill>
                <a:latin typeface="Arial"/>
                <a:ea typeface="Arial"/>
              </a:rPr>
              <a:t>сопровождения проведения регионального этапа Всероссийского форума классных руководителей Уральского федерального округ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750960" y="1327320"/>
          <a:ext cx="10423440" cy="4986000"/>
        </p:xfrm>
        <a:graphic>
          <a:graphicData uri="http://schemas.openxmlformats.org/drawingml/2006/table">
            <a:tbl>
              <a:tblPr/>
              <a:tblGrid>
                <a:gridCol w="503280"/>
                <a:gridCol w="5248080"/>
                <a:gridCol w="1225800"/>
                <a:gridCol w="3446280"/>
              </a:tblGrid>
              <a:tr h="227160"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0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1368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gridSpan="4"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ап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12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провождение (кураторство) делегаций – участников регионального этапа форума и организация группы волонтеров - активистов Форума классных руководителей от Челябин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аков А.В., Горенко Д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орин К.С., Полтавская Е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язанова А.Ю., Жирякова О.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гоконь Е.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регистрации участников регионального этапа фор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орин К.С./ Жирякова О.Ю.Горенко Д.А., Шушарина Г.С.,Идиатуллина Л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я деятельности группы волонтеров от ЮУрГГ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а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деятельности штаба организаторов регионального этапа форума и организация взаимодействия с ответственными от ЮУрГГ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сля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ба Н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онное сопровождение деятельности площадки в актовом зале  ЮУрГГ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а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онное и методическое сопровождение 6 площадок-секций Марафона практик классного рук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сляков А.В., Журба Н.Н., Щербаков А.В., Задорин К.С.Жирякова О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ническое сопровождение программы мероприятия (трансляция в ВК Форума классных руководителей) и взаимодействие с техническими специалистами ЮУрГГ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ровых И.С.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фотосъемки на региональном этапе фору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6.2024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6.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3680" tIns="10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аков А.В./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уяшенко М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12240" marR="1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8T05:17:39Z</dcterms:created>
  <dc:creator>Старцун Мария Сергеевна</dc:creator>
  <dc:description/>
  <dc:language>en-US</dc:language>
  <cp:lastModifiedBy>Борченко Ирина Дмитриевна</cp:lastModifiedBy>
  <dcterms:modified xsi:type="dcterms:W3CDTF">2024-05-28T03:59:47Z</dcterms:modified>
  <cp:revision>98</cp:revision>
  <dc:subject/>
  <dc:title>Презентация PowerPoint</dc:title>
</cp:coreProperties>
</file>